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AD87E-B7AC-4AFD-BFBD-41E091229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F2698-3218-4609-853C-B42194F1C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58103-6319-4788-B830-019761D1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A7CCC-42C4-4249-8E22-5909B5819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4FEE9-1C99-4644-A9F4-69EE62542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1548-BFEB-4E3A-B9F0-E40512E37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ED8AA-8529-4FDA-BDE3-FDB310F4C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8196-F43C-4779-B0C3-E29F76921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2B25E-2954-47DF-B06F-34EA6214B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2E258-A229-4443-9AA7-E50711FBD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2E22E-8AC7-4F44-BBB0-641DBDB85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F62B-881D-4268-B5CC-79AF2564A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48EC-F831-40E2-AC46-696B22642D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6FCE2-7845-4CB2-8529-7F6F9805E7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90A19-116F-4F00-80FE-13EAF5FBD5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BE481-2C14-4F37-9FC4-D231BF356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7BF5F-0AB6-4BEF-B1EC-DFFEFAC175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1BA6C-49EB-4E13-AE23-12E12CEC2E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4D677-1BA8-43BE-8B23-FE09AB27E4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53A49-A50D-4234-9F32-EF45A05E0A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580A4-E52A-43FF-8FCD-A42BB9B7D7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C5267-EC01-4E22-9BCA-287EA3B67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E443-F509-45C7-A8C2-7C2F548BD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7968-7110-4021-A89A-A81BEF712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D6944-5C9C-485E-AEA2-6F17E42A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14AA8-CFE5-4EA5-8C3E-34B67A4B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92BDA-E3AA-4175-816C-FE80E74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3F48-5744-42F8-9CB6-0A08100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A0B17-DEDF-40D0-B203-69FE5C4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25235-36F6-4183-BBF4-2CEB7F34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0D1F-388A-4B19-BE0C-CC902BD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C2E0-0A1A-495F-B251-E20304E5C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63AAE-A991-43A4-A8B2-B3208EB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01F1B-E2D0-44DA-8982-07764A48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70C28-2181-46CE-AE64-F5247473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CB896-6D1F-40CB-83B9-6C838E4D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4E96-B442-4347-801C-AEB57CDD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9924-5E03-40D5-A76E-277C03D14B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0C01-3103-4DAE-B20F-F01E485EA9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6E17F-C9B8-4F2E-8403-4A1D86CC14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6E415-E458-4931-B37A-8923FF4BC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C6C7-F9D1-449A-8A25-5BD9E6CFD0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94DD-8878-4DEF-BDBC-8D7D6E95B5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3919-8D5E-4E90-B22F-A7A0A956E4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CD52-578F-477C-9761-F1D596318E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CEA0-1ACE-41C5-A401-C1E0E4D84D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9AF96-7EA9-48E5-91D5-C736817AA6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40FC7-EEE7-4DE7-A6A8-8BB1AAFDA1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7B8CC-C15B-4062-A276-872131E164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EBE5B-21F8-479C-9A4D-322F813EC4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A658F-30DF-4E7D-AE4E-926C859029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F139-5FED-465C-9CDB-54A1156C2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2493-3FC5-4A0D-B98A-DE13C7FDFD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61C-7AAC-4D91-84FE-A444FF98DE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9E1-1A77-48AD-8FBD-DE05F64808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C08-5A9B-43FF-984A-C44FC2F4E2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C040-8408-493C-A576-C3A53320CB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899F-130C-4871-8EAA-52D1389EDE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CBA-B39E-454F-81DD-F9BBAA0AFA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6FBB-E72F-4E24-BD74-59E80541CE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6716-E338-4055-97BD-EA06F4D15E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31A6-DC1B-4A30-8629-8C20E5A2A1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0BE-3490-41B1-BF6F-89DF8A331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2E3-3F77-4112-83EC-C9B0F1E0A2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3C1-874C-4CDD-898E-8CA1D20ABB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49452-39CB-45E4-B149-A23ED73376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42CBC-2203-4C41-A021-5D82B331D6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11A71-697B-47DA-B86C-29F3025A30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AFBB6-D4CA-402B-974E-DAC94C191A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E0B23-6EB7-4A77-99FF-1CEF8CC64D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30ACB-E503-46A3-81CD-2A0E46A8BD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FB121-25EE-4CD8-A442-17C55FA0C1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D3E4C-8D5C-42EF-88D3-65B73D7766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179B6-2BE8-472C-B449-2B5400F57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26BD-D761-4BE2-923B-4395F869D7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CB292-0EBB-4B68-91D5-9DDFB900D2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B3901-6F63-469E-8C90-6E6C9E0DC9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DAC1C-AA0C-4DB8-AA56-BD4A764250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9E2F4-1A42-4844-8394-D071C0807A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632BF-5208-47BF-973C-5FD24261EF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95185-05B6-4056-A1D0-FC0D831EA7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188E0-6282-4EB6-BC8F-8DFBF1E0CB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353C6-B8D5-4DC4-8CB3-A8C48B50D6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4E72A-7B2E-4C3F-A10B-C4DE391AE9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60862-0921-41FE-AE24-3BA6EF00D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E3B7-FF75-483B-8355-23060D476A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42BD2-F0F1-4236-BCBD-A6E37DBE13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D72FD-279B-4944-96E7-6185B5701D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328D9-C80A-4BE8-A914-EE03AE4952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90CA1-33EA-4B13-A117-6644141078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B9272-F98A-4DBA-B72C-3629C287E7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5409-1AC6-4B9F-9C8B-AD0AD80C85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CF3C2-151F-48E6-909D-DBAC22BAD8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502A-ABCC-406E-B9EA-81FFAA3F38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9D20-3936-4DA3-8901-9DE4F35092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4C987-19AC-4A70-B74B-A4CE4A89D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8775-9CCE-4EAA-B002-ED77B52A2C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40DE-BDF6-415C-BA28-3C73D3367D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D03E-F1E1-429A-B7C8-3A91CC04D8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DED7-2EA6-483B-93D5-FC319788DC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9A5A-AC73-4161-AB31-27D5D85D11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0E20-C909-43E5-9AE4-43A9996C04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D32F-F077-4D16-86EA-EF73929565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4E47-B58D-407D-A04E-282F10B3E8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5F1C0-CDB1-4E90-8565-50FE92AA83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35F98-9A16-4383-B40D-4939D588A3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15F3C-FBC8-4767-9D01-3534AEE1D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606E8-F7F6-48F6-BD79-1A98743CA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01273-59C3-40A1-B738-2FBE694BF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600EF-54D8-4EF7-AF47-97D5E82BE73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9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5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051FC-4A1A-4225-955B-450152E89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C43AF-2253-4716-8A4A-A18D5BBBF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91246-304B-45B6-9707-6523CFD7F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84B33-B990-4D54-923C-3318A77BCB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4DF4B-AA1A-4F8E-95A7-07B6ED163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4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35173-6085-4937-B59E-9AA057B00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0200" y="3358800"/>
            <a:ext cx="81536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ualization of Simulated White Dwar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isions as a Primary Channel f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 Ia Supernovae</a:t>
            </a:r>
            <a:endParaRPr b="1" lang="en-US" sz="28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4371840" y="1857240"/>
            <a:ext cx="34182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4371840" y="3751200"/>
            <a:ext cx="3419640" cy="141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966960" y="3755880"/>
            <a:ext cx="3319200" cy="1865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"/>
          <p:cNvPicPr/>
          <p:nvPr/>
        </p:nvPicPr>
        <p:blipFill>
          <a:blip r:embed="rId4"/>
          <a:stretch/>
        </p:blipFill>
        <p:spPr>
          <a:xfrm>
            <a:off x="966960" y="1839960"/>
            <a:ext cx="3319200" cy="18684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mperature and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C0DB0-77B0-46D9-8981-CB1A9E3903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ow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 within temperature fiel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inal XSEDE16 Visualization Showcas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87433-142C-49CC-8DE1-AA983385E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969840" y="1839960"/>
            <a:ext cx="6848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907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254061"/>
                </a:solidFill>
                <a:latin typeface="Calibri"/>
                <a:ea typeface="Arial"/>
              </a:rPr>
              <a:t>PI: Doron Kushnir, Institute for Advanced Study, Weizmann Institute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254061"/>
                </a:solidFill>
                <a:latin typeface="Calibri"/>
                <a:ea typeface="Arial"/>
              </a:rPr>
              <a:t>ECSS: David Bock, National Center for Supercomputing Applicatio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ype Ia supernovae created by thermonuclear explosions of white dwarf stars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What causes the thermonuclear explosion remains an open question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Direct collisions of white dwarf stars at extreme velocities could be the answer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Ni (nickel) distribution is an observed characteristic of Type Ia supernovae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Conclusions can be made if collisions achieve an ignition and reproduce </a:t>
            </a:r>
            <a:r>
              <a:rPr b="0" lang="en-US" sz="18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1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AC4DC-DAB0-4917-A1F0-DDE1ACEBD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imulation Data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520" y="9064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adaptive mesh refinement, FLASH HDF5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arying number of 16^3 data blocks (~5 to ~140,000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calar variables: density, temperature, </a:t>
            </a:r>
            <a:r>
              <a:rPr b="0" lang="en-US" sz="2400" spc="-1" strike="noStrike" baseline="30000">
                <a:solidFill>
                  <a:srgbClr val="254061"/>
                </a:solidFill>
                <a:latin typeface="Calibri"/>
              </a:rPr>
              <a:t>56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i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10037-32DC-41C5-924B-FBEFE9DC4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http://lantern.ncsa.illinois.edu/Vis/Kushnir/html/fig1.jpg"/>
          <p:cNvPicPr/>
          <p:nvPr/>
        </p:nvPicPr>
        <p:blipFill>
          <a:blip r:embed="rId1"/>
          <a:stretch/>
        </p:blipFill>
        <p:spPr>
          <a:xfrm>
            <a:off x="1003320" y="2481120"/>
            <a:ext cx="3657600" cy="2730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http://lantern.ncsa.illinois.edu/Vis/Kushnir/html/fig1a.jpg"/>
          <p:cNvPicPr/>
          <p:nvPr/>
        </p:nvPicPr>
        <p:blipFill>
          <a:blip r:embed="rId2"/>
          <a:stretch/>
        </p:blipFill>
        <p:spPr>
          <a:xfrm>
            <a:off x="4737240" y="2481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imulation Data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9064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Write converter to custom system format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move blocks containing only minimum data valu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 from cell-centered to node-center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171DC-BB9F-48B4-A97F-131195923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lantern.ncsa.illinois.edu/Vis/Kushnir/html/fig3.jpg"/>
          <p:cNvPicPr/>
          <p:nvPr/>
        </p:nvPicPr>
        <p:blipFill>
          <a:blip r:embed="rId1"/>
          <a:stretch/>
        </p:blipFill>
        <p:spPr>
          <a:xfrm>
            <a:off x="1003320" y="238140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3520" y="906480"/>
            <a:ext cx="82296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2D color-mapped slice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lice plane through middle of AMR boundary gri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nsity, temperatur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1531-53C9-4AE8-9B0D-49697E88A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http://lantern.ncsa.illinois.edu/Vis/Kushnir/html/sunsetRamp3.jpg"/>
          <p:cNvPicPr/>
          <p:nvPr/>
        </p:nvPicPr>
        <p:blipFill>
          <a:blip r:embed="rId1"/>
          <a:stretch/>
        </p:blipFill>
        <p:spPr>
          <a:xfrm>
            <a:off x="4619520" y="2384280"/>
            <a:ext cx="1828800" cy="209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4" descr="http://lantern.ncsa.illinois.edu/Vis/Kushnir/html/rainbow.jpg"/>
          <p:cNvPicPr/>
          <p:nvPr/>
        </p:nvPicPr>
        <p:blipFill>
          <a:blip r:embed="rId2"/>
          <a:stretch/>
        </p:blipFill>
        <p:spPr>
          <a:xfrm>
            <a:off x="998640" y="2384280"/>
            <a:ext cx="1828800" cy="20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6" descr="http://lantern.ncsa.illinois.edu/Vis/Kushnir/html/s4.jpg"/>
          <p:cNvPicPr/>
          <p:nvPr/>
        </p:nvPicPr>
        <p:blipFill>
          <a:blip r:embed="rId3"/>
          <a:stretch/>
        </p:blipFill>
        <p:spPr>
          <a:xfrm>
            <a:off x="998640" y="2631960"/>
            <a:ext cx="3429000" cy="1928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http://lantern.ncsa.illinois.edu/Vis/Kushnir/html/s4_2a.0029.jpg"/>
          <p:cNvPicPr/>
          <p:nvPr/>
        </p:nvPicPr>
        <p:blipFill>
          <a:blip r:embed="rId4"/>
          <a:stretch/>
        </p:blipFill>
        <p:spPr>
          <a:xfrm>
            <a:off x="4619520" y="263376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pplying different transfer curves, different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B3EB9-545B-4E25-882C-846B5898C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http://lantern.ncsa.illinois.edu/Vis/Kushnir/html/t10_cmap.jpg"/>
          <p:cNvPicPr/>
          <p:nvPr/>
        </p:nvPicPr>
        <p:blipFill>
          <a:blip r:embed="rId1"/>
          <a:stretch/>
        </p:blipFill>
        <p:spPr>
          <a:xfrm>
            <a:off x="4371840" y="1854360"/>
            <a:ext cx="3418200" cy="1415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http://lantern.ncsa.illinois.edu/Vis/Kushnir/html/t10.0032.jpg"/>
          <p:cNvPicPr/>
          <p:nvPr/>
        </p:nvPicPr>
        <p:blipFill>
          <a:blip r:embed="rId2"/>
          <a:stretch/>
        </p:blipFill>
        <p:spPr>
          <a:xfrm>
            <a:off x="966960" y="1852560"/>
            <a:ext cx="3298680" cy="1855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://lantern.ncsa.illinois.edu/Vis/Kushnir/html/t10_2_cmap.jpg"/>
          <p:cNvPicPr/>
          <p:nvPr/>
        </p:nvPicPr>
        <p:blipFill>
          <a:blip r:embed="rId3"/>
          <a:stretch/>
        </p:blipFill>
        <p:spPr>
          <a:xfrm>
            <a:off x="4371840" y="3755880"/>
            <a:ext cx="3419640" cy="1417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http://lantern.ncsa.illinois.edu/Vis/Kushnir/html/t10_2.0032.jpg"/>
          <p:cNvPicPr/>
          <p:nvPr/>
        </p:nvPicPr>
        <p:blipFill>
          <a:blip r:embed="rId4"/>
          <a:stretch/>
        </p:blipFill>
        <p:spPr>
          <a:xfrm>
            <a:off x="966960" y="3747960"/>
            <a:ext cx="3298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ttempt to show both outer and inne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E6FC1-9DC5-41A4-A2E4-E3B7DB9F5B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lantern.ncsa.illinois.edu/Vis/Kushnir/html/t5_1_cmap2.jpg"/>
          <p:cNvPicPr/>
          <p:nvPr/>
        </p:nvPicPr>
        <p:blipFill>
          <a:blip r:embed="rId1"/>
          <a:stretch/>
        </p:blipFill>
        <p:spPr>
          <a:xfrm>
            <a:off x="4381560" y="1839960"/>
            <a:ext cx="3419280" cy="141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lantern.ncsa.illinois.edu/Vis/Kushnir/html/t5_1.0000.jpg"/>
          <p:cNvPicPr/>
          <p:nvPr/>
        </p:nvPicPr>
        <p:blipFill>
          <a:blip r:embed="rId2"/>
          <a:stretch/>
        </p:blipFill>
        <p:spPr>
          <a:xfrm>
            <a:off x="966960" y="1839960"/>
            <a:ext cx="3308040" cy="1860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lantern.ncsa.illinois.edu/Vis/Kushnir/html/t9_1_cmap.jpg"/>
          <p:cNvPicPr/>
          <p:nvPr/>
        </p:nvPicPr>
        <p:blipFill>
          <a:blip r:embed="rId3"/>
          <a:stretch/>
        </p:blipFill>
        <p:spPr>
          <a:xfrm>
            <a:off x="4381560" y="3753000"/>
            <a:ext cx="3419280" cy="1417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http://lantern.ncsa.illinois.edu/Vis/Kushnir/html/t9_1.0032.jpg"/>
          <p:cNvPicPr/>
          <p:nvPr/>
        </p:nvPicPr>
        <p:blipFill>
          <a:blip r:embed="rId4"/>
          <a:stretch/>
        </p:blipFill>
        <p:spPr>
          <a:xfrm>
            <a:off x="966960" y="3753000"/>
            <a:ext cx="3308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terior view of density, demonstrate collision are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46D0A-1F6F-4A40-BEF4-65017432B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lantern.ncsa.illinois.edu/Vis/Kushnir/html/t5_1f3h.0000.jpg"/>
          <p:cNvPicPr/>
          <p:nvPr/>
        </p:nvPicPr>
        <p:blipFill>
          <a:blip r:embed="rId1"/>
          <a:stretch/>
        </p:blipFill>
        <p:spPr>
          <a:xfrm>
            <a:off x="998640" y="1839960"/>
            <a:ext cx="58179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1"/>
          <a:stretch/>
        </p:blipFill>
        <p:spPr>
          <a:xfrm>
            <a:off x="998640" y="1839960"/>
            <a:ext cx="6338880" cy="32194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520" y="9061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3D volume rendering animation tes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terior view of density, demonstrate collision are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021DA-FD1F-4B58-8F57-FA8B06218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</dc:creator>
  <dc:description/>
  <dc:language>en-US</dc:language>
  <cp:lastModifiedBy>David</cp:lastModifiedBy>
  <dcterms:modified xsi:type="dcterms:W3CDTF">2017-06-20T13:46:07Z</dcterms:modified>
  <cp:revision>239</cp:revision>
  <dc:subject>Visualization</dc:subject>
  <dc:title>Visualization of simulated white dwarf collisions</dc:title>
</cp:coreProperties>
</file>