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79537-56A5-465B-9788-2A5B23D9CE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20056-B26D-43C6-B68C-503D39572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01BF8-801B-4704-925E-B44E43AC6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DD9E0-F1EA-441E-BB51-076A6B495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159FA-E00E-43AA-929B-4BA1D6E90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31E9A-6876-4F46-9D9A-C90E5CE1A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B9E49-52D8-4495-95E7-17B6A7A2D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11D65-2BEB-4AC4-B09C-1331363AC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5DED9-1A79-41B3-9E20-60A84601D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3A0D2-ECFE-4CE4-9C1B-571CEBE9A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77F5A-AABE-4D46-8423-F2A371CE2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98FC-0812-435A-A082-543DF62D2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3363-CA50-47A5-8C01-A0534005DE3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B613F-112B-4D78-91F2-8F857B9BE2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8EF79C-B0E1-4D04-A6DF-C41B2EFE7B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A355E-4CF6-4C11-94D6-7465C0D1D1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45140-4B1C-4922-AADB-56B23647DEE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687C6-3F21-402B-81B4-BE2F10F9C91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ED13B-5946-419D-95C1-9A336495568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D3EB1-361D-4B2F-9DE3-B4F08839C18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3E59A-9DDA-425E-877E-4627B4C1D9B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10912-C54A-4958-B0E8-DDE7E2603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419A-9AE3-475D-BFE7-10EDB5409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3B08-5214-41FA-99D2-8852534C6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367FE-56D9-4DD7-8D81-D423B1F6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4FA7B-4EF3-4E15-8C63-A295CB1F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15F2C-9E69-4E55-9672-B41BA179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CE026-8B71-41A4-BAB9-42AF5119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0431B-2571-41C8-8DCD-7F4A7BAF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9104C-5AFA-4077-9878-57028AB0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40810-8A92-49F5-9532-D7A2CF69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75D0-73DA-4DB4-BA7A-4283BBD95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1F46D-FDB5-4EEB-A774-345112F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DAC14-825E-4EB0-B4C1-92D439A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1A839-51A0-453A-8299-74D6FEF2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64423-1E22-41D9-807A-5AF8B83B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70A8D-D7F2-4F31-80E8-E63B75FC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4D53-E55D-4112-AC6F-45FC805CE8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9AA5D-1F8F-44AC-9848-9095296D9D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30D47-4E9A-49FA-93AF-518E3AFA8E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6B636-A469-4BA4-A9A3-92E1788F3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3617-9B99-469E-9FDD-171CED7F84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D7974-EBC6-4F48-B335-16F528FE79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80A5E-F42F-4D13-9100-432D687251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83C7E-126C-4F06-9355-96AAFA088C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F2B75-36B0-41CD-9D0F-A058CBD553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D181A-A084-4526-9245-438418DDB1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3ED0B-9266-467B-B26F-224B65C006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8F5A5-5821-4893-AA5F-1A0675BC5C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ED36B-5667-457D-9624-3F2FDF1C63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02F54-6745-461D-8CDF-72FF13CC079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5525-BCFC-477C-8955-35BA21587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1279-AE52-40DD-8CF6-8C102D8613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71CF-442A-42E0-A66F-9D2493F39A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5CC8-DABC-4D28-BC04-2A0DF70CA9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9D27-4E4B-482D-8C5F-F96FAD5433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BA4E-B78F-4B9A-A8C9-2635D46E918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A53C-E009-408C-B866-62DE507480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9A40-A859-44C6-8F99-DFE6FA7DE3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DF59-FE20-43B6-9848-61CBB386E8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93A7-338D-49D8-97B9-328F53B915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58B2-344B-4E0D-A4AE-7D1B02A15D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CDF2-9BA7-4DCC-9F8D-45F46D10E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0B0D-CDFA-419D-ADD1-A1CFE88766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4F97-70F0-4243-B7DF-20DF7521365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ED9A7-1F2B-41BB-8E52-3AF9A796260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78E90-E411-4434-A1E5-19FB32EA16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9768B-F208-49D6-8E30-3406BDC066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C545B0-19E2-407D-8860-BB05648961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96EAD-8D8C-48ED-A79F-119AA1D1D8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82A84-1E06-4EA2-B20F-93A2D8452B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A053E-5716-4114-84CE-5C9C33BC28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6D922-B5A1-4929-92A7-DC0E9E0879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C4E60-3DDC-4BD7-8416-B9C4DFD16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52AD-95A8-4338-A449-087C3950A3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271D2-21E1-4376-A278-138C9288681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D2D884-DA29-4993-B087-CEF7CC041FC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9CEEF-025A-49C4-87A2-37FD4939E5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6B265-DF7D-4128-8100-D18AB2E4FD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07221-D6BD-47FA-8D70-9AC4D079ED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17C6B-8857-4344-A73E-5D67241C8CD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6D159-3713-42A3-B649-BCA2AD19D0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16AB1-7D09-442F-88C8-185E164ADEF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90571-0E51-4A5D-9B4E-CD5CA1B5DDB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DA816-B235-426F-AC9E-AE8B84177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CEB2-CFCD-47BA-9CF1-B60930B6B3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A510E-D8A3-4A09-8EC6-A5B3A3B296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B51E8-FB35-40AF-9013-BE1FE9E2275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80413-27F8-4752-B566-AE13569F86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520C6-0E87-4D61-9A6E-10F81D40BA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EC8DF-40C2-4B35-AD90-1054C82A76A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86DB-C3DF-40FE-BF78-B3173890927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7057-CDE4-487A-A055-6BEE6E95F7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3EAD-25E4-428E-A8CC-0722D15CF47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0E07-6B28-49BD-B987-83C0E10F5E8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96A8-A13E-4F2B-A4B8-D3A9340A9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6240-97FC-4DD1-BA85-55BFDF7D6A5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6E36-3760-4DB7-826A-5E85CDA1E1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2078-2D92-4AF8-993A-D64D73B997B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E5A9-56FD-4826-88EA-C32242C8B2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7642-A7DF-44D3-BC70-A95EBD19CB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5FBE-F984-452C-A149-B19BE6BFE32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D423-C245-4931-9B4D-22DC56A42E2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B6F3-E729-4001-BB38-DF372B9B0B0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A224F2-E493-40D9-A556-1D9546B804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B9120-CFB8-4016-BB43-B61564CADC0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6A1CC-4FF5-4D36-A5A4-B43B1A393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F7E14-3E49-413B-A678-FCEC901A91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9C2FD-1A18-45AC-9BDA-C77C2C57D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E1F00-B860-4B66-A0E2-76E0FECE031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30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5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B4339-9A0D-4FEB-938B-99E7621D3E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23AAB-77C4-46DA-A90C-1C361F048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F4B57-DC9D-4FA7-8AA6-EA03043178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AD75B-EB8B-4CA9-BB60-DCBA4444A4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B5AF9-4742-4433-B5C0-595D9B2A5C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1B949-6CEC-4005-9219-C37EB71CAD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20200" y="3358800"/>
            <a:ext cx="81536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ualization of Simulated White Dwar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isions as a Primary Channel f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Ia Supernovae</a:t>
            </a:r>
            <a:endParaRPr b="1" lang="en-US" sz="28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4371840" y="1857240"/>
            <a:ext cx="34182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4371840" y="3751200"/>
            <a:ext cx="3419640" cy="141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3"/>
          <a:stretch/>
        </p:blipFill>
        <p:spPr>
          <a:xfrm>
            <a:off x="966960" y="3755880"/>
            <a:ext cx="3319200" cy="1865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" descr=""/>
          <p:cNvPicPr/>
          <p:nvPr/>
        </p:nvPicPr>
        <p:blipFill>
          <a:blip r:embed="rId4"/>
          <a:stretch/>
        </p:blipFill>
        <p:spPr>
          <a:xfrm>
            <a:off x="966960" y="1839960"/>
            <a:ext cx="3319200" cy="18684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mperature and </a:t>
            </a:r>
            <a:r>
              <a:rPr b="0" lang="en-US" sz="24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i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47659-B809-4A74-AE53-CA002B5DD7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ow </a:t>
            </a:r>
            <a:r>
              <a:rPr b="0" lang="en-US" sz="24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i within temperature fiel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inal XSEDE16 Visualization Showcas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70ACD-35B2-4463-880A-553D5632F3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1"/>
          <a:stretch/>
        </p:blipFill>
        <p:spPr>
          <a:xfrm>
            <a:off x="969840" y="1839960"/>
            <a:ext cx="6848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9072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254061"/>
                </a:solidFill>
                <a:latin typeface="Calibri"/>
                <a:ea typeface="Arial"/>
              </a:rPr>
              <a:t>PI: Doron Kushnir, Institute for Advanced Study, Weizmann Institute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254061"/>
                </a:solidFill>
                <a:latin typeface="Calibri"/>
                <a:ea typeface="Arial"/>
              </a:rPr>
              <a:t>ECSS: David Bock, National Center for Supercomputing Applicatio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Type Ia supernovae created by thermonuclear explosions of white dwarf stars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What causes the thermonuclear explosion remains an open question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Direct collisions of white dwarf stars at extreme velocities could be the answer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Ni (nickel) distribution is an observed characteristic of Type Ia supernovae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Conclusions can be made if collisions achieve an ignition and reproduce </a:t>
            </a:r>
            <a:r>
              <a:rPr b="0" lang="en-US" sz="18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Ni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E6A2F-BB64-4B19-B914-D20ED73469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imulation Data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3520" y="9064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adaptive mesh refinement, FLASH HDF5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arying number of 16^3 data blocks (~5 to ~140,000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calar variables: density, temperature, </a:t>
            </a:r>
            <a:r>
              <a:rPr b="0" lang="en-US" sz="24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i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78267-6EA8-4F85-B8C9-56ED5C563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http://lantern.ncsa.illinois.edu/Vis/Kushnir/html/fig1.jpg"/>
          <p:cNvPicPr/>
          <p:nvPr/>
        </p:nvPicPr>
        <p:blipFill>
          <a:blip r:embed="rId1"/>
          <a:stretch/>
        </p:blipFill>
        <p:spPr>
          <a:xfrm>
            <a:off x="1003320" y="2481120"/>
            <a:ext cx="3657600" cy="2730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http://lantern.ncsa.illinois.edu/Vis/Kushnir/html/fig1a.jpg"/>
          <p:cNvPicPr/>
          <p:nvPr/>
        </p:nvPicPr>
        <p:blipFill>
          <a:blip r:embed="rId2"/>
          <a:stretch/>
        </p:blipFill>
        <p:spPr>
          <a:xfrm>
            <a:off x="4737240" y="2481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imulation Data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9064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Write converter to custom system format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move blocks containing only minimum data valu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 from cell-centered to node-center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88ED7-B955-424C-A865-502C4837EE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http://lantern.ncsa.illinois.edu/Vis/Kushnir/html/fig3.jpg"/>
          <p:cNvPicPr/>
          <p:nvPr/>
        </p:nvPicPr>
        <p:blipFill>
          <a:blip r:embed="rId1"/>
          <a:stretch/>
        </p:blipFill>
        <p:spPr>
          <a:xfrm>
            <a:off x="1003320" y="238140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3520" y="90648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2D color-mapped slice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lice plane through middle of AMR boundary gri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Density, temperatur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18971-A650-4FB9-A9C2-C681E1DA46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http://lantern.ncsa.illinois.edu/Vis/Kushnir/html/sunsetRamp3.jpg"/>
          <p:cNvPicPr/>
          <p:nvPr/>
        </p:nvPicPr>
        <p:blipFill>
          <a:blip r:embed="rId1"/>
          <a:stretch/>
        </p:blipFill>
        <p:spPr>
          <a:xfrm>
            <a:off x="4619520" y="2384280"/>
            <a:ext cx="1828800" cy="209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4" descr="http://lantern.ncsa.illinois.edu/Vis/Kushnir/html/rainbow.jpg"/>
          <p:cNvPicPr/>
          <p:nvPr/>
        </p:nvPicPr>
        <p:blipFill>
          <a:blip r:embed="rId2"/>
          <a:stretch/>
        </p:blipFill>
        <p:spPr>
          <a:xfrm>
            <a:off x="998640" y="2384280"/>
            <a:ext cx="1828800" cy="209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6" descr="http://lantern.ncsa.illinois.edu/Vis/Kushnir/html/s4.jpg"/>
          <p:cNvPicPr/>
          <p:nvPr/>
        </p:nvPicPr>
        <p:blipFill>
          <a:blip r:embed="rId3"/>
          <a:stretch/>
        </p:blipFill>
        <p:spPr>
          <a:xfrm>
            <a:off x="998640" y="2631960"/>
            <a:ext cx="3429000" cy="1928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http://lantern.ncsa.illinois.edu/Vis/Kushnir/html/s4_2a.0029.jpg"/>
          <p:cNvPicPr/>
          <p:nvPr/>
        </p:nvPicPr>
        <p:blipFill>
          <a:blip r:embed="rId4"/>
          <a:stretch/>
        </p:blipFill>
        <p:spPr>
          <a:xfrm>
            <a:off x="4619520" y="2633760"/>
            <a:ext cx="3429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pplying different transfer curves, different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18BFC-C5EE-4763-989F-AD87BE5C03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http://lantern.ncsa.illinois.edu/Vis/Kushnir/html/t10_cmap.jpg"/>
          <p:cNvPicPr/>
          <p:nvPr/>
        </p:nvPicPr>
        <p:blipFill>
          <a:blip r:embed="rId1"/>
          <a:stretch/>
        </p:blipFill>
        <p:spPr>
          <a:xfrm>
            <a:off x="4371840" y="1854360"/>
            <a:ext cx="3418200" cy="1415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http://lantern.ncsa.illinois.edu/Vis/Kushnir/html/t10.0032.jpg"/>
          <p:cNvPicPr/>
          <p:nvPr/>
        </p:nvPicPr>
        <p:blipFill>
          <a:blip r:embed="rId2"/>
          <a:stretch/>
        </p:blipFill>
        <p:spPr>
          <a:xfrm>
            <a:off x="966960" y="1852560"/>
            <a:ext cx="3298680" cy="1855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http://lantern.ncsa.illinois.edu/Vis/Kushnir/html/t10_2_cmap.jpg"/>
          <p:cNvPicPr/>
          <p:nvPr/>
        </p:nvPicPr>
        <p:blipFill>
          <a:blip r:embed="rId3"/>
          <a:stretch/>
        </p:blipFill>
        <p:spPr>
          <a:xfrm>
            <a:off x="4371840" y="3755880"/>
            <a:ext cx="3419640" cy="1417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http://lantern.ncsa.illinois.edu/Vis/Kushnir/html/t10_2.0032.jpg"/>
          <p:cNvPicPr/>
          <p:nvPr/>
        </p:nvPicPr>
        <p:blipFill>
          <a:blip r:embed="rId4"/>
          <a:stretch/>
        </p:blipFill>
        <p:spPr>
          <a:xfrm>
            <a:off x="966960" y="3747960"/>
            <a:ext cx="3298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ttempt to show both outer and inne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0720D-7575-41CF-AF6F-4A2E8F140C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http://lantern.ncsa.illinois.edu/Vis/Kushnir/html/t5_1_cmap2.jpg"/>
          <p:cNvPicPr/>
          <p:nvPr/>
        </p:nvPicPr>
        <p:blipFill>
          <a:blip r:embed="rId1"/>
          <a:stretch/>
        </p:blipFill>
        <p:spPr>
          <a:xfrm>
            <a:off x="4381560" y="1839960"/>
            <a:ext cx="3419280" cy="1417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lantern.ncsa.illinois.edu/Vis/Kushnir/html/t5_1.0000.jpg"/>
          <p:cNvPicPr/>
          <p:nvPr/>
        </p:nvPicPr>
        <p:blipFill>
          <a:blip r:embed="rId2"/>
          <a:stretch/>
        </p:blipFill>
        <p:spPr>
          <a:xfrm>
            <a:off x="966960" y="1839960"/>
            <a:ext cx="3308040" cy="1860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http://lantern.ncsa.illinois.edu/Vis/Kushnir/html/t9_1_cmap.jpg"/>
          <p:cNvPicPr/>
          <p:nvPr/>
        </p:nvPicPr>
        <p:blipFill>
          <a:blip r:embed="rId3"/>
          <a:stretch/>
        </p:blipFill>
        <p:spPr>
          <a:xfrm>
            <a:off x="4381560" y="3753000"/>
            <a:ext cx="3419280" cy="1417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http://lantern.ncsa.illinois.edu/Vis/Kushnir/html/t9_1.0032.jpg"/>
          <p:cNvPicPr/>
          <p:nvPr/>
        </p:nvPicPr>
        <p:blipFill>
          <a:blip r:embed="rId4"/>
          <a:stretch/>
        </p:blipFill>
        <p:spPr>
          <a:xfrm>
            <a:off x="966960" y="3753000"/>
            <a:ext cx="3308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terior view of density, demonstrate collision are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7C7E7-3B59-422D-9E82-66545805FA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lantern.ncsa.illinois.edu/Vis/Kushnir/html/t5_1f3h.0000.jpg"/>
          <p:cNvPicPr/>
          <p:nvPr/>
        </p:nvPicPr>
        <p:blipFill>
          <a:blip r:embed="rId1"/>
          <a:stretch/>
        </p:blipFill>
        <p:spPr>
          <a:xfrm>
            <a:off x="998640" y="1839960"/>
            <a:ext cx="58179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1"/>
          <a:stretch/>
        </p:blipFill>
        <p:spPr>
          <a:xfrm>
            <a:off x="998640" y="1839960"/>
            <a:ext cx="6338880" cy="32194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terior view of density, demonstrate collision are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E109C-8929-41AE-969C-CEE1866C92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</dc:creator>
  <dc:description/>
  <dc:language>en-US</dc:language>
  <cp:lastModifiedBy>David</cp:lastModifiedBy>
  <dcterms:modified xsi:type="dcterms:W3CDTF">2017-06-20T13:46:07Z</dcterms:modified>
  <cp:revision>239</cp:revision>
  <dc:subject>Visualization</dc:subject>
  <dc:title>Visualization of simulated white dwarf collisions</dc:title>
</cp:coreProperties>
</file>