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189788" cy="94853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189200" cy="94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189920" cy="9485280"/>
          </a:xfrm>
          <a:custGeom>
            <a:avLst/>
            <a:gdLst>
              <a:gd name="textAreaLeft" fmla="*/ 360 w 7189920"/>
              <a:gd name="textAreaRight" fmla="*/ 7189560 w 7189920"/>
              <a:gd name="textAreaTop" fmla="*/ 360 h 9485280"/>
              <a:gd name="textAreaBottom" fmla="*/ 9484920 h 9485280"/>
            </a:gdLst>
            <a:ahLst/>
            <a:rect l="textAreaLeft" t="textAreaTop" r="textAreaRight" b="textAreaBottom"/>
            <a:pathLst>
              <a:path w="21600" h="28495">
                <a:moveTo>
                  <a:pt x="4" y="0"/>
                </a:moveTo>
                <a:arcTo wR="4" hR="4" stAng="16200000" swAng="-5400000"/>
                <a:lnTo>
                  <a:pt x="0" y="28491"/>
                </a:lnTo>
                <a:arcTo wR="4" hR="4" stAng="10800000" swAng="-5400000"/>
                <a:lnTo>
                  <a:pt x="21596" y="2849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2"/>
          <p:cNvSpPr/>
          <p:nvPr/>
        </p:nvSpPr>
        <p:spPr>
          <a:xfrm>
            <a:off x="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407196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222200" y="711000"/>
            <a:ext cx="4741920" cy="355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18920" y="4506840"/>
            <a:ext cx="5748120" cy="4267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407160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016E9FF-C502-4F87-9023-C8727C3986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3FE9DA9-C121-4453-934B-D8F455AD60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B20D3B2-5820-4864-8A85-6EF2F9B756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457A987-5EEE-45A0-88EB-EDCBF2ACEE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CFB25D9-DE2C-4642-B1E2-F37908CD9D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D323520-F43A-4AB0-B021-DEB6608AC9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8515FEE-F951-404A-853E-AF05591D46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8866E2D-A788-4065-91E4-C6C3FB2751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7ECBDAE-8B2F-481A-8A86-A759D7BBD8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5F4C2A8-50E3-411B-B7C6-614890CB43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9816980-2908-4344-AEC4-6DCA5BD6D4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D7C8DE4-B942-4DA2-8A12-6060ED04E3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A6BEBE2-5FA0-4488-AD2D-6C79E0B93F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FD31719-0B27-44F1-A08A-C8835BE67B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5AE742F-C2C2-4425-89B5-931D0E110B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F683F2A-9A2B-4C8A-AA7B-D06666376B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BB9434D-EFD8-4494-8D42-412E7A5966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4507F99-F21A-4A35-ADBF-ECDC844F47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7312BD6-E33D-40E3-A1CA-9C78611ACE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7A29DF4-0EA2-4E0F-BACD-395D5C9D83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EE84A62-841A-41D4-B1B5-5D033EF092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D8E57CA-158C-44A0-814B-E8F9AB91E2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A37AE12-284F-44FD-91B3-A6293C283A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5B5241C-A48E-49D0-A004-53484C2CAA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9CF2870-FD22-455A-8F5C-88112825F1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462F5A7-B91F-465A-96C2-E05A93A775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0D07BE2-D863-413E-B813-628A2C2279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957F97A-1314-41A0-97FA-1C21609A17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45D4D58-7A5F-48A8-BE2E-674C34D4D0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48B3CE7-76D6-4E42-9C4D-741FA472F1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733F9C7-474B-4C41-BC5D-1D2DF06C8C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2F68148-AA08-46F7-863C-FC2A7805AE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C335DE3-C1CD-4945-ABE8-A0496F6719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B895C35-3FBC-419F-B625-7109560AE3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54AFAF1-4D8B-4103-96D7-D08F5075AF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054B34F-A809-488B-B354-692ECD6102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5EFAC77-CAFB-422B-9979-4EF5C0B263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1070E0F-8C87-47D0-9AF7-AF95CC85A1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A20C74B-E231-4977-9006-487DE3479B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E049B99-41F6-4BD0-A3FB-45A4146414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84A9685-E0FC-4132-887D-E897E3053F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FCFC6BD-F432-4F18-B0D4-9B7BB772AA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5C673E5-7101-423C-B2D8-ABF2650E3F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04F98C1-93DE-45DA-A0F3-02FF89EF3A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794D115-DEF7-4E32-A117-B31D382279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B41EE36-3953-4BE8-92AC-69D5A25C0F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97B3F8F-2C12-493C-A2C3-F860194022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392A0FF-E765-467E-8605-62207AC8BD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C856E17-B274-48ED-8EE6-D39E991FD6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7218B6F-BE50-4FFA-B42E-FC4872289D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E5723BB-8741-4A51-8DE3-EB199043D1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8876532-A2A2-4679-9C25-90B544A3C2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5F5CB46-91C7-4C54-8529-C31BC2889C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07EAA42-2F3F-4CEB-8771-FA9B7D3B29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9C5F55C-15F7-4877-B480-1BDCF0C5F0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259D9D7-DB5A-4FCA-9763-26F94274D3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17AC565-D27C-4D03-B711-BDFA449E21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1BB2B-B2BF-4159-9BD5-C7671A6693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0CAB6-4984-4CBD-9471-B2D205F373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085DE-2505-49F6-9E0D-11CD643FB9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47F92-D6BE-4DD2-9C34-EDF5C86CC3B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9EABE-2B5B-4ABB-8851-B8755DDF1FB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51176-B519-40D8-B0AD-0420873780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AA110-39D3-4A7A-966C-5D8AFEE998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E8A39-B7E7-477B-9181-E690E818C0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1FB2D-3E6E-4826-AF60-B256A9CCE8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CED52-A698-43F8-914D-069CFA82F3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4A1D0-BD9B-4424-B212-15B24FD90F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6A5EB-59B2-4C69-B6E6-4A88294E70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DAC19C-E0CA-468B-9C7D-A536FEA9CB19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spcBef>
                <a:spcPts val="9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High Throughput Computing with Condor at Purdu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SEDE ECSS Monthly Symposi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2"/>
          <p:cNvSpPr/>
          <p:nvPr/>
        </p:nvSpPr>
        <p:spPr>
          <a:xfrm>
            <a:off x="2971800" y="328680"/>
            <a:ext cx="49528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ond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s are vacated when a PBS job sta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ng running jobs may never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home directory across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ratch directories roughly per-clus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7 TB of checkpoint storage for standard universe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Univer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nilla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esn't require a recomp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native checkpoint mech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reams I/O (can overload the submit nod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pports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fork(), shared memory, pi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le transf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vanilla universe fea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jobs to flow to oth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2"/>
          <a:stretch/>
        </p:blipFill>
        <p:spPr>
          <a:xfrm>
            <a:off x="2662200" y="2631960"/>
            <a:ext cx="3738600" cy="371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piling for Cond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tandard universe requir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compi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 wraps a limited compiler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s against Condor libraries to add support for I/O streaming and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eckpoin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all state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ers state information to Condor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etes job from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arts interrupted job on another unused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lifecyc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is submit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eduler process contacts negotiator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otiator matches job to an available sl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 slots are available, scheduler contacts remote negoti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te node runs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job gets evicted, scheduler process contacts negotiator process ag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submit fi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simple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guments = 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stand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rror = log/$(Cluster).$(Process).er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utput = log/$(Cluster).$(Process).o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file transfe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process_files.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vanil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houldTransferFiles = if_nee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input_files = input.d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output_files = output.p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submitted with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 myjobfile.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naging job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all jobs in queue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only user's jobs: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condor_q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us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iral"/>
              </a:rPr>
              <a:t>Why isn't my job running?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 -better-analyze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a job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rm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Condor? Why not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mitting and managing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itable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tries to be helpful by inserting automatic job requir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S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leSystem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mory &gt;= ImageSi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sometimes over-constrains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quirements attribute gives you the flexibility to add or remove execute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files are in your home direc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regexp(“rcac.purdue.edu”,FilesystemDomai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executable is a Windows bin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(OpSys==“WINNT61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pecial note about Mem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sometimes overestimates the memory usage of a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Condor reports totalmemory/cores, but jobs are not memory constrain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It’s best to put a dummy memory requirement in the submission 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"/>
          <p:cNvSpPr/>
          <p:nvPr/>
        </p:nvSpPr>
        <p:spPr>
          <a:xfrm>
            <a:off x="2971800" y="312840"/>
            <a:ext cx="49528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tting the most out of your cores: Rank = 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prefer a job land on particular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prefer 64-bit nodes with lots of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ank = (ARCH==“X86_64”)*1000 +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kflow management with DAGm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ed Acyclic Graph Mana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ines parent-child relationships among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lows pre- and post-execution hoo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mit with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ondor_submit_da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1"/>
          <p:cNvSpPr/>
          <p:nvPr/>
        </p:nvSpPr>
        <p:spPr>
          <a:xfrm>
            <a:off x="2438280" y="274680"/>
            <a:ext cx="556272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457200" y="1873080"/>
            <a:ext cx="8077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3581280" y="16002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3581280" y="43434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3887280" y="4572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3887640" y="1828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22096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25164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49528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52596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Line 11"/>
          <p:cNvSpPr/>
          <p:nvPr/>
        </p:nvSpPr>
        <p:spPr>
          <a:xfrm flipH="1">
            <a:off x="2665080" y="2438280"/>
            <a:ext cx="1374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2"/>
          <p:cNvSpPr/>
          <p:nvPr/>
        </p:nvSpPr>
        <p:spPr>
          <a:xfrm>
            <a:off x="4038480" y="2438280"/>
            <a:ext cx="14479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13"/>
          <p:cNvSpPr/>
          <p:nvPr/>
        </p:nvSpPr>
        <p:spPr>
          <a:xfrm>
            <a:off x="2743200" y="3809880"/>
            <a:ext cx="12952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Line 14"/>
          <p:cNvSpPr/>
          <p:nvPr/>
        </p:nvSpPr>
        <p:spPr>
          <a:xfrm flipH="1">
            <a:off x="3960720" y="3809880"/>
            <a:ext cx="15271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 Diamond-shaped DA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First    p_00060.A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1 p_00060.B1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2 p_00060.B2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Third    p_00060.C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First CHILD Second_1 Second_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Second_1 Second_2 CHILD Thi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re complex DAG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3429000" y="1447920"/>
            <a:ext cx="2057400" cy="512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 Benefits from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te Carlo simul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meter swee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barrassingly parallel”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urdue’s Condor Us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457200" y="1600200"/>
            <a:ext cx="8229600" cy="46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al Bi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cal Engine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informa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mate Visual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ed Rend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Energy Phys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roduct of the University of Wisconsin-Madi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job schedu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esource mana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orkflow management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ed on High Throughput Compu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 more inform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University of Wisconsin websit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http://research.cs.wisc.edu/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Emai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bcotton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rcac-help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 (HTC)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amounts of proces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 period of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TC  v.  HP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457200" y="1600200"/>
            <a:ext cx="822960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PS extracted v. FLO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Ownership v. Central Owner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turing Idle Cycles v. Losing Idl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oughput v. Response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Memory v. Tightly-coupled Mem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000 Jobs v. 1 Jo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"/>
          <p:cNvSpPr/>
          <p:nvPr/>
        </p:nvSpPr>
        <p:spPr>
          <a:xfrm>
            <a:off x="2971800" y="374760"/>
            <a:ext cx="4952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y Cond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ted comput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eduling of related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co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vantages of Cond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457200" y="1600200"/>
            <a:ext cx="8229600" cy="47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tasks running at o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powerful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wasted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mal impact on remote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ttle or no code modif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advantages of 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ete for ac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sk may take longer to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ing can be l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aren’t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files can impact the remote compu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erogeneity of the remote compu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w compatible compil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on large cyberinfrastructure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in distributed deskto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as a scavenger of free cy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not suppor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27K Linux cores and 1K Windows c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more kilocores at DiaGrid partn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0T01:42:49Z</dcterms:created>
  <dc:creator>Thomas Kesler</dc:creator>
  <dc:description/>
  <dc:language>en-US</dc:language>
  <cp:lastModifiedBy>Ben Cotton</cp:lastModifiedBy>
  <dcterms:modified xsi:type="dcterms:W3CDTF">2012-01-10T17:42:20Z</dcterms:modified>
  <cp:revision>349</cp:revision>
  <dc:subject/>
  <dc:title>Condor Project</dc:title>
</cp:coreProperties>
</file>