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89788" cy="9485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89200" cy="9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189920" cy="9485280"/>
          </a:xfrm>
          <a:custGeom>
            <a:avLst/>
            <a:gdLst>
              <a:gd name="textAreaLeft" fmla="*/ 360 w 7189920"/>
              <a:gd name="textAreaRight" fmla="*/ 7189560 w 7189920"/>
              <a:gd name="textAreaTop" fmla="*/ 360 h 9485280"/>
              <a:gd name="textAreaBottom" fmla="*/ 9484920 h 9485280"/>
            </a:gdLst>
            <a:ahLst/>
            <a:rect l="textAreaLeft" t="textAreaTop" r="textAreaRight" b="textAreaBottom"/>
            <a:pathLst>
              <a:path w="21600" h="28495">
                <a:moveTo>
                  <a:pt x="4" y="0"/>
                </a:moveTo>
                <a:arcTo wR="4" hR="4" stAng="16200000" swAng="-5400000"/>
                <a:lnTo>
                  <a:pt x="0" y="28491"/>
                </a:lnTo>
                <a:arcTo wR="4" hR="4" stAng="10800000" swAng="-5400000"/>
                <a:lnTo>
                  <a:pt x="21596" y="2849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71960" y="0"/>
            <a:ext cx="31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222200" y="711000"/>
            <a:ext cx="474192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8920" y="4506840"/>
            <a:ext cx="5748120" cy="4267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07160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B9506-D79F-47A5-9185-DF9B35DB5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21BD6-69F3-4124-AE81-67E57545F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15383-5585-4E73-9E1C-01CF03883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8CE9A-79B0-4A2F-A2D9-F25878797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42A24D-3854-4CB9-B3CA-4E5128A9E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D6160-EEAA-44AF-B0F2-CFC183433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3D8D8-F931-43E1-833F-604B8EB2A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FF8529-7217-4894-8717-292FD25D2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CEF67D-0D66-4316-B0C9-CD7CA4B05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AE139-197F-4FAF-99E5-D6411097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4E5E4-DAF7-4F16-A1BB-8E4944CA3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732F2-4085-4732-B7D5-89AA2DBD8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C4F95-97FC-4143-88B8-4F20CBDE4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95C98-F74B-437D-8721-83D6C86AE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F492F0-C4B8-4E8E-8004-6AED36066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C705AD-9731-4B39-8716-5DDDCACA6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AC010-8798-475B-BF95-7E670011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12806-660F-42FB-A18F-1FF5A5B66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92D897-F145-4D0A-955A-6C7AFF805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4C20C-4888-4EDE-8E9F-25A2D679F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22D73-4348-45A2-8789-BC7CB8F6A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234E5-06C2-4A9B-A764-F59873EF2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D1447-FB9E-4693-8AA8-C9986EDE6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11ABA8-6565-4B7C-9422-326F7982B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3C173D-B654-4A25-AAC1-F596C40D7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10D48F-BEED-4625-8AA0-8C28E508E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96F84C-578F-4A55-AD86-639581BDF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961E57-F484-4B93-A7F2-8E6BFE475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498774-2977-4FE5-87D1-AD9840E67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A38B0-F313-49A2-80AE-DE073FF1C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2502B-5175-4EE8-A722-58609B001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1F089-794A-4019-A4DC-B8B7ED08D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95750-7F76-42D3-AD6A-39F418007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CBE34-71E1-45E7-982A-4A6AC7971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C1368-1048-4FFD-BF38-B9B00E162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7080B-9557-4794-A170-E8B229950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AAF910-1C15-4B7C-BFA8-37282366B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DCB13C-E3A7-42A2-8CF3-B8BD65E09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31930-83A8-4849-89ED-B40FFABCB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7F39D-B365-4A9B-B258-E3E61A23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9AECF-D7EA-411A-867B-42ED5326B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B498E-4AF0-4CFB-A794-BDADDD5DA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84921D-39C4-46A7-B2E5-468C56AEF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EA19E3-097B-4D30-975D-AFB6CAAF6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B0043-7920-4DA2-80F7-45CDBFA42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0BE20-151F-4D81-9A2E-2B8DA0678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19280" y="4506480"/>
            <a:ext cx="57499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75055-2502-4414-BBC7-86EA36C4C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488441-791D-4A8B-A456-EA5373C5A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34B350-76DB-4627-A8BB-3A0BC7F42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8FF0DC-A0FC-431B-8D4B-3068D6164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84F70-5019-4E6C-9D67-F6D5A7BAC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BD890-A420-4D54-AB69-A653F2373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9DA7B-C995-44F5-A30C-1C034D45B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D76DE-EA39-46E8-ACEF-001BFD120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D6380-8D5A-4EED-941D-ECA3EF99C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71960" y="9010800"/>
            <a:ext cx="3112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9BC69-BF0F-4DBE-BC62-7A962D3D8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4071960" y="9010800"/>
            <a:ext cx="311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6BE8B-BE5A-4AAF-8847-B9C5D8F5C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136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19280" y="4506840"/>
            <a:ext cx="5749920" cy="71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BE0C-DD05-41BF-883A-FB7F994FB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31CA-D5BE-4F63-88F2-79B68A7A6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10E9-FA7C-4579-B7EA-DFB5A78B1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47AE-02B4-405A-9227-955758D56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91CD-5E39-43AE-AC86-E39412C34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F1F8-C220-4309-9915-EFFE38756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FA55-DA32-41AE-AEFF-F8287D78A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2050-DEA2-4346-9E75-CD29F7963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B7D5-F2F7-40A0-84C7-048F9F106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7A30-9241-4B3B-AE4A-C5A6E82A7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C8BC-2690-4AEF-A93E-3EC4D3278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FDC9-BF44-4569-87AA-384EC3F6E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6FFDA-6477-4141-A98D-0D00CB576A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igh Throughput Computing with Condor at Purdu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EDE ECSS Monthly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2971800" y="328680"/>
            <a:ext cx="4952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on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are vacated when a PBS job 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running jobs may never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me directory across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 directories roughly per-cl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7 TB of checkpoint storage for standard universe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Univer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illa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n't require a recomp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native checkpoint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s I/O (can overload the submit n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s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fork(), shared memory,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nilla universe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jobs to flow to oth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662200" y="2631960"/>
            <a:ext cx="3738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for Con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ndard universe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comp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raps a limited compiler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against Condor libraries to add support for I/O streaming and checkpo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all stat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state information to Cond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job from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s interrupted job on another unused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b lifecy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s sub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r process contacts negotiato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or matches job to an available s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slots are available, scheduler contacts remote negoti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node runs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job gets evicted, scheduler process contacts negotiator proces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bmit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simpl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guments =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 = log/$(Cluster).$(Process).e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 = log/$(Cluster).$(Process).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600200"/>
            <a:ext cx="82296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file transf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Simple Condor job f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bin/process_files.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input_files = input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fer_output_files = output.p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 = log/$(Cluster).$(Process).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TGProject = TG-STA060013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mitting a j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ubmitted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submit myjobfile.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jobs in queu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nly user's jobs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ndor_q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iral"/>
              </a:rPr>
              <a:t>Why isn't my job running?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q -better-analyze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 job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jo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ondor? Why not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nd managing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tries to be helpful by inserting automatic job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System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 &gt;= Image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ometimes over-constrain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tting the most cores: Requirements =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irements attribute gives you the flexibility to add or remove execut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files are in your hom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regexp(“rcac.purdue.edu”,FilesystemDom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job executable is a Windows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ments = (OpSys==“WINNT61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971800" y="282600"/>
            <a:ext cx="49528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cial note about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r sometimes overestimates the memory usage of a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Condor reports totalmemory/cores, but jobs are not memory constr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’s best to put a dummy memory requirement in the submiss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2971800" y="312840"/>
            <a:ext cx="4952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the most out of your cores: Rank =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efer a job land on particular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fer 64-bit nodes with lot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k = (ARCH==“X86_64”)*1000 +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flow management with DAG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Acyclic Graph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s parent-child relationships amo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pre- and post-execution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or_submit_d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438280" y="2746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18730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581280" y="16002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581280" y="43434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7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887640" y="18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164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2971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9600" y="3200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2665080" y="2438280"/>
            <a:ext cx="1374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038480" y="2438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2743200" y="38098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3960720" y="3809880"/>
            <a:ext cx="1527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ond D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iamond-shaped D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First    p_00060.A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1 p_00060.B1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Second_2 p_00060.B2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Third    p_00060.C.s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First CHILD Second_1 Second_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Second_1 Second_2 CHILD Th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DA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05740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Benefits from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 Carlo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w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arrassingly parallel”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590920" y="274680"/>
            <a:ext cx="533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due’s Condor Us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600200"/>
            <a:ext cx="822960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Re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52480"/>
            <a:ext cx="822960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the University of Wisconsin-Mad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b schedu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urce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flow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High Throughput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ond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514600" y="274680"/>
            <a:ext cx="5486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University of Wisconsin websi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http://research.cs.wisc.edu/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bcotton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rcac-help@purdue.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971800" y="19224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igh Throughput Computing (HTC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mounts of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period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C  v.  HP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PS extracted v. FL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wnership v. Central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Idle Cycles v. Losing Idl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v. Respons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emory v. Tightly-coupl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 Jobs v. 1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2971800" y="37476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Con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d compute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of related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Co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asks running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o more powerful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sted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impact on remote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 code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 of Con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for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may take longer to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n b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aren’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s can impact the remot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the remote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compatible compi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2971800" y="380880"/>
            <a:ext cx="4952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or at Pur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on large cyberinfrastructure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in distribute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a scavenger of fre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jobs not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7K Linux cores and 1K Windows 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ore kilocores at DiaGrid partner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1:42:49Z</dcterms:created>
  <dc:creator>Thomas Kesler</dc:creator>
  <dc:description/>
  <dc:language>en-US</dc:language>
  <cp:lastModifiedBy>Ben Cotton</cp:lastModifiedBy>
  <dcterms:modified xsi:type="dcterms:W3CDTF">2012-01-10T17:42:20Z</dcterms:modified>
  <cp:revision>349</cp:revision>
  <dc:subject/>
  <dc:title>Condor Project</dc:title>
</cp:coreProperties>
</file>