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7189788" cy="94853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189200" cy="94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189920" cy="9485280"/>
          </a:xfrm>
          <a:custGeom>
            <a:avLst/>
            <a:gdLst>
              <a:gd name="textAreaLeft" fmla="*/ 360 w 7189920"/>
              <a:gd name="textAreaRight" fmla="*/ 7189560 w 7189920"/>
              <a:gd name="textAreaTop" fmla="*/ 360 h 9485280"/>
              <a:gd name="textAreaBottom" fmla="*/ 9484920 h 9485280"/>
            </a:gdLst>
            <a:ahLst/>
            <a:rect l="textAreaLeft" t="textAreaTop" r="textAreaRight" b="textAreaBottom"/>
            <a:pathLst>
              <a:path w="21600" h="28495">
                <a:moveTo>
                  <a:pt x="4" y="0"/>
                </a:moveTo>
                <a:arcTo wR="4" hR="4" stAng="16200000" swAng="-5400000"/>
                <a:lnTo>
                  <a:pt x="0" y="28491"/>
                </a:lnTo>
                <a:arcTo wR="4" hR="4" stAng="10800000" swAng="-5400000"/>
                <a:lnTo>
                  <a:pt x="21596" y="2849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Text Box 2"/>
          <p:cNvSpPr/>
          <p:nvPr/>
        </p:nvSpPr>
        <p:spPr>
          <a:xfrm>
            <a:off x="0" y="0"/>
            <a:ext cx="3114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4071960" y="0"/>
            <a:ext cx="3114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222200" y="711000"/>
            <a:ext cx="4741920" cy="355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18920" y="4506840"/>
            <a:ext cx="5748120" cy="42674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407160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D3B7D41-F9FA-4D9E-B769-E9F86BFD5F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02264D5-5B3B-44B5-878E-B38AD420C7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60FD748-8897-4FD7-8C77-32A035A0AE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95EAC12-1DCF-4C27-8197-A859168B7F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E0B89E7-7DF3-4562-9A72-2044101292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841DB70-6C5F-48BA-88AD-602D1BE722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6EE346A-5D86-4102-B68C-B0A6F0496F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0FE54BF-163C-477B-877C-07AE709696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9D63743-D554-4D94-A522-157834DDDA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7502232-06FC-4696-B3FE-3C1458DD2E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0CFB27F-6056-4064-98FB-50B2816C46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A9DA3A1-D84D-48F4-B3C6-1D903F1FB8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EADF54E-C4A4-4906-A580-8FD15B8149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389C62D-C124-492E-A656-64380C00D3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FABFE27-8212-4FDB-9A3A-944C1594D9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72A17E4-73FF-4CA0-9C8B-A501F4A31F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042F1B3-D5E5-468A-A48A-517A5FA9F5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4BE7A22-F7A8-4CA9-9B41-AD00378F1E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218273A-1EE3-4481-87A7-1BAF14B059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4290569-921C-4D9D-96CC-67C885584C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75A9B76-76E3-4A91-BB9C-6B550DA28F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AA69A53-6DFC-41DB-9F34-D96C94B979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5E405D4-2016-4A6C-B65D-8A47D529FA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FBCC1F0-05BF-499F-A0C8-065D03D20F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70FC516-B8C6-4E1D-ACCF-568B06AF21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8E54A34-7306-474A-979B-2639A77F5F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60BAF84-2F47-46CE-A6C6-0F5E30804B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9118C2C-3B9D-4E4F-8E7F-9668A67DEC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1961408-C30A-45B1-AF8B-C8C060436A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29CA47A-D9CB-49AB-94DD-063FA29A62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D17C391-926E-4CB1-92F2-699C74AC7A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3397753-F407-490E-970D-25EFB07787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F6D9BC2-A1E6-46AD-9483-418FEB4CA6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84D6E54-F6F4-4146-B4D9-6BACFB1987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B35D6FA-1FE4-4D74-9C1A-DD1C5B3A08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862602C-9F0F-4D20-BC41-08277B36A4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0EF19A1-A276-4B83-B841-2158560BB6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719280" y="4506480"/>
            <a:ext cx="574992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80B794D-75C8-42D8-B6EE-134C318021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D9803C7-FFDB-4CB4-9671-21D417B55A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719280" y="4506480"/>
            <a:ext cx="574992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AE022D5-4E1E-422C-AD79-F94DC90960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867EEE0-5853-4B60-B383-CD8D9FA649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9BB9500-F1DE-47FE-815E-BDD5C36A9F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7EA0544-2338-4178-9080-5B39F1C397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127CF83-C1A7-4305-BD1A-550BA8077E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4AA64BE-277D-4776-93C5-0EFD2BF6E5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C485ECB-C937-4728-90CB-4E55940580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719280" y="4506480"/>
            <a:ext cx="574992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7B8ED1E-C2BC-452E-BDE7-05386753D9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A80604B-44B9-4730-9533-C1BBAFC96B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9A1E89E-DB81-4568-A408-71F22F16FD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16FA65C-DFEE-4C0E-B556-831574C6E2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FFAB17C-0ADF-4B18-9D48-EB225DC62E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B59F208-547A-40D8-A0E3-A6514B5FEB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46AFFA0-2188-41EB-BACA-94C2DCA1DD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763B981-969C-4726-9E92-A94FBA7A7D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3B03927-9EAE-43E1-8841-AC7A7A085C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24DA9AC-6904-4AA8-9EE4-BE8737CF3D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35BA613-C7D0-4E94-8172-9C19A03A05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3220F1-5C1D-447C-96CF-4EBB6E5A81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6392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A4EC89-2A7F-424E-9A29-C593A4A867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8A81D-A8DB-4DB8-BBE7-AE4550D7AC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081723-F864-4A60-A666-6516ADD241A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CA6FC3-CE2D-4CD5-8F91-A902CC8781A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035399-05F1-453B-A3F6-5FCEDF15DD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5FB290-080F-4CC4-9689-7B373852EA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F2A504-2A22-4DA4-8B2F-495C7C1EDD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5DB230-6FE1-46C9-A89B-64C84F25A8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2685EF-E925-4F46-97CF-774AD5967C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9A2090-E330-4F95-AEC6-CDA83CB081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087545-CEA1-4C6B-AB12-CF8E37663F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6CA26F-4872-4428-A4E5-A937EE8B8C01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1"/>
          <p:cNvSpPr/>
          <p:nvPr/>
        </p:nvSpPr>
        <p:spPr>
          <a:xfrm>
            <a:off x="457200" y="1752480"/>
            <a:ext cx="822960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 algn="ctr">
              <a:spcBef>
                <a:spcPts val="95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High Throughput Computing with Condor at Purdu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SEDE ECSS Monthly Symposiu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2"/>
          <p:cNvSpPr/>
          <p:nvPr/>
        </p:nvSpPr>
        <p:spPr>
          <a:xfrm>
            <a:off x="2971800" y="328680"/>
            <a:ext cx="49528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Cond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dor at Purdu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s are vacated when a PBS job star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ng running jobs may never comple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home directory across clus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ratch directories roughly per-clus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7 TB of checkpoint storage for standard universe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ob Univers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nilla univer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oesn't require a recomp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 native checkpoint mechanis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ard univer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reams I/O (can overload the submit nod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upports checkpoin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 fork(), shared memory, pip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ile transf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vanilla universe fea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s jobs to flow to other si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" name="Picture 4" descr=""/>
          <p:cNvPicPr/>
          <p:nvPr/>
        </p:nvPicPr>
        <p:blipFill>
          <a:blip r:embed="rId2"/>
          <a:stretch/>
        </p:blipFill>
        <p:spPr>
          <a:xfrm>
            <a:off x="2662200" y="2631960"/>
            <a:ext cx="3738600" cy="371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mpiling for Condo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tandard universe requir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compi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mmand wraps a limited compiler s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ks against Condor libraries to add support for I/O streaming and checkpoin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heckpoint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s all state inform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fers state information to Condor manag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letes job from process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arts interrupted job on another unused process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ob lifecyc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 is submit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eduler process contacts negotiator pro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gotiator matches job to an available slo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no slots are available, scheduler contacts remote negotia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ecute node runs j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job gets evicted, scheduler process contacts negotiator process ag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mitting a jo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457200" y="1600200"/>
            <a:ext cx="8229600" cy="56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a submit fi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Simple Condor job fil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xecutable = bin/simple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guments = 6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niverse = standa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g = log/$(Cluster).$(Process).lo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rror = log/$(Cluster).$(Process).er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utput = log/$(Cluster).$(Process).ou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+TGProject = TG-STA060013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Queue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mitting a jo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457200" y="1600200"/>
            <a:ext cx="8229600" cy="56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file transfer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Simple Condor job fil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xecutable = bin/process_files.s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niverse = vanill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houldTransferFiles = if_nee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ansfer_input_files = input.d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ansfer_output_files = output.p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g = log/$(Cluster).$(Process).lo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+TGProject = TG-STA060013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Queu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mitting a jo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 submitted with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submi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mmand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submit myjobfile.con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naging job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 all jobs in queue: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 only user's jobs: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condor_q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us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iral"/>
              </a:rPr>
              <a:t>Why isn't my job running?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q -better-analyze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job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 a job: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rm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job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"/>
          <p:cNvSpPr/>
          <p:nvPr/>
        </p:nvSpPr>
        <p:spPr>
          <a:xfrm>
            <a:off x="457200" y="1752480"/>
            <a:ext cx="822960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igh Throughput Computing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Condor? Why not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dor at Purdu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mitting and managing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itable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Text Box 2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p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1"/>
          <p:cNvSpPr/>
          <p:nvPr/>
        </p:nvSpPr>
        <p:spPr>
          <a:xfrm>
            <a:off x="2971800" y="282600"/>
            <a:ext cx="49528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Getting the most cores: Requirements = 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or tries to be helpful by inserting automatic job require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pS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r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ileSystem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mory &gt;= ImageSi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sometimes over-constrains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1"/>
          <p:cNvSpPr/>
          <p:nvPr/>
        </p:nvSpPr>
        <p:spPr>
          <a:xfrm>
            <a:off x="2971800" y="282600"/>
            <a:ext cx="49528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Getting the most cores: Requirements = 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quirements attribute gives you the flexibility to add or remove execute no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job files are in your home direct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equirements = regexp(“rcac.purdue.edu”,FilesystemDomai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job executable is a Windows bin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equirements = (OpSys==“WINNT61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1"/>
          <p:cNvSpPr/>
          <p:nvPr/>
        </p:nvSpPr>
        <p:spPr>
          <a:xfrm>
            <a:off x="2971800" y="282600"/>
            <a:ext cx="49528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special note about Mem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or sometimes overestimates the memory usage of a j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Condor reports totalmemory/cores, but jobs are not memory constrain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It’s best to put a dummy memory requirement in the submission f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1"/>
          <p:cNvSpPr/>
          <p:nvPr/>
        </p:nvSpPr>
        <p:spPr>
          <a:xfrm>
            <a:off x="2971800" y="312840"/>
            <a:ext cx="495288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tting the most out of your cores: Rank = 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can prefer a job land on particular no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prefer 64-bit nodes with lots of mem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ank = (ARCH==“X86_64”)*1000 + Mem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1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2"/>
          <p:cNvSpPr/>
          <p:nvPr/>
        </p:nvSpPr>
        <p:spPr>
          <a:xfrm>
            <a:off x="2590920" y="274680"/>
            <a:ext cx="533376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orkflow management with DAGm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ed Acyclic Graph Manag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fines parent-child relationships among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llows pre- and post-execution hoo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mit with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condor_submit_da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1"/>
          <p:cNvSpPr/>
          <p:nvPr/>
        </p:nvSpPr>
        <p:spPr>
          <a:xfrm>
            <a:off x="2438280" y="274680"/>
            <a:ext cx="556272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iamond DA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Rectangle 2"/>
          <p:cNvSpPr/>
          <p:nvPr/>
        </p:nvSpPr>
        <p:spPr>
          <a:xfrm>
            <a:off x="457200" y="1873080"/>
            <a:ext cx="8077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Rectangle 3"/>
          <p:cNvSpPr/>
          <p:nvPr/>
        </p:nvSpPr>
        <p:spPr>
          <a:xfrm>
            <a:off x="3581280" y="16002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3581280" y="43434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3887280" y="45720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3887640" y="18288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ectangle 7"/>
          <p:cNvSpPr/>
          <p:nvPr/>
        </p:nvSpPr>
        <p:spPr>
          <a:xfrm>
            <a:off x="2209680" y="29718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8"/>
          <p:cNvSpPr/>
          <p:nvPr/>
        </p:nvSpPr>
        <p:spPr>
          <a:xfrm>
            <a:off x="2516400" y="32004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9"/>
          <p:cNvSpPr/>
          <p:nvPr/>
        </p:nvSpPr>
        <p:spPr>
          <a:xfrm>
            <a:off x="4952880" y="29718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10"/>
          <p:cNvSpPr/>
          <p:nvPr/>
        </p:nvSpPr>
        <p:spPr>
          <a:xfrm>
            <a:off x="5259600" y="32004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Line 11"/>
          <p:cNvSpPr/>
          <p:nvPr/>
        </p:nvSpPr>
        <p:spPr>
          <a:xfrm flipH="1">
            <a:off x="2665080" y="2438280"/>
            <a:ext cx="1374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2"/>
          <p:cNvSpPr/>
          <p:nvPr/>
        </p:nvSpPr>
        <p:spPr>
          <a:xfrm>
            <a:off x="4038480" y="2438280"/>
            <a:ext cx="14479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Line 13"/>
          <p:cNvSpPr/>
          <p:nvPr/>
        </p:nvSpPr>
        <p:spPr>
          <a:xfrm>
            <a:off x="2743200" y="3809880"/>
            <a:ext cx="129528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Line 14"/>
          <p:cNvSpPr/>
          <p:nvPr/>
        </p:nvSpPr>
        <p:spPr>
          <a:xfrm flipH="1">
            <a:off x="3960720" y="3809880"/>
            <a:ext cx="15271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1"/>
          <p:cNvSpPr/>
          <p:nvPr/>
        </p:nvSpPr>
        <p:spPr>
          <a:xfrm>
            <a:off x="2514600" y="274680"/>
            <a:ext cx="5486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amond DA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 Diamond-shaped DA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First    p_00060.A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Second_1 p_00060.B1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Second_2 p_00060.B2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Third    p_00060.C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ARENT First CHILD Second_1 Second_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ARENT Second_1 Second_2 CHILD Thi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22860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1"/>
          <p:cNvSpPr/>
          <p:nvPr/>
        </p:nvSpPr>
        <p:spPr>
          <a:xfrm>
            <a:off x="2514600" y="274680"/>
            <a:ext cx="5486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ore complex DAG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22860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Picture 4" descr=""/>
          <p:cNvPicPr/>
          <p:nvPr/>
        </p:nvPicPr>
        <p:blipFill>
          <a:blip r:embed="rId2"/>
          <a:stretch/>
        </p:blipFill>
        <p:spPr>
          <a:xfrm>
            <a:off x="3429000" y="1447920"/>
            <a:ext cx="2057400" cy="512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1"/>
          <p:cNvSpPr/>
          <p:nvPr/>
        </p:nvSpPr>
        <p:spPr>
          <a:xfrm>
            <a:off x="2971800" y="192240"/>
            <a:ext cx="49528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o Benefits from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te Carlo simul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meter swee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barrassingly parallel”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1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 Box 2"/>
          <p:cNvSpPr/>
          <p:nvPr/>
        </p:nvSpPr>
        <p:spPr>
          <a:xfrm>
            <a:off x="2590920" y="274680"/>
            <a:ext cx="533376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urdue’s Condor Use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457200" y="1600200"/>
            <a:ext cx="8229600" cy="46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al Biolo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u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mical Enginee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informa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mate Visualiz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ributed Rende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 Energy Phys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1"/>
          <p:cNvSpPr/>
          <p:nvPr/>
        </p:nvSpPr>
        <p:spPr>
          <a:xfrm>
            <a:off x="457200" y="1752480"/>
            <a:ext cx="822960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roduct of the University of Wisconsin-Madis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job schedul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resource manag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workflow management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cused on High Throughput Compu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2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is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1"/>
          <p:cNvSpPr/>
          <p:nvPr/>
        </p:nvSpPr>
        <p:spPr>
          <a:xfrm>
            <a:off x="2514600" y="274680"/>
            <a:ext cx="5486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or more inform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University of Wisconsin websit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http://research.cs.wisc.edu/con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Email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bcotton@purdue.ed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rcac-help@purdue.ed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Rectangle 3"/>
          <p:cNvSpPr/>
          <p:nvPr/>
        </p:nvSpPr>
        <p:spPr>
          <a:xfrm>
            <a:off x="22860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1"/>
          <p:cNvSpPr/>
          <p:nvPr/>
        </p:nvSpPr>
        <p:spPr>
          <a:xfrm>
            <a:off x="2971800" y="192240"/>
            <a:ext cx="49528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igh Throughput Computing (HTC)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 amounts of process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ng period of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TC  v.  HPC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Text Box 2"/>
          <p:cNvSpPr/>
          <p:nvPr/>
        </p:nvSpPr>
        <p:spPr>
          <a:xfrm>
            <a:off x="457200" y="1600200"/>
            <a:ext cx="8229600" cy="49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OPS extracted v. FLO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ed Ownership v. Central Owner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pturing Idle Cycles v. Losing Idle Cy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oughput v. Response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ed Memory v. Tightly-coupled Mem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000 Jobs v. 1 Jo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1"/>
          <p:cNvSpPr/>
          <p:nvPr/>
        </p:nvSpPr>
        <p:spPr>
          <a:xfrm>
            <a:off x="2971800" y="374760"/>
            <a:ext cx="49528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y Condo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sted compute cy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eduling of related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 to more co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vantages of Cond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457200" y="1600200"/>
            <a:ext cx="8229600" cy="47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tasks running at o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 to more powerful compu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wasted cy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imal impact on remote compu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ttle or no code modif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sadvantages of Con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ete for ac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sk may take longer to comple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ing can be lo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llel jobs aren’t avail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files can impact the remote compu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terogeneity of the remote compu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w compatible compil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dor at Purdu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alled on large cyberinfrastructure clus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alled in distributed deskto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as a scavenger of free cyc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llel jobs not suppor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27K Linux cores and 1K Windows co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ral more kilocores at DiaGrid partner si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0T01:42:49Z</dcterms:created>
  <dc:creator>Thomas Kesler</dc:creator>
  <dc:description/>
  <dc:language>en-US</dc:language>
  <cp:lastModifiedBy>Ben Cotton</cp:lastModifiedBy>
  <dcterms:modified xsi:type="dcterms:W3CDTF">2012-01-10T17:42:20Z</dcterms:modified>
  <cp:revision>349</cp:revision>
  <dc:subject/>
  <dc:title>Condor Project</dc:title>
</cp:coreProperties>
</file>