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189788" cy="94853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189200" cy="94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189920" cy="9485280"/>
          </a:xfrm>
          <a:custGeom>
            <a:avLst/>
            <a:gdLst>
              <a:gd name="textAreaLeft" fmla="*/ 360 w 7189920"/>
              <a:gd name="textAreaRight" fmla="*/ 7189560 w 7189920"/>
              <a:gd name="textAreaTop" fmla="*/ 360 h 9485280"/>
              <a:gd name="textAreaBottom" fmla="*/ 9484920 h 9485280"/>
            </a:gdLst>
            <a:ahLst/>
            <a:rect l="textAreaLeft" t="textAreaTop" r="textAreaRight" b="textAreaBottom"/>
            <a:pathLst>
              <a:path w="21600" h="28495">
                <a:moveTo>
                  <a:pt x="4" y="0"/>
                </a:moveTo>
                <a:arcTo wR="4" hR="4" stAng="16200000" swAng="-5400000"/>
                <a:lnTo>
                  <a:pt x="0" y="28491"/>
                </a:lnTo>
                <a:arcTo wR="4" hR="4" stAng="10800000" swAng="-5400000"/>
                <a:lnTo>
                  <a:pt x="21596" y="2849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2"/>
          <p:cNvSpPr/>
          <p:nvPr/>
        </p:nvSpPr>
        <p:spPr>
          <a:xfrm>
            <a:off x="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407196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222200" y="711000"/>
            <a:ext cx="4741920" cy="355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18920" y="4506840"/>
            <a:ext cx="5748120" cy="4267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407160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514C3F6-3460-4922-A740-4962544DD5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2806D02-5A7E-4873-8EB2-81F251245E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C2FCA38-16F3-4089-8BB1-94962A7B52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D0840D2-EAD9-41AD-AD73-50DAEDE0C8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DBCF007-7388-406E-98DB-E862DA62C6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AD65F7B-3613-4047-A791-9EE082CD02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182B1F0-4DAE-4DC1-96F2-391327540A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300AF1D-222F-49DF-83A5-3C2AFE2409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BB76E7C-1410-4765-A52D-686A00C972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3639E9F-C12D-4E96-ABA7-A284CD9A54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2D8B190-4091-4CDE-919D-27F9AAC48E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9C59561-4019-4FB5-9150-66DF66D27E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E20CE0D-4350-422C-9ADF-349C560E8D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9009F37-2955-4FA6-A8EA-9203ED8789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F15DA67-BCA9-4B1B-B1A0-553DDD14D9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7772B5B-B423-4090-96FA-CB7116C114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B36E56B-891A-4ED7-80E0-239EFB65D8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1E1E972-F986-4311-84CF-24B9B15E2C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01E0157-AF4F-446E-BD3C-3F07FD89E8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E5A8680-3F5F-411B-9BC4-77110E5400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AA72121-AA6D-4D12-8DA9-60109A876F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7E0BBC1-E01A-44A6-85BA-1E0C6C1CDC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6047877-F0D5-4258-99F5-1DF53D0E11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0B590F8-CCF6-479C-80B2-33C2E65511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F4EA3D3-91CF-4B64-980B-FD0ACE95CD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21E7B95-92DA-4C6F-A1E8-B21E347173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DAC22B7-9860-455F-99BC-327092C7AF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64C14EA-E7B5-4212-8384-2D8D506AAC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3E6A9DE-AB04-41C9-9AC6-1A69F3C449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8964B78-F3FE-45D2-A6F9-3AF1BE62D9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37585C8-6745-4818-AE64-B1FD473CF4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AA5CE06-47C4-4F54-983A-3826A91467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6E08E4A-4E32-4883-A3CA-3A77A345BC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AB32B55-2395-491B-9250-5D325B7181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E32F0D4-159C-4C8D-AD10-A6C6147691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DE0D34D-BDB0-4BB1-B075-7A5F2211C6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F06A45C-E162-4079-ABB5-08777894C8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C9454E0-11A9-4428-9992-3E6CBBFA62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4427E03-D703-4990-85CA-0CBD46D499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27E58FD-F764-4D6E-B6FF-09EC063E21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0927361-0257-41E7-92DE-7C14D4BB39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325FBC9-D941-49CA-BEB0-4E7AAAD7E3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C5969B9-5622-4E51-BBCA-C427504665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13FECEC-527B-4485-99EE-B5AEF6722F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2BFD12F-73EE-4C97-9AD2-8E794F13E5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6E0E95E-9FEF-440A-AC26-924F2425E9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FC5348C-5DD3-4B8E-BCC6-F388FFE439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9D24D45-3501-4470-955D-00530DDD3D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453CAD3-00A4-4DFF-961A-D5ECCD3293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A50967E-809B-4CCE-9649-D76F879FFF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1F501BC-C491-4665-9676-8CC8B1188E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401B0DE-A3AE-47DA-A928-FDC0CB71E1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DE85FF8-01FC-4960-A01C-A299307456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1520797-885C-4C61-9B96-879B100D7E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B0DFA96-B2EB-4ABD-A204-7E71B56181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C63C137-F2EB-4969-9AF9-929196F722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460C8E5-A0EE-42FF-87F5-F6F2F75094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FEBD9-67F9-4897-986D-FFDDFD1D04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B1727-1214-4830-831D-F39802FC45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AE55F-391C-423B-B0C3-13992B8568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49C64-051B-48A1-A8B1-C0B71FD28B9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FF117-AC3E-4175-9C25-EDA71BCD638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4D7C2-44B1-4B8A-9779-3747A2F7B3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76EF7-DF6E-49E3-9431-4E366FA699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4AABF-5F3F-4951-A888-FA03E9A28B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7131F-3307-4A47-A98D-0DE216F363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B5CA0-ED60-409D-B5A3-17A27E3D83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2993B-45FC-4BC1-9480-5B14B95626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4978A-EBC6-4A2E-9C6A-A8FA5005E1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0A614F-40EB-4630-BEB1-DF36397243C3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spcBef>
                <a:spcPts val="9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High Throughput Computing with Condor at Purdu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SEDE ECSS Monthly Symposi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2"/>
          <p:cNvSpPr/>
          <p:nvPr/>
        </p:nvSpPr>
        <p:spPr>
          <a:xfrm>
            <a:off x="2971800" y="328680"/>
            <a:ext cx="49528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ond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s are vacated when a PBS job sta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ng running jobs may never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home directory across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ratch directories roughly per-clus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7 TB of checkpoint storage for standard universe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Univer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nilla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esn't require a recomp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native checkpoint mech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reams I/O (can overload the submit nod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pports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fork(), shared memory, pi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le transf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vanilla universe fea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jobs to flow to oth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2"/>
          <a:stretch/>
        </p:blipFill>
        <p:spPr>
          <a:xfrm>
            <a:off x="2662200" y="2631960"/>
            <a:ext cx="3738600" cy="371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piling for Cond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tandard universe requir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compi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 wraps a limited compiler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s against Condor libraries to add support for I/O streaming and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eckpoin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all state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ers state information to Condor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etes job from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arts interrupted job on another unused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lifecyc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is submit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eduler process contacts negotiator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otiator matches job to an available sl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 slots are available, scheduler contacts remote negoti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te node runs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job gets evicted, scheduler process contacts negotiator process ag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submit fi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simple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guments = 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stand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rror = log/$(Cluster).$(Process).er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utput = log/$(Cluster).$(Process).o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file transfe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process_files.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vanil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houldTransferFiles = if_nee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input_files = input.d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output_files = output.p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submitted with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 myjobfile.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naging job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all jobs in queue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only user's jobs: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condor_q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us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iral"/>
              </a:rPr>
              <a:t>Why isn't my job running?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 -better-analyze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a job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rm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Condor? Why not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mitting and managing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itable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tries to be helpful by inserting automatic job requir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S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leSystem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mory &gt;= ImageSi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sometimes over-constrains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quirements attribute gives you the flexibility to add or remove execute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files are in your home direc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regexp(“rcac.purdue.edu”,FilesystemDomai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executable is a Windows bin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(OpSys==“WINNT61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pecial note about Mem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sometimes overestimates the memory usage of a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Condor reports totalmemory/cores, but jobs are not memory constrain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It’s best to put a dummy memory requirement in the submission 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"/>
          <p:cNvSpPr/>
          <p:nvPr/>
        </p:nvSpPr>
        <p:spPr>
          <a:xfrm>
            <a:off x="2971800" y="312840"/>
            <a:ext cx="49528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tting the most out of your cores: Rank = 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prefer a job land on particular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prefer 64-bit nodes with lots of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ank = (ARCH==“X86_64”)*1000 +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kflow management with DAGm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ed Acyclic Graph Mana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ines parent-child relationships among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lows pre- and post-execution hoo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mit with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ondor_submit_da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1"/>
          <p:cNvSpPr/>
          <p:nvPr/>
        </p:nvSpPr>
        <p:spPr>
          <a:xfrm>
            <a:off x="2438280" y="274680"/>
            <a:ext cx="556272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457200" y="1873080"/>
            <a:ext cx="8077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3581280" y="16002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3581280" y="43434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3887280" y="4572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3887640" y="1828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22096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25164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49528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52596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Line 11"/>
          <p:cNvSpPr/>
          <p:nvPr/>
        </p:nvSpPr>
        <p:spPr>
          <a:xfrm flipH="1">
            <a:off x="2665080" y="2438280"/>
            <a:ext cx="1374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2"/>
          <p:cNvSpPr/>
          <p:nvPr/>
        </p:nvSpPr>
        <p:spPr>
          <a:xfrm>
            <a:off x="4038480" y="2438280"/>
            <a:ext cx="14479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13"/>
          <p:cNvSpPr/>
          <p:nvPr/>
        </p:nvSpPr>
        <p:spPr>
          <a:xfrm>
            <a:off x="2743200" y="3809880"/>
            <a:ext cx="12952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Line 14"/>
          <p:cNvSpPr/>
          <p:nvPr/>
        </p:nvSpPr>
        <p:spPr>
          <a:xfrm flipH="1">
            <a:off x="3960720" y="3809880"/>
            <a:ext cx="15271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 Diamond-shaped DA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First    p_00060.A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1 p_00060.B1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2 p_00060.B2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Third    p_00060.C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First CHILD Second_1 Second_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Second_1 Second_2 CHILD Thi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re complex DAG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3429000" y="1447920"/>
            <a:ext cx="2057400" cy="512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 Benefits from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te Carlo simul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meter swee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barrassingly parallel”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urdue’s Condor Us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457200" y="1600200"/>
            <a:ext cx="8229600" cy="46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al Bi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cal Engine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informa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mate Visual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ed Rend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Energy Phys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roduct of the University of Wisconsin-Madi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job schedu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esource mana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orkflow management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ed on High Throughput Compu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 more inform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University of Wisconsin websit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http://research.cs.wisc.edu/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Emai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bcotton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rcac-help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 (HTC)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amounts of proces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 period of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TC  v.  HP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457200" y="1600200"/>
            <a:ext cx="822960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PS extracted v. FLO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Ownership v. Central Owner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turing Idle Cycles v. Losing Idl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oughput v. Response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Memory v. Tightly-coupled Mem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000 Jobs v. 1 Jo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"/>
          <p:cNvSpPr/>
          <p:nvPr/>
        </p:nvSpPr>
        <p:spPr>
          <a:xfrm>
            <a:off x="2971800" y="374760"/>
            <a:ext cx="4952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y Cond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ted comput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eduling of related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co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vantages of Cond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457200" y="1600200"/>
            <a:ext cx="8229600" cy="47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tasks running at o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powerful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wasted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mal impact on remote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ttle or no code modif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advantages of 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ete for ac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sk may take longer to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ing can be l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aren’t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files can impact the remote compu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erogeneity of the remote compu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w compatible compil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on large cyberinfrastructure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in distributed deskto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as a scavenger of free cy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not suppor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27K Linux cores and 1K Windows c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more kilocores at DiaGrid partn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0T01:42:49Z</dcterms:created>
  <dc:creator>Thomas Kesler</dc:creator>
  <dc:description/>
  <dc:language>en-US</dc:language>
  <cp:lastModifiedBy>Ben Cotton</cp:lastModifiedBy>
  <dcterms:modified xsi:type="dcterms:W3CDTF">2012-01-10T17:42:20Z</dcterms:modified>
  <cp:revision>349</cp:revision>
  <dc:subject/>
  <dc:title>Condor Project</dc:title>
</cp:coreProperties>
</file>