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5BC46A-4737-4C25-ADD8-DCB5C75183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F20D75D-9354-42A8-A7BB-FADC40C5C5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62A07-CC16-4F40-8F18-4AACB6762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7444B-8AA1-4BB8-8154-D73559E88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AB2F1-AEAF-4FCE-A655-98DDF326B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A30F7-956C-461A-8AC4-330EBE45F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2A961-D4AD-4B93-95DB-AE640BFA0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67518-68D1-4DB6-81B1-277935782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D33F4-22B5-45D8-A3A0-F92445690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A811A-2486-40C4-9B00-A5B929ECF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62918-9695-41EA-9C56-DD78D2C9A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888D1-4FA4-42B1-B2D4-38AA00541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6416D-9F5A-4753-AFDB-F0DB06490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6A879-4625-46E9-80AE-7190A5B8E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5402DAF-1066-41FA-96A1-C34E1B44E7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airavata.org/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826920"/>
            <a:ext cx="7772400" cy="277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periences Developing Tools for Scientific Communities in the Apache Software Foundation: Beyond Open Sourc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Marlon Pier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Indiana Univers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ebruary 14, 201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Box 3"/>
          <p:cNvSpPr/>
          <p:nvPr/>
        </p:nvSpPr>
        <p:spPr>
          <a:xfrm>
            <a:off x="8534520" y="6573960"/>
            <a:ext cx="544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595959"/>
                </a:solidFill>
                <a:latin typeface="Arial"/>
                <a:ea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Box 4"/>
          <p:cNvSpPr/>
          <p:nvPr/>
        </p:nvSpPr>
        <p:spPr>
          <a:xfrm>
            <a:off x="353880" y="179280"/>
            <a:ext cx="8180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old"/>
                <a:ea typeface="Arial Bold"/>
              </a:rPr>
              <a:t>Apache Rav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Box 5"/>
          <p:cNvSpPr/>
          <p:nvPr/>
        </p:nvSpPr>
        <p:spPr>
          <a:xfrm>
            <a:off x="353880" y="1284120"/>
            <a:ext cx="8479080" cy="442152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old"/>
                <a:ea typeface="Arial Bold"/>
              </a:rPr>
              <a:t>Open Community Software for Enterprise Social Networking, Shareable Web Components, and Science Gateway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ounding member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itre Softwa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RFn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Hippo Softwa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diana Univers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inform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 Website: http://incubator.apache.org/rave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iling List: rave-dev@incubator.apache.org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3" descr="Screen shot 2011-11-17 at 7.15.18 PM.png"/>
          <p:cNvPicPr/>
          <p:nvPr/>
        </p:nvPicPr>
        <p:blipFill>
          <a:blip r:embed="rId1"/>
          <a:srcRect l="3050" t="2606" r="2728" b="5466"/>
          <a:stretch/>
        </p:blipFill>
        <p:spPr>
          <a:xfrm>
            <a:off x="0" y="0"/>
            <a:ext cx="4802040" cy="44751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Screen shot 2011-11-17 at 7.13.08 PM.png"/>
          <p:cNvPicPr/>
          <p:nvPr/>
        </p:nvPicPr>
        <p:blipFill>
          <a:blip r:embed="rId2"/>
          <a:srcRect l="4268" t="2157" r="2905" b="3027"/>
          <a:stretch/>
        </p:blipFill>
        <p:spPr>
          <a:xfrm>
            <a:off x="4246560" y="2143080"/>
            <a:ext cx="4897440" cy="4657680"/>
          </a:xfrm>
          <a:prstGeom prst="rect">
            <a:avLst/>
          </a:prstGeom>
          <a:ln w="0">
            <a:noFill/>
          </a:ln>
        </p:spPr>
      </p:pic>
      <p:sp>
        <p:nvSpPr>
          <p:cNvPr id="72" name="TextBox 5"/>
          <p:cNvSpPr/>
          <p:nvPr/>
        </p:nvSpPr>
        <p:spPr>
          <a:xfrm>
            <a:off x="5614920" y="177840"/>
            <a:ext cx="3046320" cy="94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adget Dashboard Vie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6"/>
          <p:cNvSpPr/>
          <p:nvPr/>
        </p:nvSpPr>
        <p:spPr>
          <a:xfrm>
            <a:off x="403200" y="5168880"/>
            <a:ext cx="2909880" cy="94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adget Stor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ie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4" name="Shape 8"/>
          <p:cNvCxnSpPr>
            <a:stCxn id="72" idx="2"/>
          </p:cNvCxnSpPr>
          <p:nvPr/>
        </p:nvCxnSpPr>
        <p:spPr>
          <a:xfrm rot="5400000">
            <a:off x="5743080" y="191880"/>
            <a:ext cx="454680" cy="2337840"/>
          </a:xfrm>
          <a:prstGeom prst="bentConnector2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75" name="Shape 9"/>
          <p:cNvCxnSpPr/>
          <p:nvPr/>
        </p:nvCxnSpPr>
        <p:spPr>
          <a:xfrm>
            <a:off x="3312720" y="5646240"/>
            <a:ext cx="93420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tending Rave for Science Gateway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9068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Rave is designed to be extended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Good design (interfaces, easily pluggable implementations) and code organization are required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t helps to have a diverse, distributed developer communi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can you work on it if we can’t work on it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Rave is also packaged so that you can extend it without touching the source tre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GCE11 paper presented 3 case studies for Science Gateways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Apache Way and Science Gateway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y Apache for Gateway Software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417680"/>
            <a:ext cx="8229600" cy="5137200"/>
          </a:xfrm>
          <a:prstGeom prst="rect">
            <a:avLst/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Apache Software Foundation is a </a:t>
            </a: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neutral playing field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501(c)(3) non-profit organizatio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Designed to encourage competitors to collaborate on foundational softwar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cludes a legal cell for legal issu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Foundation itself is sustainabl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corporated in 1999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Multiple sponsors (Yahoo, Microsoft, Google, AMD, Facebook, IBM, …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Proven governance model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jects are run by Program Management Committe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New projects must go through incubatio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Provides the social infrastructure for building communitie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Opportunities to collaborate with other Apache projects outside the usual CI world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Apache Wa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417320"/>
            <a:ext cx="8229600" cy="527364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jects start as incubators with 1 champion and several mentor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Making good choices is very importan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Graduation ultimately is judged by the Apache community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+1/-1 votes on the incubator lis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Good, open engineering practices requir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DEV mailing list design discussions, issue tracking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Jira contribution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Important decisions are voted on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perly packaged cod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Build out of the box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Releases are signe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Licenses, disclaimers, notices, change logs, etc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Releases are vote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Developer diversit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Three or more unconnected developer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Price is giving up sole ownership, replace with meritocracy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ache and Science Gateway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599840"/>
            <a:ext cx="8229600" cy="47768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rewards projects for cross-pollination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nnecting with complementary Apache projects strengthens both side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New requirements, new development method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methods foster sustainabilit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Building communities of developers, not just us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Key merit criter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methods provide governanc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ncubators learn best practices from mento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Releases are peer-review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pache Contributions Aren’t Just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committers and PMC members aren’t just code writer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uccessful communities also includ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mportant us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Project evangelist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ntent providers: documentation, tutorial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esters, requirements providers, and constructive complainer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Using Jira and mailing lis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Anything else that needs doing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To Get Involv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Join the DEV mailing lis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Grab the software and start complain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ost Jira ticket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dd your patches to Jira if you want to solve a proble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requent patch submission is the best way to get voted in as a committ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U Science Gateway Group Overview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84040" y="1417320"/>
            <a:ext cx="8685360" cy="515916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IU Science Gateway Group members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Marlon Pierce: Group Le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uresh Marru: Principal Software Archit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Raminder Singh, Chathura Herath, Yu Ma, Lahiru Gunathilake: Senior team memb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ve interns and research assista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NSF SDCI funding of Open Gateway Computing Environments project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ACC (M. Dahan), SDSC (N. Wilkins-Diehr), SDSU (M. Thomas), NCSA (S. Pamidighantam), UIUC (S. Wang), Purdue (C. Song), UTHSCSA (E. Brookes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We participate in two Apache incubator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pache Rave: http://incubator.apache.org/rave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pache Airavata: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www.airavata.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Key Problems for Science Gateway, CI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599840"/>
            <a:ext cx="8229600" cy="49878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Reusability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Reuse or write own gateway softwar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Sustainability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Small team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Successful gateways become infrastructure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Hard to fun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Cyberinfrastructure Software Sustainability and Reusability: Report from an NSF-funded workshop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https://scholarworks.iu.edu/dspace/handle/2022/6701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Governanc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are design decisions mad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Who decides if the software is suitable for releas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do you handle contributions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do you add people to the development and project management teams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posed Solution: Open Community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8064a2"/>
          </a:solidFill>
          <a:ln w="25560">
            <a:solidFill>
              <a:srgbClr val="5c477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ore than SourceForge, GitHub, Google Code, et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ose provide excellent Web tools to help develope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ere we are concerned with community build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Diverse community of developers means reusability and sustainabil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But diverse communities require govern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me Open Model Examples in C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271080" y="1417680"/>
            <a:ext cx="8596440" cy="5114880"/>
          </a:xfrm>
          <a:prstGeom prst="rect">
            <a:avLst/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NSF-funded CDIGS projec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ttp://confluence.globus.org/display/CDIGS/CDIGS+Home+Pag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HUBzero Consortium, Sakai Foundat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stitutional level organization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Eclipse Parallel Tools Platform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Jay Alameda, NCSA: NSF SI2 funding to develop HPC tools workbench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ttp://www.eclipse.org/ptp/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Enzo Projec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Excellent talk at TG11 by Prof. Brian O’Shea on their open community effor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ttp://enzo-project.org/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Apache Software Foundat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OODT and TIKKA Data Management Projects at NASA JP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wo Apache Software Foundation Case Stud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Apache Rave and Airavata Incuba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ache Airava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749840"/>
          </a:xfrm>
          <a:prstGeom prst="rect">
            <a:avLst/>
          </a:pr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cience Gateway software framework t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mpose, manage, execute, and monitor computational workflows on Grids and Cloud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Web service abstractions to legacy command line-driven scientific applicat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Modular software framework to use as individual components or as an integrated solution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More Inform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Airavata Web Site: airavata.or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Developer Mailing Lists: airavata-dev@incubator.apache.or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89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pache Airavata High Level Overvi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4" descr="airavata.png"/>
          <p:cNvPicPr/>
          <p:nvPr/>
        </p:nvPicPr>
        <p:blipFill>
          <a:blip r:embed="rId1"/>
          <a:stretch/>
        </p:blipFill>
        <p:spPr>
          <a:xfrm>
            <a:off x="330120" y="1125360"/>
            <a:ext cx="8607600" cy="51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Screen Shot 2011-11-14 at 10.07.37 PM.png"/>
          <p:cNvPicPr/>
          <p:nvPr/>
        </p:nvPicPr>
        <p:blipFill>
          <a:blip r:embed="rId1"/>
          <a:srcRect l="3998" t="3131" r="4075" b="9547"/>
          <a:stretch/>
        </p:blipFill>
        <p:spPr>
          <a:xfrm>
            <a:off x="347760" y="1228680"/>
            <a:ext cx="8405640" cy="502272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ample Workflow: Nuclear Physic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5"/>
          <p:cNvSpPr/>
          <p:nvPr/>
        </p:nvSpPr>
        <p:spPr>
          <a:xfrm>
            <a:off x="1334160" y="6350040"/>
            <a:ext cx="66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urtesy of collaboration with Prof. James Vary and team, Iowa Sta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4T13:29:26Z</dcterms:created>
  <dc:creator>Marlon Pierce</dc:creator>
  <dc:description/>
  <dc:language>en-US</dc:language>
  <cp:lastModifiedBy>Marlon Pierce</cp:lastModifiedBy>
  <dcterms:modified xsi:type="dcterms:W3CDTF">2012-02-14T17:31:30Z</dcterms:modified>
  <cp:revision>45</cp:revision>
  <dc:subject/>
  <dc:title>PowerPoint Presentation</dc:title>
</cp:coreProperties>
</file>