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2585C-5743-42F4-AFC9-9CC79FF24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5DF9D-AFEC-4FF7-B7DB-193A7AC87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F39-EB35-4279-985C-5B5A307D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D89-3E7C-4D36-8161-65963021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C7A-5064-4A78-B3ED-1321A7AD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F1B-BAB7-4921-9CC3-48130A5C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44D-365F-48F6-A622-84BCC986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233-5EB0-4AED-9F41-E1C432B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9AD-8627-4866-BBC1-42D4B4D3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91E-637C-4396-BF69-BDE1A855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B39-73AD-40E1-B956-92575542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33F-A27A-4BD7-8767-83594BB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A01-1BE2-49D9-8599-294947D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020-EEE5-4975-BB43-5CE61378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1D219-D978-49DA-864A-D8B6D0E25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ravat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eriences Developing Tools for Scientific Communities in the Apache Software Foundation: Beyond Open Sou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lon Pi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14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34520" y="6573960"/>
            <a:ext cx="54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53880" y="179280"/>
            <a:ext cx="81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  <a:ea typeface="Arial Bold"/>
              </a:rPr>
              <a:t>Apache R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53880" y="1284120"/>
            <a:ext cx="8479080" cy="44215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  <a:ea typeface="Arial Bold"/>
              </a:rPr>
              <a:t>Open Community Software for Enterprise Social Networking, Shareable Web Components, and Science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unding memb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re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RF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ppo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 Websit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ing List: rave-dev@incubator.apache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1-11-17 at 7.15.18 PM.png"/>
          <p:cNvPicPr/>
          <p:nvPr/>
        </p:nvPicPr>
        <p:blipFill>
          <a:blip r:embed="rId1"/>
          <a:srcRect l="3050" t="2606" r="2728" b="5466"/>
          <a:stretch/>
        </p:blipFill>
        <p:spPr>
          <a:xfrm>
            <a:off x="0" y="0"/>
            <a:ext cx="4802040" cy="447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creen shot 2011-11-17 at 7.13.08 PM.png"/>
          <p:cNvPicPr/>
          <p:nvPr/>
        </p:nvPicPr>
        <p:blipFill>
          <a:blip r:embed="rId2"/>
          <a:srcRect l="4268" t="2157" r="2905" b="3027"/>
          <a:stretch/>
        </p:blipFill>
        <p:spPr>
          <a:xfrm>
            <a:off x="4246560" y="2143080"/>
            <a:ext cx="4897440" cy="4657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614920" y="177840"/>
            <a:ext cx="30463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Dashboard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03200" y="5168880"/>
            <a:ext cx="2909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dget St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hape 8"/>
          <p:cNvCxnSpPr>
            <a:stCxn id="72" idx="2"/>
          </p:cNvCxnSpPr>
          <p:nvPr/>
        </p:nvCxnSpPr>
        <p:spPr>
          <a:xfrm rot="5400000">
            <a:off x="5743080" y="191880"/>
            <a:ext cx="454680" cy="233784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Shape 9"/>
          <p:cNvCxnSpPr/>
          <p:nvPr/>
        </p:nvCxnSpPr>
        <p:spPr>
          <a:xfrm>
            <a:off x="3312720" y="5646240"/>
            <a:ext cx="93420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tending Rave for Science Gate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9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designed to be extend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ood design (interfaces, easily pluggable implementations) and code organization are requi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t helps to have a diverse, distributed developer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can you work on it if we can’t work on i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ave is also packaged so that you can extend it without touching the source tr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CE11 paper presented 3 case studies for Science Gateway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pache for Gateway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680"/>
            <a:ext cx="8229600" cy="51372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 is a </a:t>
            </a: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neutral playing fi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01(c)(3) non-profit organiz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igned to encourage competitors to collaborate on foundational softw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ludes a legal cell for legal issu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undation itself is sustain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corporated in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ltiple sponsors (Yahoo, Microsoft, Google, AMD, Facebook, IBM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en governance mod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are run by Program Management Committ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ew projects must go through incub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Provides the social infrastructure for building communiti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pportunities to collaborate with other Apache projects outside the usual CI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ache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17320"/>
            <a:ext cx="8229600" cy="52736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jects start as incubators with 1 champion and several men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Making good choices is very impor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duation ultimately is judged by the Apache commun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+1/-1 votes on the incubator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ood, open engineering practice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DEV mailing list design discussions, issu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Jira contrib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Important decisions are voted 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perly packaged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uild out of the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sig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Licenses, disclaimers, notices, change log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Releases are vo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veloper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Three or more unconnected develop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Price is giving up sole ownership, replace with merit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nd Science Gate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76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rewards projects for cross-pollin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necting with complementary Apache projects strengthens both si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 requirements, new development meth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foster sustain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ilding communities of developers, not jus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ey merit criter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methods provide gover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ubators learn best practices from men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leases are peer-review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ache Contributions Aren’t Just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pache committers and PMC members aren’t just code wri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uccessful communities also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mportan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ject evangeli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ntent providers: documentation, tutori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esters, requirements providers, and constructive complai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ing Jira and mailing 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nything else that needs do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Invol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oin the DEV mailing 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b the software and star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t Jira tick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d your patches to Jira if you want to solv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equent patch submission is the best way to get voted in as a commit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U Science Gateway Group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040" y="1417320"/>
            <a:ext cx="8685360" cy="51591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U Science Gateway Group me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lon Pierce: Group L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resh Marru: Principal Software Archit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minder Singh, Chathura Herath, Yu Ma, Lahiru Gunathilake: Senior team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ve interns and research assist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NSF SDCI funding of Open Gateway Computing Environments projec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CC (M. Dahan), SDSC (N. Wilkins-Diehr), SDSU (M. Thomas), NCSA (S. Pamidighantam), UIUC (S. Wang), Purdue (C. Song), UTHSCSA (E. Brook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 participate in two Apache incuba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Rave: http://incubator.apache.org/rav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ache Airavata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ww.airavat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Problems for Science Gateway, CI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8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Reus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use or write own gateway softwa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Sustainabi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mal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uccessful gateways become infrastruc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ard to f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yberinfrastructure Software Sustainability and Reusability: Report from an NSF-funded work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ttps://scholarworks.iu.edu/dspace/handle/2022/67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alibri"/>
              </a:rPr>
              <a:t>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design decisions ma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o decides if the software is suitable for releas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handle contribu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 you add people to the development and project management tea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olution: Open Community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than SourceForge, GitHub, Google Code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se provide excellent Web tools to help develo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 we are concerned with community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verse community of developers means reusability and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t diverse communities require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pen Model Examples in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1080" y="1417680"/>
            <a:ext cx="8596440" cy="51148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NSF-funded CDIG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confluence.globus.org/display/CDIGS/CDIGS+Home+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HUBzero Consortium, Sakai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stitutional level organiz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lipse Parallel Tools Platfo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y Alameda, NCSA: NSF SI2 funding to develop HPC tools workben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eclipse.org/ptp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nzo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cellent talk at TG11 by Prof. Brian O’Shea on their open community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enzo-project.org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pache Software Found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ODT and TIKKA Data Management Projects at NASA JP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Apache Software Foundation 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ache Rave and Airavata Incub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Airav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ience Gateway software framework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mpose, manage, execute, and monitor computational workflows on Grids and Clou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Web service abstractions to legacy command line-driven scientific ap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odular software framework to use as individual components or as an integrated sol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iravata Web Site: airavata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eveloper Mailing Lists: airavata-dev@incubator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Airavata High Level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airavata.png"/>
          <p:cNvPicPr/>
          <p:nvPr/>
        </p:nvPicPr>
        <p:blipFill>
          <a:blip r:embed="rId1"/>
          <a:stretch/>
        </p:blipFill>
        <p:spPr>
          <a:xfrm>
            <a:off x="330120" y="1125360"/>
            <a:ext cx="86076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 Shot 2011-11-14 at 10.07.37 PM.png"/>
          <p:cNvPicPr/>
          <p:nvPr/>
        </p:nvPicPr>
        <p:blipFill>
          <a:blip r:embed="rId1"/>
          <a:srcRect l="3998" t="3131" r="4075" b="9547"/>
          <a:stretch/>
        </p:blipFill>
        <p:spPr>
          <a:xfrm>
            <a:off x="347760" y="1228680"/>
            <a:ext cx="8405640" cy="502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Workflow: Nuclear Phy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334160" y="635004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tesy of collaboration with Prof. James Vary and team, Iowa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29:26Z</dcterms:created>
  <dc:creator>Marlon Pierce</dc:creator>
  <dc:description/>
  <dc:language>en-US</dc:language>
  <cp:lastModifiedBy>Marlon Pierce</cp:lastModifiedBy>
  <dcterms:modified xsi:type="dcterms:W3CDTF">2012-02-14T17:31:30Z</dcterms:modified>
  <cp:revision>45</cp:revision>
  <dc:subject/>
  <dc:title>PowerPoint Presentation</dc:title>
</cp:coreProperties>
</file>