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DDA385-3DA5-45D2-9EEE-7FBC1DC9C1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CFDDB8-AF56-44E9-AFB8-BCB8D6E012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F5BE-01D0-4170-A7BD-FA2F25FF1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97A8-05BF-4AF5-ADD4-A403E415C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CBE8-3496-4125-A80A-5E9883752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41D5-7B26-4B12-86D8-530B80C97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3D31-91F6-4AC7-B783-3D264A04F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7110-6C3E-4BCF-B1FA-1A2C93E0C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8BF7-3223-4BEE-B48A-5EE206DD4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5BAD-F554-4207-AD59-49E3AC5E4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027F-2360-4060-B399-BC2818940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97EE-F5C7-46AB-B488-3331A9213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1209-7CC4-41DF-8F20-5DE644667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BEFE-C55C-499F-A8E7-C88D757EB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CF5321-F6C0-4558-8A3C-BA10745B54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airavata.org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26920"/>
            <a:ext cx="7772400" cy="27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periences Developing Tools for Scientific Communities in the Apache Software Foundation: Beyond Open Sour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arlon Pier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Indiana Univers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ebruary 14, 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3"/>
          <p:cNvSpPr/>
          <p:nvPr/>
        </p:nvSpPr>
        <p:spPr>
          <a:xfrm>
            <a:off x="8534520" y="6573960"/>
            <a:ext cx="544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595959"/>
                </a:solidFill>
                <a:latin typeface="Arial"/>
                <a:ea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353880" y="179280"/>
            <a:ext cx="818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old"/>
                <a:ea typeface="Arial Bold"/>
              </a:rPr>
              <a:t>Apache Rav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5"/>
          <p:cNvSpPr/>
          <p:nvPr/>
        </p:nvSpPr>
        <p:spPr>
          <a:xfrm>
            <a:off x="353880" y="1284120"/>
            <a:ext cx="8479080" cy="44215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old"/>
                <a:ea typeface="Arial Bold"/>
              </a:rPr>
              <a:t>Open Community Software for Enterprise Social Networking, Shareable Web Components, and Science Gatew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ounding member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itre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RFn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ippo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diana Univers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info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 Websit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iling List: rave-dev@incubator.apache.or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Screen shot 2011-11-17 at 7.15.18 PM.png"/>
          <p:cNvPicPr/>
          <p:nvPr/>
        </p:nvPicPr>
        <p:blipFill>
          <a:blip r:embed="rId1"/>
          <a:srcRect l="3050" t="2606" r="2728" b="5466"/>
          <a:stretch/>
        </p:blipFill>
        <p:spPr>
          <a:xfrm>
            <a:off x="0" y="0"/>
            <a:ext cx="4802040" cy="4475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Screen shot 2011-11-17 at 7.13.08 PM.png"/>
          <p:cNvPicPr/>
          <p:nvPr/>
        </p:nvPicPr>
        <p:blipFill>
          <a:blip r:embed="rId2"/>
          <a:srcRect l="4268" t="2157" r="2905" b="3027"/>
          <a:stretch/>
        </p:blipFill>
        <p:spPr>
          <a:xfrm>
            <a:off x="4246560" y="2143080"/>
            <a:ext cx="4897440" cy="4657680"/>
          </a:xfrm>
          <a:prstGeom prst="rect">
            <a:avLst/>
          </a:prstGeom>
          <a:ln w="0">
            <a:noFill/>
          </a:ln>
        </p:spPr>
      </p:pic>
      <p:sp>
        <p:nvSpPr>
          <p:cNvPr id="72" name="TextBox 5"/>
          <p:cNvSpPr/>
          <p:nvPr/>
        </p:nvSpPr>
        <p:spPr>
          <a:xfrm>
            <a:off x="5614920" y="177840"/>
            <a:ext cx="304632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Dashboard 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403200" y="5168880"/>
            <a:ext cx="290988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Stor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4" name="Shape 8"/>
          <p:cNvCxnSpPr>
            <a:stCxn id="72" idx="2"/>
          </p:cNvCxnSpPr>
          <p:nvPr/>
        </p:nvCxnSpPr>
        <p:spPr>
          <a:xfrm rot="5400000">
            <a:off x="5743080" y="191880"/>
            <a:ext cx="454680" cy="2337840"/>
          </a:xfrm>
          <a:prstGeom prst="bentConnector2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75" name="Shape 9"/>
          <p:cNvCxnSpPr/>
          <p:nvPr/>
        </p:nvCxnSpPr>
        <p:spPr>
          <a:xfrm>
            <a:off x="3312720" y="5646240"/>
            <a:ext cx="93420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tending Rave for Science Gateway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906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designed to be extende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Good design (interfaces, easily pluggable implementations) and code organization are require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t helps to have a diverse, distributed developer commun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can you work on it if we can’t work on it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also packaged so that you can extend it without touching the source tre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GCE11 paper presented 3 case studies for Science Gateway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y Apache for Gateway Softwar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417680"/>
            <a:ext cx="8229600" cy="513720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 is a </a:t>
            </a: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neutral playing fiel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501(c)(3) non-profit organiz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signed to encourage competitors to collaborate on foundational softwar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ludes a legal cell for legal issu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Foundation itself is sustaina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orporated in 1999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Multiple sponsors (Yahoo, Microsoft, Google, AMD, Facebook, IBM, 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en governance model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are run by Program Management Committe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New projects must go through incub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ides the social infrastructure for building communitie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Opportunities to collaborate with other Apache projects outside the usual CI world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417320"/>
            <a:ext cx="8229600" cy="527364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start as incubators with 1 champion and several mentor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Making good choices is very importan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raduation ultimately is judged by the Apache community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+1/-1 votes on the incubator lis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ood, open engineering practices requir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DEV mailing list design discussions, issue trackin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Jira contribution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Important decisions are voted o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perly packaged cod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Build out of the box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sign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Licenses, disclaimers, notices, change logs, etc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vot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veloper divers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Three or more unconnected developer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Price is giving up sole ownership, replace with meritocrac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599840"/>
            <a:ext cx="8229600" cy="4776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rewards projects for cross-pollinat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necting with complementary Apache projects strengthens both sid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New requirements, new development metho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foster sustainabil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Building communities of developers, not jus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Key merit criter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provide governan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ncubators learn best practices from mento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Releases are peer-review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pache Contributions Aren’t Just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committers and PMC members aren’t just code writer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uccessful communities also includ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mportan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Project evangelist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tent providers: documentation, tutoria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esters, requirements providers, and constructive complainer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Using Jira and mailing lis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nything else that needs doing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To Get Involv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Join the DEV mailing lis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rab the software and start complain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ost Jira ticke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dd your patches to Jira if you want to solve a probl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requent patch submission is the best way to get voted in as a committ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U Science Gateway Group Overview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84040" y="1417320"/>
            <a:ext cx="8685360" cy="515916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IU Science Gateway Group member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arlon Pierce: Group Le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uresh Marru: Principal Software Archit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aminder Singh, Chathura Herath, Yu Ma, Lahiru Gunathilake: Senior team memb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ve interns and research assist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NSF SDCI funding of Open Gateway Computing Environments project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ACC (M. Dahan), SDSC (N. Wilkins-Diehr), SDSU (M. Thomas), NCSA (S. Pamidighantam), UIUC (S. Wang), Purdue (C. Song), UTHSCSA (E. Brookes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We participate in two Apache incubator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Rav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Airavata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ww.airavata.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Key Problems for Science Gateway, CI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599840"/>
            <a:ext cx="8229600" cy="4987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Reus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Reuse or write own gateway softwar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Sustain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mall tea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uccessful gateways become infrastructur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ard to fun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Cyberinfrastructure Software Sustainability and Reusability: Report from an NSF-funded worksho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ttps://scholarworks.iu.edu/dspace/handle/2022/6701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Governanc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are design decisions mad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Who decides if the software is suitable for releas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handle contribution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add people to the development and project management team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posed Solution: Open Community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ore than SourceForge, GitHub, Google Code, et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ose provide excellent Web tools to help develop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ere we are concerned with community build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iverse community of developers means reusability and sustaina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ut diverse communities require govern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Open Model Examples in C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71080" y="1417680"/>
            <a:ext cx="8596440" cy="511488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NSF-funded CDIGS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confluence.globus.org/display/CDIGS/CDIGS+Home+Pag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HUBzero Consortium, Sakai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stitutional level organization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clipse Parallel Tools Platfor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Jay Alameda, NCSA: NSF SI2 funding to develop HPC tools workbenc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www.eclipse.org/ptp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nzo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Excellent talk at TG11 by Prof. Brian O’Shea on their open community effor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enzo-project.org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OODT and TIKKA Data Management Projects at NASA JP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wo Apache Software Foundation Case Stud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pache Rave and Airavata Incub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irav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74984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cience Gateway software framework 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mpose, manage, execute, and monitor computational workflows on Grids and Clou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Web service abstractions to legacy command line-driven scientific applica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odular software framework to use as individual components or as an integrated solutio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More Inform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iravata Web Site: airavata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Developer Mailing Lists: airavata-dev@incubator.apache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ache Airavata High Level 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4" descr="airavata.png"/>
          <p:cNvPicPr/>
          <p:nvPr/>
        </p:nvPicPr>
        <p:blipFill>
          <a:blip r:embed="rId1"/>
          <a:stretch/>
        </p:blipFill>
        <p:spPr>
          <a:xfrm>
            <a:off x="330120" y="1125360"/>
            <a:ext cx="860760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Screen Shot 2011-11-14 at 10.07.37 PM.png"/>
          <p:cNvPicPr/>
          <p:nvPr/>
        </p:nvPicPr>
        <p:blipFill>
          <a:blip r:embed="rId1"/>
          <a:srcRect l="3998" t="3131" r="4075" b="9547"/>
          <a:stretch/>
        </p:blipFill>
        <p:spPr>
          <a:xfrm>
            <a:off x="347760" y="1228680"/>
            <a:ext cx="8405640" cy="50227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 Workflow: Nuclear Physic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1334160" y="6350040"/>
            <a:ext cx="66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urtesy of collaboration with Prof. James Vary and team, Iowa St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4T13:29:26Z</dcterms:created>
  <dc:creator>Marlon Pierce</dc:creator>
  <dc:description/>
  <dc:language>en-US</dc:language>
  <cp:lastModifiedBy>Marlon Pierce</cp:lastModifiedBy>
  <dcterms:modified xsi:type="dcterms:W3CDTF">2012-02-14T17:31:30Z</dcterms:modified>
  <cp:revision>45</cp:revision>
  <dc:subject/>
  <dc:title>PowerPoint Presentation</dc:title>
</cp:coreProperties>
</file>