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22200" y="688680"/>
            <a:ext cx="459288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4CC6-C785-4478-BBFF-ED79096D5E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2872-5CE2-42BC-A09A-45976B6F15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C90-1CC6-4377-AFA2-727A1CB32F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FA37-7244-40B0-8593-5ABEEDDF8BD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E60-65A0-4DD8-BFB0-23A9415E09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126-A51B-4F8E-9365-CCB1876AF6B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83D1-0D94-4BD1-BCCB-4165833DC1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1237-5AF4-433C-8B24-89EE9DD132F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20E-C960-44FE-87E0-7A71D498D6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A2E-F7E6-4532-A18F-1807765B5E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E58E-ADBC-400C-A4A0-ADB6EDC5D1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CD6-C3BE-40DF-997F-0C9D3A334A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15BD-7AD2-423C-8635-928A7E19D3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2220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87720" y="8724960"/>
            <a:ext cx="3049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A2C0-B725-439E-B2B3-C61E51D340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59984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868560"/>
            <a:ext cx="2846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86856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599840"/>
            <a:ext cx="4313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88394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7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851040" cy="533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"/>
          <p:cNvPicPr/>
          <p:nvPr/>
        </p:nvPicPr>
        <p:blipFill>
          <a:blip r:embed="rId3"/>
          <a:stretch/>
        </p:blipFill>
        <p:spPr>
          <a:xfrm>
            <a:off x="304920" y="6248520"/>
            <a:ext cx="1143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de.google.com/p/p3dff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Ultrascalable Fourier Transforms in Three Dimensions</a:t>
            </a:r>
            <a:endParaRPr b="1" i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mitry Pekurovs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n Diego Supercomputer C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performa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portion of total time (up to 80%) is all-to-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dependent on optimal implementat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I_Alltoall (varies with vend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s for exchange are close in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load balance, predictabl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can be sensitive to choice of 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erformance dependance on processor grid shape 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xM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9" name="Chart 1" descr=""/>
          <p:cNvPicPr/>
          <p:nvPr/>
        </p:nvPicPr>
        <p:blipFill>
          <a:blip r:embed="rId1"/>
          <a:srcRect l="0" t="0" r="0" b="-28"/>
          <a:stretch/>
        </p:blipFill>
        <p:spPr>
          <a:xfrm>
            <a:off x="380880" y="167652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444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munication scaling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d network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to-all exchanges are directly aff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section band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inter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P decreases buffer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1/P scaling on fat-trees and other networks with full bisection bandwidth (until buffer size gets below the latency thresh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orus topology (Cray XT) bisection bandwidth is scaling as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apping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t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mputation performance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FFT, three tim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ride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mall str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arge stride (out of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 established library (ESSL, FFT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tion to keep data in original layout, or transpose so that the stride is alway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are then laid out as (Z,Y,X) instead of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p blocking to optimize cac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trong scaling on Cray XT5 (Kraken) at NICS/ORNL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04920" y="563868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, bes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b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ak Scaling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1206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id, double preci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hart 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D vs. 1D decomposition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Chart 3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pplications of 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DFFT has already been applied in a number of codes, in science fields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tential areas inclu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pace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-ray crystall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ic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NS turbulence 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umerical Simulations (DNS) code from Georgia Tech (P.K.Yeung et al.) to simulate isotropic turbulence on a cubic period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zed by disorderly, nonlinear fluctuations in 3D space and time that span a wide range of interacting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is an important tool for first-principles understanding of turbulence in great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al for new concepts and models as well as improved enginee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s of application include aeronautics, environment, combustion, meteorology, ocea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ree Model Problems for NSF’s Track 1 solic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57600" y="39607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algorithm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ucial to simulate grids with high resolution to minimize discretization effects, and study a w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length sca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unge-Kutt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for time-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seudospectral method to solve Navier-Stokes e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FFT is the most time-consuming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decomposition based on P3DFFT framework has been implement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roduction: Fast Fourier Transform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used in many areas of computational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dema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ache-friendly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 is st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n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-to-all exchange is an expensive operation, stressing bisection bandwidth of the host’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: providing a scalable, portable, easy to use implementation of 3D 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NS performance (Cray XT5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7480" cy="516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5791320"/>
            <a:ext cx="28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438280" y="3962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9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886200" y="1981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9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1: Interface and Flexi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the memory layout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other types of transform (e.g. complex-to-complex, Chebyshev) -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bility to isolate transposes so the user can design their own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host cell support/halo ex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rray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/computation overlap – requires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rs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PI/OpenM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- Ongoing work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art 2: Performance improvements</a:t>
            </a:r>
            <a:br>
              <a:rPr sz="32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15998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computing several FFTs at o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, e.g. velocit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communication stage of one variable with computation stage of another vari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uses large send buffers due to message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irwise exchange algorithm based on MPI-2 or SHME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arse-grain overlap, results on Mellanox ConnectX-2 cluster (64 and 128 cores)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4400" y="1365120"/>
            <a:ext cx="5562720" cy="3849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04920" y="5181480"/>
            <a:ext cx="853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.Kandalla, H.Subramoni, K.Tomko, D. Pekurovsky, S.Sur, D.Panda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gh-Performance and Scalable Non-Blocking All-to-All with Collective Offload on InfiniBand Clusters: A Study with Parallel 3D FF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, ISC’11, Germany. Computer Science – Research and Development,      v. 26, i.3, 237-246 (20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rse-grain overlap, preliminary results at large scale on Cray XE6 (Hopper), 16k cores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43000" y="1320840"/>
            <a:ext cx="678168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ybrid MPI/OpenMP preliminary results (Kraken)</a:t>
            </a:r>
            <a:endParaRPr b="1" i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79096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scalable parallel 3D FFT library is available (open-source download available at 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code.google.com/p/p3d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performance is achieved on leading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potential for enabling petascale sc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 project that came out of a Teragrid Advanced User Support Collaboration, now benefiting a wider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into a number of codes (13 citations as of today, hundreds of downlo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ture XSEDE community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under way to expand capability and improve ultra-scale performance even fur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cellent testing tool for future platforms’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ection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sided protocol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I/OpenMP hybri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-Point Star 5"/>
          <p:cNvSpPr/>
          <p:nvPr/>
        </p:nvSpPr>
        <p:spPr>
          <a:xfrm>
            <a:off x="5867280" y="6019920"/>
            <a:ext cx="609840" cy="533160"/>
          </a:xfrm>
          <a:custGeom>
            <a:avLst/>
            <a:gdLst>
              <a:gd name="textAreaLeft" fmla="*/ 251280 w 609840"/>
              <a:gd name="textAreaRight" fmla="*/ 358560 w 60984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-Point Star 6"/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-Point Star 7"/>
          <p:cNvSpPr/>
          <p:nvPr/>
        </p:nvSpPr>
        <p:spPr>
          <a:xfrm>
            <a:off x="5334120" y="6095880"/>
            <a:ext cx="457200" cy="38124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25560">
            <a:solidFill>
              <a:srgbClr val="456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K.Ye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A.Donz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Chukkappal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Goebb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 Bretho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Prigoz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Tom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Kanda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Subramo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S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supported by Teragrid, NSF grants OCI-0850684 and CCF-08331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s run on Teragrid resources Ranger (TACC), Kraken (NICS), and DOE resources Jaguar (NCSS/ORNL), Hopper(NERSC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ree-dimensional Fast Fourier Transform (3D FFT): the algorithm</a:t>
            </a:r>
            <a:br>
              <a:rPr sz="4800"/>
            </a:b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FFT is applied three times (for X,Y and 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FT on local dat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se where necessary so as to arrange the data locally for the direction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more efficient to transpose the data once than to exchange the data multiple times during a distributed 1D FF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age, there are many 1D FFT to 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work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1D decomposition     2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5"/>
          <p:cNvGrpSpPr/>
          <p:nvPr/>
        </p:nvGrpSpPr>
        <p:grpSpPr>
          <a:xfrm>
            <a:off x="582480" y="4952880"/>
            <a:ext cx="1095840" cy="1435320"/>
            <a:chOff x="582480" y="4952880"/>
            <a:chExt cx="1095840" cy="1435320"/>
          </a:xfrm>
        </p:grpSpPr>
        <p:sp>
          <p:nvSpPr>
            <p:cNvPr id="56" name="Text Box 42"/>
            <p:cNvSpPr/>
            <p:nvPr/>
          </p:nvSpPr>
          <p:spPr>
            <a:xfrm>
              <a:off x="582480" y="4952880"/>
              <a:ext cx="32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Calibri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4"/>
            <p:cNvGrpSpPr/>
            <p:nvPr/>
          </p:nvGrpSpPr>
          <p:grpSpPr>
            <a:xfrm>
              <a:off x="762120" y="5332320"/>
              <a:ext cx="916200" cy="1055880"/>
              <a:chOff x="762120" y="5332320"/>
              <a:chExt cx="916200" cy="1055880"/>
            </a:xfrm>
          </p:grpSpPr>
          <p:sp>
            <p:nvSpPr>
              <p:cNvPr id="58" name="Line 39"/>
              <p:cNvSpPr/>
              <p:nvPr/>
            </p:nvSpPr>
            <p:spPr>
              <a:xfrm>
                <a:off x="762120" y="5332320"/>
                <a:ext cx="0" cy="7628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40"/>
              <p:cNvSpPr/>
              <p:nvPr/>
            </p:nvSpPr>
            <p:spPr>
              <a:xfrm flipH="1">
                <a:off x="762120" y="5789880"/>
                <a:ext cx="380880" cy="30492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41"/>
              <p:cNvSpPr/>
              <p:nvPr/>
            </p:nvSpPr>
            <p:spPr>
              <a:xfrm>
                <a:off x="762120" y="6095160"/>
                <a:ext cx="60948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43"/>
              <p:cNvSpPr/>
              <p:nvPr/>
            </p:nvSpPr>
            <p:spPr>
              <a:xfrm>
                <a:off x="1334520" y="586764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x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44"/>
              <p:cNvSpPr/>
              <p:nvPr/>
            </p:nvSpPr>
            <p:spPr>
              <a:xfrm>
                <a:off x="1032480" y="533376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060"/>
                    </a:solidFill>
                    <a:latin typeface="Calibri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0"/>
          <p:cNvGrpSpPr/>
          <p:nvPr/>
        </p:nvGrpSpPr>
        <p:grpSpPr>
          <a:xfrm>
            <a:off x="735120" y="2055960"/>
            <a:ext cx="2998800" cy="2819160"/>
            <a:chOff x="735120" y="2055960"/>
            <a:chExt cx="2998800" cy="281916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735120" y="2055960"/>
              <a:ext cx="2907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TextBox 12" descr=""/>
            <p:cNvPicPr/>
            <p:nvPr/>
          </p:nvPicPr>
          <p:blipFill>
            <a:blip r:embed="rId2"/>
            <a:stretch/>
          </p:blipFill>
          <p:spPr>
            <a:xfrm>
              <a:off x="2959920" y="279180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TextBox 13" descr=""/>
            <p:cNvPicPr/>
            <p:nvPr/>
          </p:nvPicPr>
          <p:blipFill>
            <a:blip r:embed="rId3"/>
            <a:stretch/>
          </p:blipFill>
          <p:spPr>
            <a:xfrm>
              <a:off x="2959920" y="3931920"/>
              <a:ext cx="7740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TextBox 14" descr=""/>
            <p:cNvPicPr/>
            <p:nvPr/>
          </p:nvPicPr>
          <p:blipFill>
            <a:blip r:embed="rId4"/>
            <a:stretch/>
          </p:blipFill>
          <p:spPr>
            <a:xfrm>
              <a:off x="2959920" y="2255400"/>
              <a:ext cx="774000" cy="7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TextBox 15" descr=""/>
            <p:cNvPicPr/>
            <p:nvPr/>
          </p:nvPicPr>
          <p:blipFill>
            <a:blip r:embed="rId5"/>
            <a:stretch/>
          </p:blipFill>
          <p:spPr>
            <a:xfrm>
              <a:off x="2959920" y="3322440"/>
              <a:ext cx="7740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3"/>
          <p:cNvGrpSpPr/>
          <p:nvPr/>
        </p:nvGrpSpPr>
        <p:grpSpPr>
          <a:xfrm>
            <a:off x="5257800" y="1903320"/>
            <a:ext cx="3276720" cy="2971800"/>
            <a:chOff x="5257800" y="1903320"/>
            <a:chExt cx="3276720" cy="2971800"/>
          </a:xfrm>
        </p:grpSpPr>
        <p:pic>
          <p:nvPicPr>
            <p:cNvPr id="70" name="Picture 3" descr=""/>
            <p:cNvPicPr/>
            <p:nvPr/>
          </p:nvPicPr>
          <p:blipFill>
            <a:blip r:embed="rId6"/>
            <a:stretch/>
          </p:blipFill>
          <p:spPr>
            <a:xfrm>
              <a:off x="5257800" y="1903320"/>
              <a:ext cx="293112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TextBox 18" descr=""/>
            <p:cNvPicPr/>
            <p:nvPr/>
          </p:nvPicPr>
          <p:blipFill>
            <a:blip r:embed="rId7"/>
            <a:stretch/>
          </p:blipFill>
          <p:spPr>
            <a:xfrm>
              <a:off x="7761240" y="2273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TextBox 19" descr=""/>
            <p:cNvPicPr/>
            <p:nvPr/>
          </p:nvPicPr>
          <p:blipFill>
            <a:blip r:embed="rId8"/>
            <a:stretch/>
          </p:blipFill>
          <p:spPr>
            <a:xfrm>
              <a:off x="7761240" y="338940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TextBox 20" descr=""/>
            <p:cNvPicPr/>
            <p:nvPr/>
          </p:nvPicPr>
          <p:blipFill>
            <a:blip r:embed="rId9"/>
            <a:stretch/>
          </p:blipFill>
          <p:spPr>
            <a:xfrm>
              <a:off x="7400520" y="2596680"/>
              <a:ext cx="77328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TextBox 21" descr=""/>
            <p:cNvPicPr/>
            <p:nvPr/>
          </p:nvPicPr>
          <p:blipFill>
            <a:blip r:embed="rId10"/>
            <a:stretch/>
          </p:blipFill>
          <p:spPr>
            <a:xfrm>
              <a:off x="7400520" y="3706200"/>
              <a:ext cx="773280" cy="743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gorithm scalability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4018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ecomposition: concurrency is limited to N (linear grid size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parallelism for 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O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approach of most libraries to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FTW 3.2, PES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ecomposition: concurrency is up to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to ultra-large core counts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petascal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D FFT algorithm with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D decomposi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2" descr="2D"/>
          <p:cNvPicPr/>
          <p:nvPr/>
        </p:nvPicPr>
        <p:blipFill>
          <a:blip r:embed="rId1"/>
          <a:stretch/>
        </p:blipFill>
        <p:spPr>
          <a:xfrm>
            <a:off x="493560" y="1828800"/>
            <a:ext cx="7736040" cy="3859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304920" y="579132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 courtesy of H. Jagode (ORN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library for efficient, highly scalable 3D FFT on parallel plat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2D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1D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http://code.google.com/p/p3dff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grew out of an Advanced User Support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: features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s real-to-complex (R2C) and complex-to-real (C2R) 3D trans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ran and C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-opti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double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many uneven cases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have to be a factor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either in-place or out-of-place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xample programs in Fortran and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3DFFT implementation</a:t>
            </a:r>
            <a:endParaRPr b="1" i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 implemented in Fortran90 with M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D FFT:  call FFTW or ESS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se implementation in 2D decompos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up 2D cartesian subcommunicators, using MPI_COMM_SPLIT (rows and colum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ansposes are needed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in 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in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version: exchange data using MPI_Alltoall or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PI_Alltoal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2:34:45Z</dcterms:created>
  <dc:creator>yfcui</dc:creator>
  <dc:description>The 2 blue colors should print out the same, even if they look different on screen.</dc:description>
  <dc:language>en-US</dc:language>
  <cp:lastModifiedBy>Dmitry</cp:lastModifiedBy>
  <cp:lastPrinted>2001-01-12T19:39:24Z</cp:lastPrinted>
  <dcterms:modified xsi:type="dcterms:W3CDTF">2012-06-19T16:49:03Z</dcterms:modified>
  <cp:revision>39</cp:revision>
  <dc:subject/>
  <dc:title>PowerPoint Presentation</dc:title>
</cp:coreProperties>
</file>