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wmf" ContentType="image/x-wmf"/>
  <Override PartName="/ppt/media/image20.png" ContentType="image/png"/>
  <Override PartName="/ppt/media/image2.jpeg" ContentType="image/jpeg"/>
  <Override PartName="/ppt/media/image3.png" ContentType="image/png"/>
  <Override PartName="/ppt/media/image19.png" ContentType="image/png"/>
  <Override PartName="/ppt/media/image21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222200" y="688680"/>
            <a:ext cx="4592880" cy="344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ECCFD-9765-4335-9476-8814B604594F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6A720-9EC8-4FDF-A730-8969F68CF1C3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2FB9A-A5B8-4E28-B0CB-E36E4F359ED5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BBF8D-3D0F-4247-B031-C7B9C64A5FCF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8A8FF-4676-4F29-AFE3-15BD125F4CD8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BD6AD-D896-4BC9-A0B1-F26E16E772DA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DA8A9-A819-4265-891C-C2D608BECD21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EB4B8-0A11-4BD2-8E7C-201893C1DBBF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4EB0E-6F8C-45DF-AF1F-C57CE89E29D3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5F364-A741-46F7-BD5B-C6430C4C488C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8E90A-291C-4EF0-93FD-8077263E042D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67407-F630-43DD-AC8F-C903B6A491D1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679AF-1598-4DFB-B90B-9444A942770E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B5F62-21B0-47C9-9B75-19EAFB0B58F8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4100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300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2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4100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300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304920"/>
            <a:ext cx="88394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3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44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45"/>
          <p:cNvSpPr/>
          <p:nvPr/>
        </p:nvSpPr>
        <p:spPr>
          <a:xfrm flipV="1">
            <a:off x="1677960" y="6440400"/>
            <a:ext cx="6170760" cy="748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46"/>
          <p:cNvSpPr/>
          <p:nvPr/>
        </p:nvSpPr>
        <p:spPr>
          <a:xfrm>
            <a:off x="1676520" y="624852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 DIEGO SUPERCOMPUTER CENTER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56"/>
          <p:cNvSpPr/>
          <p:nvPr/>
        </p:nvSpPr>
        <p:spPr>
          <a:xfrm>
            <a:off x="2133720" y="655308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VERSITY OF CALIFORNIA, SAN DIE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57" descr=""/>
          <p:cNvPicPr/>
          <p:nvPr/>
        </p:nvPicPr>
        <p:blipFill>
          <a:blip r:embed="rId2"/>
          <a:stretch/>
        </p:blipFill>
        <p:spPr>
          <a:xfrm>
            <a:off x="8001000" y="6172200"/>
            <a:ext cx="851040" cy="533520"/>
          </a:xfrm>
          <a:prstGeom prst="rect">
            <a:avLst/>
          </a:prstGeom>
          <a:ln w="0">
            <a:noFill/>
          </a:ln>
        </p:spPr>
      </p:pic>
      <p:pic>
        <p:nvPicPr>
          <p:cNvPr id="8" name="Picture 58" descr=""/>
          <p:cNvPicPr/>
          <p:nvPr/>
        </p:nvPicPr>
        <p:blipFill>
          <a:blip r:embed="rId3"/>
          <a:stretch/>
        </p:blipFill>
        <p:spPr>
          <a:xfrm>
            <a:off x="304920" y="6248520"/>
            <a:ext cx="114300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code.google.com/p/p3dff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alibri"/>
              </a:rPr>
              <a:t>Ultrascalable Fourier Transforms in Three Dimensions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mitry Pekurovs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an Diego Supercomputer Cen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CS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performa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5228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portion of total time (up to 80%) is all-to-a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ly dependent on optimal implementation of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PI_Alltoall (varies with vendo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ffers for exchange are close in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od load balance, predictable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 can be sensitive to choice of 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erformance dependance on processor grid shape 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x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9" name="Chart 1" descr=""/>
          <p:cNvPicPr/>
          <p:nvPr/>
        </p:nvPicPr>
        <p:blipFill>
          <a:blip r:embed="rId1"/>
          <a:srcRect l="0" t="0" r="0" b="-28"/>
          <a:stretch/>
        </p:blipFill>
        <p:spPr>
          <a:xfrm>
            <a:off x="380880" y="1676520"/>
            <a:ext cx="80773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344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scaling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nd network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37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-to-all exchanges are directly affect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section bandwid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interconn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P decreases buffer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1/P scaling on fat-trees and other networks with full bisection bandwidth (until buffer size gets below the latency threshol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orus topology (Cray XT) bisection bandwidth is scaling as 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/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mapping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enefit so f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putation performance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11430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D FFT, three tim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tride-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mall str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Large stride (out of cach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n established library (ESSL, FFT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ption to keep data in original layout, or transpose so that the stride is alway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s are then laid out as (Z,Y,X) instead of (X,Y,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loop blocking to optimize cache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Strong scaling on Cray XT5 (Kraken) at NICS/ORNL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304920" y="5638680"/>
            <a:ext cx="8153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, best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mbin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Chart 1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315200" cy="487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eak Scaling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33520" y="120636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Chart 1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5438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D vs. 1D decomposition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1" name="Chart 3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62012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pplications of 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3DFFT has already been applied in a number of codes, in science fields including the follow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bul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rophys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eanograph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potential areas includ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erospace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-ray crystall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ospheric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DNS turbule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04560" y="9144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Numerical Simulations (DNS) code from Georgia Tech (P.K.Yeung et al.) to simulate isotropic turbulence on a cubic periodic dom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aracterized by disorderly, nonlinear fluctuations in 3D space and time that span a wide range of interacting s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S is an important tool for first-principles understanding of turbulence in great det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tal for new concepts and models as well as improved engineering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s of application include aeronautics, environment, combustion, meteorology, ocean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three Model Problems for NSF’s Track 1 solici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3657600" y="3960720"/>
            <a:ext cx="4800600" cy="23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algorithm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crucial to simulate grids with high resolution to minimize discretization effects, and study a wid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of length scale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Runge-Kutta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der for time-stepp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seudospectral method to solve Navier-Stokes eq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 FFT is the most time-consuming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D decomposition based on P3DFFT framework has been implemented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troduction: Fast Fourier Transform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3712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vily used in many areas of computational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ally dema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 cache-friendly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bandwidth is str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nt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-to-all exchange is an expensive operation, stressing bisection bandwidth of the host’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: providing a scalable, portable, easy to use implementation of 3D 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performance (Cray XT5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297480" cy="51660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2743200" y="5791320"/>
            <a:ext cx="281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c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2438280" y="3962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3886200" y="19810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19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1: Interface and Flexi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167652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the memory layout op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other types of transform (e.g. complex-to-complex, Chebyshev) - D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ability to isolate transposes so the user can design their own transfor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ghost cell support/halo exchan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04920" y="1752120"/>
            <a:ext cx="9144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-sided commun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SHM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Array Fort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/computation overlap – requires RD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rs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MPI/OpenMP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2: Performance improvements</a:t>
            </a:r>
            <a:br>
              <a:rPr sz="32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itable for computing several FFTs at o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variables, e.g. velocity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lap communication stage of one variable with computation stage of another vari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: uses large send buffers due to message aggreg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airwise exchange algorithm based on MPI-2 or SHME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, results on Mellanox ConnectX-2 cluster (64 and 128 cores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914400" y="1365120"/>
            <a:ext cx="5562720" cy="38498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304920" y="5181480"/>
            <a:ext cx="8534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.Kandalla, H.Subramoni, K.Tomko, D. Pekurovsky, S.Sur, D.Panda “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igh-Performance and Scalable Non-Blocking All-to-All with Collective Offload on InfiniBand Clusters: A Study with Parallel 3D FF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”, ISC’11, Germany. Computer Science – Research and Development,      v. 26, i.3, 237-246 (2011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rse-grain overlap, preliminary results at large scale on Cray XE6 (Hopper), 16k cores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143000" y="1320840"/>
            <a:ext cx="6781680" cy="48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Hybrid MPI/OpenMP preliminary results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5790960" cy="47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nclusion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1920" y="914400"/>
            <a:ext cx="861084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, scalable parallel 3D FFT library is available (open-source download available at </a:t>
            </a:r>
            <a:r>
              <a:rPr b="0" lang="en-US" sz="20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http://code.google.com/p/p3dff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performance is achieved on leading plat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 potential for enabling petascale sci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ample of project that came out of a Teragrid Advanced User Support Collaboration, now benefiting a wider commun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rporated into a number of codes (13 citations as of today, hundreds of downloa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uture XSEDE community c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under way to expand capability and improve ultra-scale performance even fur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cellent testing tool for future platforms’ capabil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section bandwid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-sided protocols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/OpenMP hybrid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4-Point Star 5"/>
          <p:cNvSpPr/>
          <p:nvPr/>
        </p:nvSpPr>
        <p:spPr>
          <a:xfrm>
            <a:off x="5867280" y="6019920"/>
            <a:ext cx="609840" cy="533160"/>
          </a:xfrm>
          <a:custGeom>
            <a:avLst/>
            <a:gdLst>
              <a:gd name="textAreaLeft" fmla="*/ 251280 w 609840"/>
              <a:gd name="textAreaRight" fmla="*/ 358560 w 60984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4-Point Star 6"/>
          <p:cNvSpPr/>
          <p:nvPr/>
        </p:nvSpPr>
        <p:spPr>
          <a:xfrm>
            <a:off x="655308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-Point Star 7"/>
          <p:cNvSpPr/>
          <p:nvPr/>
        </p:nvSpPr>
        <p:spPr>
          <a:xfrm>
            <a:off x="533412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Arial"/>
              </a:rPr>
              <a:t>Acknowledgement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K.Ye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A.Donz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Chukkappall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. Goebbe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Brethou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. Prigozhin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Tomk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Kandall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 Subramon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 S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Pan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 supported by Teragrid, NSF grants OCI-0850684 and CCF-083315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chmarks run on Teragrid resources Ranger (TACC), Kraken (NICS), and DOE resources Jaguar (NCSS/ORNL), Hopper(NERSC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Three-dimensional Fast Fourier Transform (3D FFT): the algorithm</a:t>
            </a:r>
            <a:br>
              <a:rPr sz="48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13716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D FFT is applied three times (for X,Y and Z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ans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roach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FFT on local data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se where necessary so as to arrange the data locally for the direction of the trans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more efficient to transpose the data once than to exchange the data multiple times during a distributed 1D FF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each stage, there are many 1D FFT to 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the work eve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1D decomposition     2D decompos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25"/>
          <p:cNvGrpSpPr/>
          <p:nvPr/>
        </p:nvGrpSpPr>
        <p:grpSpPr>
          <a:xfrm>
            <a:off x="582480" y="4952880"/>
            <a:ext cx="1095840" cy="1435320"/>
            <a:chOff x="582480" y="4952880"/>
            <a:chExt cx="1095840" cy="1435320"/>
          </a:xfrm>
        </p:grpSpPr>
        <p:sp>
          <p:nvSpPr>
            <p:cNvPr id="56" name="Text Box 42"/>
            <p:cNvSpPr/>
            <p:nvPr/>
          </p:nvSpPr>
          <p:spPr>
            <a:xfrm>
              <a:off x="582480" y="4952880"/>
              <a:ext cx="32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060"/>
                  </a:solidFill>
                  <a:latin typeface="Calibri"/>
                </a:rPr>
                <a:t>z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24"/>
            <p:cNvGrpSpPr/>
            <p:nvPr/>
          </p:nvGrpSpPr>
          <p:grpSpPr>
            <a:xfrm>
              <a:off x="762120" y="5332320"/>
              <a:ext cx="916200" cy="1055880"/>
              <a:chOff x="762120" y="5332320"/>
              <a:chExt cx="916200" cy="1055880"/>
            </a:xfrm>
          </p:grpSpPr>
          <p:sp>
            <p:nvSpPr>
              <p:cNvPr id="58" name="Line 39"/>
              <p:cNvSpPr/>
              <p:nvPr/>
            </p:nvSpPr>
            <p:spPr>
              <a:xfrm>
                <a:off x="762120" y="5332320"/>
                <a:ext cx="0" cy="76284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40"/>
              <p:cNvSpPr/>
              <p:nvPr/>
            </p:nvSpPr>
            <p:spPr>
              <a:xfrm flipH="1">
                <a:off x="762120" y="5789880"/>
                <a:ext cx="380880" cy="30492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41"/>
              <p:cNvSpPr/>
              <p:nvPr/>
            </p:nvSpPr>
            <p:spPr>
              <a:xfrm>
                <a:off x="762120" y="6095160"/>
                <a:ext cx="609480" cy="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43"/>
              <p:cNvSpPr/>
              <p:nvPr/>
            </p:nvSpPr>
            <p:spPr>
              <a:xfrm>
                <a:off x="1334520" y="5867640"/>
                <a:ext cx="343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x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44"/>
              <p:cNvSpPr/>
              <p:nvPr/>
            </p:nvSpPr>
            <p:spPr>
              <a:xfrm>
                <a:off x="1032480" y="5333760"/>
                <a:ext cx="348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y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" name="Group 10"/>
          <p:cNvGrpSpPr/>
          <p:nvPr/>
        </p:nvGrpSpPr>
        <p:grpSpPr>
          <a:xfrm>
            <a:off x="735120" y="2055960"/>
            <a:ext cx="2998800" cy="2819160"/>
            <a:chOff x="735120" y="2055960"/>
            <a:chExt cx="2998800" cy="2819160"/>
          </a:xfrm>
        </p:grpSpPr>
        <p:pic>
          <p:nvPicPr>
            <p:cNvPr id="64" name="Picture 2" descr=""/>
            <p:cNvPicPr/>
            <p:nvPr/>
          </p:nvPicPr>
          <p:blipFill>
            <a:blip r:embed="rId1"/>
            <a:stretch/>
          </p:blipFill>
          <p:spPr>
            <a:xfrm>
              <a:off x="735120" y="2055960"/>
              <a:ext cx="2907360" cy="28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TextBox 12" descr=""/>
            <p:cNvPicPr/>
            <p:nvPr/>
          </p:nvPicPr>
          <p:blipFill>
            <a:blip r:embed="rId2"/>
            <a:stretch/>
          </p:blipFill>
          <p:spPr>
            <a:xfrm>
              <a:off x="2959920" y="279180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TextBox 13" descr=""/>
            <p:cNvPicPr/>
            <p:nvPr/>
          </p:nvPicPr>
          <p:blipFill>
            <a:blip r:embed="rId3"/>
            <a:stretch/>
          </p:blipFill>
          <p:spPr>
            <a:xfrm>
              <a:off x="2959920" y="393192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TextBox 14" descr=""/>
            <p:cNvPicPr/>
            <p:nvPr/>
          </p:nvPicPr>
          <p:blipFill>
            <a:blip r:embed="rId4"/>
            <a:stretch/>
          </p:blipFill>
          <p:spPr>
            <a:xfrm>
              <a:off x="2959920" y="2255400"/>
              <a:ext cx="7740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TextBox 15" descr=""/>
            <p:cNvPicPr/>
            <p:nvPr/>
          </p:nvPicPr>
          <p:blipFill>
            <a:blip r:embed="rId5"/>
            <a:stretch/>
          </p:blipFill>
          <p:spPr>
            <a:xfrm>
              <a:off x="2959920" y="3322440"/>
              <a:ext cx="774000" cy="72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Group 23"/>
          <p:cNvGrpSpPr/>
          <p:nvPr/>
        </p:nvGrpSpPr>
        <p:grpSpPr>
          <a:xfrm>
            <a:off x="5257800" y="1903320"/>
            <a:ext cx="3276720" cy="2971800"/>
            <a:chOff x="5257800" y="1903320"/>
            <a:chExt cx="3276720" cy="2971800"/>
          </a:xfrm>
        </p:grpSpPr>
        <p:pic>
          <p:nvPicPr>
            <p:cNvPr id="70" name="Picture 3" descr=""/>
            <p:cNvPicPr/>
            <p:nvPr/>
          </p:nvPicPr>
          <p:blipFill>
            <a:blip r:embed="rId6"/>
            <a:stretch/>
          </p:blipFill>
          <p:spPr>
            <a:xfrm>
              <a:off x="5257800" y="1903320"/>
              <a:ext cx="2931120" cy="29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TextBox 18" descr=""/>
            <p:cNvPicPr/>
            <p:nvPr/>
          </p:nvPicPr>
          <p:blipFill>
            <a:blip r:embed="rId7"/>
            <a:stretch/>
          </p:blipFill>
          <p:spPr>
            <a:xfrm>
              <a:off x="7761240" y="2273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TextBox 19" descr=""/>
            <p:cNvPicPr/>
            <p:nvPr/>
          </p:nvPicPr>
          <p:blipFill>
            <a:blip r:embed="rId8"/>
            <a:stretch/>
          </p:blipFill>
          <p:spPr>
            <a:xfrm>
              <a:off x="7761240" y="3389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TextBox 20" descr=""/>
            <p:cNvPicPr/>
            <p:nvPr/>
          </p:nvPicPr>
          <p:blipFill>
            <a:blip r:embed="rId9"/>
            <a:stretch/>
          </p:blipFill>
          <p:spPr>
            <a:xfrm>
              <a:off x="7400520" y="259668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TextBox 21" descr=""/>
            <p:cNvPicPr/>
            <p:nvPr/>
          </p:nvPicPr>
          <p:blipFill>
            <a:blip r:embed="rId10"/>
            <a:stretch/>
          </p:blipFill>
          <p:spPr>
            <a:xfrm>
              <a:off x="7400520" y="3706200"/>
              <a:ext cx="773280" cy="7437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lgorithm scala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8600" y="140184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D decomposition: concurrency is limited to N (linear grid size)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enough parallelism for 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-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approach of most libraries to d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FTW 3.2, PESS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D decomposition: concurrency is up to 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ing to ultra-large core counts i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 to the petascale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3D FFT algorithm with 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2D decomposi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" name="Picture 2" descr="2D"/>
          <p:cNvPicPr/>
          <p:nvPr/>
        </p:nvPicPr>
        <p:blipFill>
          <a:blip r:embed="rId1"/>
          <a:stretch/>
        </p:blipFill>
        <p:spPr>
          <a:xfrm>
            <a:off x="493560" y="1828800"/>
            <a:ext cx="7736040" cy="385920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304920" y="5791320"/>
            <a:ext cx="81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mage courtesy of H. Jagode (ORN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library for efficient, highly scalable 3D FFT on parallel plat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2D decompos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1D o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at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http://code.google.com/p/p3d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ly grew out of an Advanced User Support Pro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: feature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ements real-to-complex (R2C) and complex-to-real (C2R) 3D trans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tran and C interfa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-optimiz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or double preci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bitrary dimen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ndles many uneven cases (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oes not have to be a factor of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do either in-place or out-of-place transfo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ludes example programs in Fortran and 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implementa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11426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 implemented in Fortran90 with MP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D FFT:  call FFTW or ESS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pose implementation in 2D decomposi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 up 2D cartesian subcommunicators, using MPI_COMM_SPLIT (rows and colum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transposes are needed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 in row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 in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: exchange data using MPI_Alltoall or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PI_Alltoal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0T22:34:45Z</dcterms:created>
  <dc:creator>yfcui</dc:creator>
  <dc:description>The 2 blue colors should print out the same, even if they look different on screen.</dc:description>
  <dc:language>en-US</dc:language>
  <cp:lastModifiedBy>Dmitry</cp:lastModifiedBy>
  <cp:lastPrinted>2001-01-12T19:39:24Z</cp:lastPrinted>
  <dcterms:modified xsi:type="dcterms:W3CDTF">2012-06-19T16:49:03Z</dcterms:modified>
  <cp:revision>39</cp:revision>
  <dc:subject/>
  <dc:title>PowerPoint Presentation</dc:title>
</cp:coreProperties>
</file>