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png" ContentType="image/pn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dt" idx="1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A9DF3C-EBC8-47A8-8E9B-7C7B82AF293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ftr" idx="1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 type="sldNum" idx="1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C7EBEC8-BE48-4DD7-9780-F763B510A7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9503F3-76FB-48A5-93B8-4DA58BCCFA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8CE225-4D7D-4B54-B417-DF5BE2FF01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311F1E4-A4B6-42C6-BCA4-7E771B9F11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5943A81-24E7-49E9-8DF3-7DD3E759AA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1C0C32-F5D6-4E5D-B062-3237A3C6AF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9DAEB9-053E-4357-9B04-D899238310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151EF67-DE2B-4F74-951C-CAE0F4788C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B112FE-3B32-4FF8-91C4-C1B90D52B2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4B84B8-BD4D-4B0B-B601-44446BC2A0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7370E7-065C-4A90-8AFF-BEE4B2E20D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A4E70A-8BC9-4DE1-8E02-88043F30EA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93B143-6B47-4DAD-9F64-A6EB09F51D0F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5CEA286-5133-48D2-9FBD-2FCB41CE24EC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06B7404-2472-4B42-B247-4C4C3C184366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DA09D99-7D5D-420D-9CAE-92C43021EC29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2EA5F56-702E-479C-A8C8-45059DDFBE6A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052CB9F-8E68-4D25-8060-0022E2214DE6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559CA07-852E-449D-963B-239BE216C22F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D701AFB-BBBD-447E-9F1A-1167D33CA993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3790860-C63D-4956-87F2-7DC200C6F938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C9E9203-C8DC-43C2-9DA3-7BCBD73D09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DBC244-D4D0-4BE6-90CF-09E73E49C6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AC0F94-F01C-49FD-86F1-15C97B0F0D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50887A-BC67-40F7-B288-7EA5009CC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47FD02-806B-4B2D-ABF4-CE1508883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A2A7B4-EDD7-45B7-98C9-D11018AD7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8BC554-1FDC-43D6-8B34-D268A02AC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041C3B-68D3-4DDA-B696-CD374C6F7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95BF2D-2DDA-4B0A-8226-3CECE2567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E91099-B2DC-4716-A6D0-292499D48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87B27A-03D2-46A6-B161-900C6DB2B6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761191-70F2-49E5-A51C-8CF48F6DB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DA0E7D-A880-406A-ADE5-3963E0FCA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7DF6B3-0DB8-406D-B177-F1977856E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2E3A06-CF5A-4D92-8D90-AE3246CD3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826607-7E9D-45A0-AFD6-98124FBE2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CBC752-CA82-404F-BBFF-202536A6747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2453A2-194C-473D-8742-11C782200588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EC87C2-F7D3-49A6-91BF-FE64BB7CA9C5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E33BDB-2064-4314-B9BE-433605CEDA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339092-F037-4548-B009-1844833BAAAB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5808A1-25D9-4FED-A039-18213BE37335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51763E-E6DB-48F4-B699-4C067438F504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2C51F9-C86D-4F33-9CF9-776EC47DAC5B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AB1E66-8B82-4D36-BE68-AA6B06521017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5C72CF-7277-4D8B-97CA-208643568E7F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21EFEB-D2BB-4BA3-9B7C-05B42AC83504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23A11F-EB1E-4FBC-8419-405823DCB9F4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68BCB0-5F86-4604-AD27-13F1436CF692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BFABFD-A6ED-467F-BF3E-9053CF1902C7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9EC61-316D-4DAD-A238-07C2F67C18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78BA13-7EA2-4CFD-81A6-558272C3258D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1C3DD-2F82-4F58-9294-9EA8661EB591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4480A-8844-4558-AAF9-457BF3B7C524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D40FF-F3E3-4941-A71E-86B1D59BACA6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978F8-4FAB-4B2B-B69F-160FE6E1D14C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40269-EC75-490C-BE6C-EEC2141C4525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9D607-FC2C-48CC-93A2-5B987EFBE6DF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BC9E1-053E-4764-9420-48D0F298F204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486AE-088F-47C4-B455-A71A455B1C4F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365AE-539B-43A7-BEFA-DAAEC689D777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B979D-377F-4DD8-AA32-165FB940C3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E90544-B7E8-442B-A0D3-E4D6A1D7212A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DA245-0B75-4011-A83E-80367E22B896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FC2BB97-8348-422D-9550-9CAE3021DD0F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9529404-4BE0-4B13-B1BC-37E6B8B0D261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FEC4BE5-3398-4ED9-878A-7C20CB43D363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C5D5B5F-78B9-49EF-BB7C-EE393E8F10B4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B4BFA18-004F-40CA-A5B5-08E15876B310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395DA75-2F05-4A8A-B062-737CF087D593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3EE6E18-3272-4D17-A83F-4D2DFC858937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F4EDC88-5923-4AA0-8E95-8555E79283F1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88000D5-9184-4093-8F83-E8808EB319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29D434-C4E4-4215-B488-11D5BB590A92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7001C7C-FA24-434E-80F4-3248AE01667B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1591782-4C1A-4291-84D5-4008137C20D2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ECD5CA8-D7C9-4981-A4D3-1F8B1A5C2708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39CC8B7-8986-458D-BB17-A5053872F9B8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CC5D91-CDA0-4C7C-B8E8-5DC5D70E3596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BDB174-2D34-42B4-8D30-684D7E73E9E7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026075E-F670-43A9-A5D1-0439924E00CB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A89F79-B6FD-4246-BF8C-566D901B4931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FE11D9F-ED7F-4228-B268-4C62E14AAEAA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017C226-F94F-43A7-9F70-BD2DE9828D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093F4D-8B7F-496E-B325-AEF6D3985493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AA84B84-4295-480C-A53A-8B395633BD1A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81E15A4-C6C8-4FC3-966A-25ACD3F7631E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4D0305-E581-4135-8B4B-C284D79A84B3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FBCC1F0-0795-45D3-A590-39AC3E1F384B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D68493-49E7-4C1F-A2DE-DF8791EEC022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F3A0B8-5EE3-4B62-9812-BC66B7CBAF90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0431CC-680D-4704-BF87-415ABB61994A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F30383-71AA-46C1-BFF8-8B8967E83773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C8B867-0DBA-4683-AE9D-6149596704B4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80F715-12E4-40DB-A7F8-E0417F93C6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9EC650-EF8F-40C0-AD05-0DE79A98A07A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10ED66-C08C-4B72-80AD-0C52A2BCA93B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B39E85-25B0-439C-92F7-7705A57C4AED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4AE3EF-9851-4D22-996E-C02261A35FAA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57924D-F449-4EFC-A2CA-E2557FFC97D4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5F8B92-61D8-4981-9331-04486BF2A45D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DAD4AB-7D44-4819-866B-CB54A599DE58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8A6711-4072-43E7-85BE-54F7C86B8A4F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9DC1DAD-F61A-4A2A-ABD1-35A1D596FE95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C254D41-D08B-4732-B741-5018F4056827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B4BFA36-B9E2-42DB-AE23-C38FC28AFD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448F04-B32F-4D66-8435-B1904B9CD322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CDBB809-B2E4-4B81-9D79-B9F9B6F9324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xsede-ppt-titl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Date Placeholder 3"/>
          <p:cNvSpPr/>
          <p:nvPr/>
        </p:nvSpPr>
        <p:spPr>
          <a:xfrm>
            <a:off x="6705720" y="3510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B969179-623B-440A-893C-30B1505E04A5}" type="datetime3">
              <a:rPr b="0" lang="en-US" sz="1500" spc="-1" strike="noStrike">
                <a:solidFill>
                  <a:srgbClr val="ffffff"/>
                </a:solidFill>
                <a:latin typeface="Verdana"/>
              </a:rPr>
              <a:t>July 28, 2026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8" descr="nsf-white-576x576.png"/>
          <p:cNvPicPr/>
          <p:nvPr/>
        </p:nvPicPr>
        <p:blipFill>
          <a:blip r:embed="rId4"/>
          <a:stretch/>
        </p:blipFill>
        <p:spPr>
          <a:xfrm>
            <a:off x="7772400" y="502920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5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B1DF85-C232-4D3A-85AD-685E9F4A90EE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Num" idx="6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6F402B-0CCD-4EFD-AA18-26AA6637142E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sldNum" idx="7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89DCD5B-045A-4843-83A8-D54680427723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8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80B586D-341E-41D6-8B11-64C458874C57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sldNum" idx="9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58387A1-5FA7-458B-BAA1-02EAB5A2ED29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sldNum" idx="10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CDF299-F197-43DB-A0DE-CC68F256C9AA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09120" y="2664000"/>
            <a:ext cx="8153640" cy="91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NS of Spatially Developing Turbulent Boundary Layer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609120" y="3657600"/>
            <a:ext cx="815364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PI: Antonino Ferrante, University of Washington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ECSS: Darren Adams, David Bock, NCSA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ay-traced, volume renderings using same colormap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ooking down chamber (left) and close-up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, wispy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15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B61E228-D352-4DF8-A2FA-1374FE1BFC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Picture 2" descr="C:\Home\NCSA\Ferrante\html\f17c1.jpg"/>
          <p:cNvPicPr/>
          <p:nvPr/>
        </p:nvPicPr>
        <p:blipFill>
          <a:blip r:embed="rId1"/>
          <a:stretch/>
        </p:blipFill>
        <p:spPr>
          <a:xfrm>
            <a:off x="1004760" y="3100320"/>
            <a:ext cx="3579840" cy="268452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4" descr="C:\Home\NCSA\Ferrante\html\t9a.jpg"/>
          <p:cNvPicPr/>
          <p:nvPr/>
        </p:nvPicPr>
        <p:blipFill>
          <a:blip r:embed="rId2"/>
          <a:stretch/>
        </p:blipFill>
        <p:spPr>
          <a:xfrm>
            <a:off x="468324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ing different visual representa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op-down view (left), three-quarter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dded data boundary grid for refer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A8D29D-A1D2-480D-BCEC-35D456A324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Picture 2" descr="C:\Home\NCSA\Ferrante\html\f26c_2.jpg"/>
          <p:cNvPicPr/>
          <p:nvPr/>
        </p:nvPicPr>
        <p:blipFill>
          <a:blip r:embed="rId1"/>
          <a:stretch/>
        </p:blipFill>
        <p:spPr>
          <a:xfrm>
            <a:off x="1009800" y="309564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4" descr="C:\Home\NCSA\Ferrante\html\f26a.jpg"/>
          <p:cNvPicPr/>
          <p:nvPr/>
        </p:nvPicPr>
        <p:blipFill>
          <a:blip r:embed="rId2"/>
          <a:stretch/>
        </p:blipFill>
        <p:spPr>
          <a:xfrm>
            <a:off x="4697280" y="3090960"/>
            <a:ext cx="3584880" cy="268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4457E1-0801-4DBA-9E10-775CBFFDF6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Picture 2" descr="C:\Home\NCSA\Ferrante\html\f27a.0001.jpg"/>
          <p:cNvPicPr/>
          <p:nvPr/>
        </p:nvPicPr>
        <p:blipFill>
          <a:blip r:embed="rId1"/>
          <a:stretch/>
        </p:blipFill>
        <p:spPr>
          <a:xfrm>
            <a:off x="102384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4" descr="C:\Home\NCSA\Ferrante\html\f27b.0001.jpg"/>
          <p:cNvPicPr/>
          <p:nvPr/>
        </p:nvPicPr>
        <p:blipFill>
          <a:blip r:embed="rId2"/>
          <a:stretch/>
        </p:blipFill>
        <p:spPr>
          <a:xfrm>
            <a:off x="4713120" y="3102120"/>
            <a:ext cx="358488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3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4F11A3-039E-4333-98F6-0E4268E8EF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Picture 2" descr="C:\Home\NCSA\Ferrante\html\f27c.0001.jpg"/>
          <p:cNvPicPr/>
          <p:nvPr/>
        </p:nvPicPr>
        <p:blipFill>
          <a:blip r:embed="rId1"/>
          <a:stretch/>
        </p:blipFill>
        <p:spPr>
          <a:xfrm>
            <a:off x="103176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2" descr="C:\Home\NCSA\Ferrante\html\f27d.0001.jpg"/>
          <p:cNvPicPr/>
          <p:nvPr/>
        </p:nvPicPr>
        <p:blipFill>
          <a:blip r:embed="rId2"/>
          <a:stretch/>
        </p:blipFill>
        <p:spPr>
          <a:xfrm>
            <a:off x="471960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53352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gration of particle flow visualizing veloc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xample of previous particle flow using custom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163DF64-9218-4FB6-85EB-F78375FB17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Picture 2" descr=""/>
          <p:cNvPicPr/>
          <p:nvPr/>
        </p:nvPicPr>
        <p:blipFill>
          <a:blip r:embed="rId1"/>
          <a:stretch/>
        </p:blipFill>
        <p:spPr>
          <a:xfrm>
            <a:off x="990720" y="2684520"/>
            <a:ext cx="3886200" cy="2914560"/>
          </a:xfrm>
          <a:prstGeom prst="rect">
            <a:avLst/>
          </a:prstGeom>
          <a:ln w="0">
            <a:noFill/>
          </a:ln>
        </p:spPr>
      </p:pic>
      <p:sp>
        <p:nvSpPr>
          <p:cNvPr id="441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Science Overview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1C2C1F-69A8-437B-B9E6-53A5CE6067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72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mputational fluid flow at boundary layer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olution of 3D, unsteady Navier-Stokes (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Generate initial inflow conditions to D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elocity components must satisfy 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  <p:pic>
        <p:nvPicPr>
          <p:cNvPr id="381" name="Picture 2" descr="C:\Users\David\Desktop\1-s2.0-S0021999104000348-gr1.gif"/>
          <p:cNvPicPr/>
          <p:nvPr/>
        </p:nvPicPr>
        <p:blipFill>
          <a:blip r:embed="rId1"/>
          <a:stretch/>
        </p:blipFill>
        <p:spPr>
          <a:xfrm>
            <a:off x="1219320" y="2895480"/>
            <a:ext cx="4711680" cy="2833920"/>
          </a:xfrm>
          <a:prstGeom prst="rect">
            <a:avLst/>
          </a:prstGeom>
          <a:ln w="0">
            <a:noFill/>
          </a:ln>
        </p:spPr>
      </p:pic>
      <p:sp>
        <p:nvSpPr>
          <p:cNvPr id="382" name="Rectangle 5"/>
          <p:cNvSpPr/>
          <p:nvPr/>
        </p:nvSpPr>
        <p:spPr>
          <a:xfrm>
            <a:off x="1219320" y="572940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Reference: http://dx.doi.org/10.1016/j.jcp.2004.01.0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XSEDE projec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4496EC-B308-4BC5-815E-664F56408C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U hrs and TB on Kraken, Ranger, tape stora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ulation using largest Reynolds number ever report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hare generated DNS database with scientific commun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rform first DNS of fully-resolved droplet-laden turbul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CSS consultants: Darren Adams, David Bock (NCSA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ECSS goal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F9CB7B3-8B58-427B-ABB1-12B5EAB82A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tascale scaling and deployment on XSEDE resourc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igh-level HDF5 parallel IO library layer (H5D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5DNS provid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creation via petascale simulation run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analysi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implified I/O data conversion (e.g. visualization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isualization tests per simulation ru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roduction visualization imagery (e.g. journals, conference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57200" y="973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O library written in C on top of HDF5 library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ncapsulates HDF5 File structure and metadata particular to the DNS simulation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For simulation code, H5DNS provides: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Large data dumps of field variable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Restart capability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Particle IO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Metadata (run vars., input parameters etc.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905CC9-0712-40FD-A5D2-05167D5478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457200" y="993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nalysis and visualizatio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VisIt Reader (C++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Other direct HDF5 access (Matlab,TecPlot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wig interfaces ??? (Perl , Python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BC1958F-92C6-4545-B849-7CEDE6BE8F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533520" y="1676520"/>
            <a:ext cx="82296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Before H5DNS, data generation cumbersome, error-pron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equired editing and executing Fortran post-processor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ple H5DNS reader now used to read and extract data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nverted to format used by custom visualization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rested in scalar Lambda2 (vortices using velocity tensor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B646BD-436B-4138-BACB-79A1D4425F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Data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s verifying data conversion using slice plan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ambda2 (left) and velocity magnitude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 structures in lambda2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474FFCF-0062-4519-A07A-EA227F623A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nitial re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Picture 2" descr="C:\Home\NCSA\Ferrante\html\f16a.jpg"/>
          <p:cNvPicPr/>
          <p:nvPr/>
        </p:nvPicPr>
        <p:blipFill>
          <a:blip r:embed="rId1"/>
          <a:stretch/>
        </p:blipFill>
        <p:spPr>
          <a:xfrm>
            <a:off x="10018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4" descr="C:\Home\NCSA\Ferrante\html\f16e_4.jpg"/>
          <p:cNvPicPr/>
          <p:nvPr/>
        </p:nvPicPr>
        <p:blipFill>
          <a:blip r:embed="rId2"/>
          <a:stretch/>
        </p:blipFill>
        <p:spPr>
          <a:xfrm>
            <a:off x="43894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5" descr="C:\Users\David\Desktop\livingstone.jpg"/>
          <p:cNvPicPr/>
          <p:nvPr/>
        </p:nvPicPr>
        <p:blipFill>
          <a:blip r:embed="rId3"/>
          <a:stretch/>
        </p:blipFill>
        <p:spPr>
          <a:xfrm>
            <a:off x="1006560" y="5589720"/>
            <a:ext cx="2647800" cy="15372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5" descr="C:\Users\David\Desktop\livingstone.jpg"/>
          <p:cNvPicPr/>
          <p:nvPr/>
        </p:nvPicPr>
        <p:blipFill>
          <a:blip r:embed="rId4"/>
          <a:stretch/>
        </p:blipFill>
        <p:spPr>
          <a:xfrm>
            <a:off x="4390920" y="5587920"/>
            <a:ext cx="2648160" cy="1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ransfer function to isolate narrow Lambda2 ran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vident are very small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lormap with gaussian hue and alpha func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14A2D3-3BDE-4CA6-AA80-3AFDBA69AF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solating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Picture 2" descr="C:\Home\NCSA\Ferrante\html\f17b1.jpg"/>
          <p:cNvPicPr/>
          <p:nvPr/>
        </p:nvPicPr>
        <p:blipFill>
          <a:blip r:embed="rId1"/>
          <a:stretch/>
        </p:blipFill>
        <p:spPr>
          <a:xfrm>
            <a:off x="1009800" y="3103560"/>
            <a:ext cx="3516120" cy="263844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4" descr="C:\Home\NCSA\Ferrante\html\f17b_cmap.jpg"/>
          <p:cNvPicPr/>
          <p:nvPr/>
        </p:nvPicPr>
        <p:blipFill>
          <a:blip r:embed="rId2"/>
          <a:stretch/>
        </p:blipFill>
        <p:spPr>
          <a:xfrm>
            <a:off x="4637160" y="4032360"/>
            <a:ext cx="3336840" cy="17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7T14:06:46Z</dcterms:created>
  <dc:creator>David Bock;Darren Adams</dc:creator>
  <dc:description/>
  <dc:language>en-US</dc:language>
  <cp:lastModifiedBy>David</cp:lastModifiedBy>
  <dcterms:modified xsi:type="dcterms:W3CDTF">2012-09-18T14:33:21Z</dcterms:modified>
  <cp:revision>132</cp:revision>
  <dc:subject/>
  <dc:title>Visualizing Large Eddy Simulations</dc:title>
</cp:coreProperties>
</file>