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png" ContentType="image/pn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dt" idx="1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F0B266F-AAEE-4304-A87B-F49AF2781B0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ftr" idx="1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 type="sldNum" idx="1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2484DCD-103F-462C-A9BC-8261AB0DF5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C9C25B-22FE-4A07-8331-F8AE2FABD8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41060E-79FB-460B-B0CF-278E3056CB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B389F44-B532-414D-89CE-B7C1AD60CF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7947562-1C01-432D-8898-1E0D814080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3D7A40-7241-42D0-A856-D2B1B08D7B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CD8044-8F66-42D3-BD2B-3101C4C08D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CC89173-A82D-4D98-B3B4-B6B1EE70C7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8552321-08BA-4639-A35A-A909BE868E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5949B4-531F-45FE-A7B2-7FF5A4B0E8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1A2A15-A248-4B98-9991-B4B1BBCBB9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21A14A-E4F4-4023-AB17-06361C74C1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9116B2-A86A-4998-81A7-61FB1B06F09C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63A5384-162C-4837-A53B-54AE163BC8B6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B37FB39-9789-4047-8685-AD7D8B2B17FF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0D11834-9D8E-4B04-9520-0F7124899632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3909ABF-A22F-4885-AACE-F4311C4F6FA3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B4AA28A-2380-4AB6-9F1A-E38127CC8F7E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E752AFA-6817-4E50-B769-03157164A330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250F70F-F09B-44A2-BDE3-3FBAE61B5193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6CC562C-EEDB-43DA-8EB7-F7E72DC5A34E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9D33EB4-8A5B-4983-8C84-81540AAFE8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AB01D3-AFB1-4748-B66D-6B8D09FEF9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7EC3F4-29CF-4084-9F05-49FC005BE0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B8827E-15AB-4A04-9F8D-8819C36D3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9EB4BA-115F-4893-AD17-3C93CE534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CBF596-AFA2-46D2-9994-05A7BBEF4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FC1890-D042-4F6A-B3C4-94EBA4E24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F02AEE-9B11-4330-8FFC-C5C13F3F4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342D8C-5BF7-45D9-8384-B706B90C4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0B1678-6C09-471E-8A22-F7E5914E1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35BE78-A944-4E8B-A6B5-3EC9F9D74F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D77C7F-EB2B-45E3-97D4-4F9C1DF39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8356FF-F2F4-4D89-AE5A-F80D6F0BB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D0CE7B-F51D-455F-962A-C75C4289E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8B2CC0-BE6E-4897-9FA8-0EEC83EC6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4859D4-1677-4DAC-A47B-12B28570C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87D2B4-1407-478E-89B5-CB8BD97DCE6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81A828-99DC-489E-A18D-A495BE4B2197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7C4F6E-EF58-4A17-AD62-101F3BFD7691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4BC6A4-1161-498C-9E7E-EC9419C81A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EBBBA7-3EB2-4D86-8EFB-2AD778459C4F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BC19CC-94C9-41F6-8ED3-504DA3CD17D8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972421-B757-4ED1-B033-EEBB04C695EE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E205EB-E77E-452D-816F-13D31EDC8465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958555-2D0E-4755-87E8-58FA832A60AB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86ABFA-4290-4880-A9DB-20A161577BFA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70D6A8-47C9-4073-AACF-F9DA00175052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84F447-2BBF-4850-8E99-0925F92BAD2C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3510FB-68FF-4735-80F6-A3CBAADB8BF0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5ADF7A-C114-4A48-A787-F2C61173B73F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387E4-C81D-48F4-BCF5-94A3714452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5B37D3-2A3F-4FE8-A6C5-6E289075D019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7EB13-0380-4BEB-A4E5-0F583059FF47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B3AD1-35FA-4751-B8A6-2FEC23393F0F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22D31-1F33-4552-AACA-8D97071CBEBE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A5A9C-2136-46D7-BD94-04D7E8D54989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6FFCF-A756-4EC3-854D-A23CFBD72FA8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A452F-89B8-487D-A9AC-C4DE80617959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EF0A1-77A7-44D9-A584-DB259A3F8D7C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3186C-996D-4075-B620-5D2B7735DA97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EF16F-129E-4DA4-AC9D-2034C1555A2C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CCA38-E2C6-47B2-9262-B24A117C40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016032-1883-456B-806A-EF38FA29F913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89856-1ABB-4AEE-AD5C-9978726D05B8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758C80C-8331-4820-8826-634B963B190C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9F0E3C8-A485-4C80-B8AA-0129A48E38D7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6E0E00D-AB24-4683-87CD-A03C246799A6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4CD02B4-9D03-404C-B7E3-454F699DB25B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C382BF5-3C3F-4355-8ED8-CA5BC28A1563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62FFF02-9600-4CB7-9BF5-8625299F5486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3CE02FC-CFDC-497A-AD9C-D7FFC0E12A7B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381D904-A674-4AC2-823E-D9BBF2A11C67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8D5C210-0E59-4634-ADD9-A94914D7C8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459A73-A888-4DB2-A49C-93BFD7232141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A90735C-6A69-4876-8EA1-263D52816AA6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7970715-6975-4D2E-B86C-AD2571246F8F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173F0BB-79A3-4450-816F-20F8E76B8AE3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EF2D427-82EE-43B0-83BD-E95422D9BA28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D5AF593-487F-4D92-949A-14D7CA37E9F7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0A55521-AA42-40B3-B609-70D8EFC3D322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3571C5-CC62-470D-87BE-A6B3DA114B8F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139CFFA-598A-49FE-B7C5-62E8415DD3CA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3F97285-369D-43A4-B779-DBA35AD58FEB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AC820BD-39EE-47C7-8330-9166C9DCFF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703A6F-5D50-4A19-9986-68064CAD1C41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59A1F04-F154-49D2-9209-1BEB657C1C68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6460E5C-815C-41EA-BA22-7AA7E693C040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9CA1256-F653-448A-AFC1-61A64FBF7EF8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D297B76-ACE3-46D9-B2C6-0D93DD9BCFEE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C865ED0-1634-4F24-8109-9FF1E64B6F9A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2D658D-E49A-40FD-AE61-7FE40014D66E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5E640F-21E4-4D7D-855D-F04A9A3DD37E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35CC1F-D8D4-4A9F-A78A-AC7B65C61C5F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86E8D3-3EB0-41A3-A686-FFAA1B0DA10A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E5FC84-B32C-4F02-9C75-1280BFE10E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67A9FB-99DC-444E-A0AE-D44ABF3C53E0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D73860-D4BE-42ED-B8A9-071F1493CADA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A13E50-3266-4EA2-8DB1-0A8C9724A02E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6D83AE-8A2D-4700-AA00-79AB0374B427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80C916-A148-44F5-8537-0B733FBD3A6D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6A6804-A580-40F8-91FB-EC6CAE52A6B0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818D1C-43D0-4637-87DB-D81245330F75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8F86B1-F06A-4122-B92B-A71AC53C1A3C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620E58B-DFE1-4F83-B8E2-88762F44639B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10EC034-0587-403A-85A9-D83E8C66C0AD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A86F051-EBA1-405A-983E-4EE4ABCC04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17940B-3844-4503-9D8A-CB80B179A20E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B7E7B5D-9AC4-4DAB-ACF6-1583AE6247B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xsede-ppt-titl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Date Placeholder 3"/>
          <p:cNvSpPr/>
          <p:nvPr/>
        </p:nvSpPr>
        <p:spPr>
          <a:xfrm>
            <a:off x="6705720" y="3510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B2E419A-097C-45B3-8973-FD8B35E669F6}" type="datetime3">
              <a:rPr b="0" lang="en-US" sz="1500" spc="-1" strike="noStrike">
                <a:solidFill>
                  <a:srgbClr val="ffffff"/>
                </a:solidFill>
                <a:latin typeface="Verdana"/>
              </a:rPr>
              <a:t>July 28, 2026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8" descr="nsf-white-576x576.png"/>
          <p:cNvPicPr/>
          <p:nvPr/>
        </p:nvPicPr>
        <p:blipFill>
          <a:blip r:embed="rId4"/>
          <a:stretch/>
        </p:blipFill>
        <p:spPr>
          <a:xfrm>
            <a:off x="7772400" y="502920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5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79E715-B5F0-4A7B-9B39-29FCE4068155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Num" idx="6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BA10F26-580D-4021-8BC5-63EEEF9CD913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sldNum" idx="7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0C529B-5F46-40F7-821C-2FC9C32E4AEF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8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5E19D88-1877-4E67-BC9E-1AD76B14C8C2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sldNum" idx="9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FE959B-C005-4910-99DC-2ED080C0766C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sldNum" idx="10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896681-0D55-4538-BD04-8A78E27C8736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09120" y="2664000"/>
            <a:ext cx="8153640" cy="91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NS of Spatially Developing Turbulent Boundary Layer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609120" y="3657600"/>
            <a:ext cx="815364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PI: Antonino Ferrante, University of Washington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ECSS: Darren Adams, David Bock, NCSA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ay-traced, volume renderings using same colormap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ooking down chamber (left) and close-up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, wispy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15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4D9C3E-7728-4158-A7A0-26167D3148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Picture 2" descr="C:\Home\NCSA\Ferrante\html\f17c1.jpg"/>
          <p:cNvPicPr/>
          <p:nvPr/>
        </p:nvPicPr>
        <p:blipFill>
          <a:blip r:embed="rId1"/>
          <a:stretch/>
        </p:blipFill>
        <p:spPr>
          <a:xfrm>
            <a:off x="1004760" y="3100320"/>
            <a:ext cx="3579840" cy="268452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4" descr="C:\Home\NCSA\Ferrante\html\t9a.jpg"/>
          <p:cNvPicPr/>
          <p:nvPr/>
        </p:nvPicPr>
        <p:blipFill>
          <a:blip r:embed="rId2"/>
          <a:stretch/>
        </p:blipFill>
        <p:spPr>
          <a:xfrm>
            <a:off x="468324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ing different visual representa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op-down view (left), three-quarter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dded data boundary grid for refer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6BAF9A-24A9-4515-908F-FD8DB620CD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Picture 2" descr="C:\Home\NCSA\Ferrante\html\f26c_2.jpg"/>
          <p:cNvPicPr/>
          <p:nvPr/>
        </p:nvPicPr>
        <p:blipFill>
          <a:blip r:embed="rId1"/>
          <a:stretch/>
        </p:blipFill>
        <p:spPr>
          <a:xfrm>
            <a:off x="1009800" y="309564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4" descr="C:\Home\NCSA\Ferrante\html\f26a.jpg"/>
          <p:cNvPicPr/>
          <p:nvPr/>
        </p:nvPicPr>
        <p:blipFill>
          <a:blip r:embed="rId2"/>
          <a:stretch/>
        </p:blipFill>
        <p:spPr>
          <a:xfrm>
            <a:off x="4697280" y="3090960"/>
            <a:ext cx="3584880" cy="268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3CE50D8-6D67-4548-9B1A-FCE92434DE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Picture 2" descr="C:\Home\NCSA\Ferrante\html\f27a.0001.jpg"/>
          <p:cNvPicPr/>
          <p:nvPr/>
        </p:nvPicPr>
        <p:blipFill>
          <a:blip r:embed="rId1"/>
          <a:stretch/>
        </p:blipFill>
        <p:spPr>
          <a:xfrm>
            <a:off x="102384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4" descr="C:\Home\NCSA\Ferrante\html\f27b.0001.jpg"/>
          <p:cNvPicPr/>
          <p:nvPr/>
        </p:nvPicPr>
        <p:blipFill>
          <a:blip r:embed="rId2"/>
          <a:stretch/>
        </p:blipFill>
        <p:spPr>
          <a:xfrm>
            <a:off x="4713120" y="3102120"/>
            <a:ext cx="358488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3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C1CBF5C-6D12-4B37-882B-224D5A1AA4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Picture 2" descr="C:\Home\NCSA\Ferrante\html\f27c.0001.jpg"/>
          <p:cNvPicPr/>
          <p:nvPr/>
        </p:nvPicPr>
        <p:blipFill>
          <a:blip r:embed="rId1"/>
          <a:stretch/>
        </p:blipFill>
        <p:spPr>
          <a:xfrm>
            <a:off x="103176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2" descr="C:\Home\NCSA\Ferrante\html\f27d.0001.jpg"/>
          <p:cNvPicPr/>
          <p:nvPr/>
        </p:nvPicPr>
        <p:blipFill>
          <a:blip r:embed="rId2"/>
          <a:stretch/>
        </p:blipFill>
        <p:spPr>
          <a:xfrm>
            <a:off x="471960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53352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gration of particle flow visualizing veloc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xample of previous particle flow using custom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10BF996-253C-4B93-A7AA-E051079AC6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Picture 2" descr=""/>
          <p:cNvPicPr/>
          <p:nvPr/>
        </p:nvPicPr>
        <p:blipFill>
          <a:blip r:embed="rId1"/>
          <a:stretch/>
        </p:blipFill>
        <p:spPr>
          <a:xfrm>
            <a:off x="990720" y="2684520"/>
            <a:ext cx="3886200" cy="2914560"/>
          </a:xfrm>
          <a:prstGeom prst="rect">
            <a:avLst/>
          </a:prstGeom>
          <a:ln w="0">
            <a:noFill/>
          </a:ln>
        </p:spPr>
      </p:pic>
      <p:sp>
        <p:nvSpPr>
          <p:cNvPr id="441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Science Overview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E46D4E-DAAF-40EE-A98A-00F01DC361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72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mputational fluid flow at boundary layer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olution of 3D, unsteady Navier-Stokes (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Generate initial inflow conditions to D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elocity components must satisfy 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  <p:pic>
        <p:nvPicPr>
          <p:cNvPr id="381" name="Picture 2" descr="C:\Users\David\Desktop\1-s2.0-S0021999104000348-gr1.gif"/>
          <p:cNvPicPr/>
          <p:nvPr/>
        </p:nvPicPr>
        <p:blipFill>
          <a:blip r:embed="rId1"/>
          <a:stretch/>
        </p:blipFill>
        <p:spPr>
          <a:xfrm>
            <a:off x="1219320" y="2895480"/>
            <a:ext cx="4711680" cy="2833920"/>
          </a:xfrm>
          <a:prstGeom prst="rect">
            <a:avLst/>
          </a:prstGeom>
          <a:ln w="0">
            <a:noFill/>
          </a:ln>
        </p:spPr>
      </p:pic>
      <p:sp>
        <p:nvSpPr>
          <p:cNvPr id="382" name="Rectangle 5"/>
          <p:cNvSpPr/>
          <p:nvPr/>
        </p:nvSpPr>
        <p:spPr>
          <a:xfrm>
            <a:off x="1219320" y="572940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Reference: http://dx.doi.org/10.1016/j.jcp.2004.01.0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XSEDE projec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E59F70B-54B1-4CE6-83E2-1CE32623A1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U hrs and TB on Kraken, Ranger, tape stora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ulation using largest Reynolds number ever report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hare generated DNS database with scientific commun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rform first DNS of fully-resolved droplet-laden turbul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CSS consultants: Darren Adams, David Bock (NCSA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ECSS goal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540E7E-7953-4E64-96EB-244E0C3B1C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tascale scaling and deployment on XSEDE resourc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igh-level HDF5 parallel IO library layer (H5D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5DNS provid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creation via petascale simulation run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analysi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implified I/O data conversion (e.g. visualization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isualization tests per simulation ru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roduction visualization imagery (e.g. journals, conference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57200" y="973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O library written in C on top of HDF5 library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ncapsulates HDF5 File structure and metadata particular to the DNS simulation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For simulation code, H5DNS provides: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Large data dumps of field variable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Restart capability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Particle IO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Metadata (run vars., input parameters etc.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47EB34C-E66E-4558-9C76-66F1377FF5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457200" y="993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nalysis and visualizatio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VisIt Reader (C++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Other direct HDF5 access (Matlab,TecPlot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wig interfaces ??? (Perl , Python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F04C260-A83C-480F-B134-9AAEF243D3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533520" y="1676520"/>
            <a:ext cx="82296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Before H5DNS, data generation cumbersome, error-pron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equired editing and executing Fortran post-processor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ple H5DNS reader now used to read and extract data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nverted to format used by custom visualization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rested in scalar Lambda2 (vortices using velocity tensor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4C8ABD0-6BDD-4CF1-9B3C-C16935B3D9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Data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s verifying data conversion using slice plan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ambda2 (left) and velocity magnitude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 structures in lambda2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C4B8FCF-1D15-4C82-8195-34DEAC94BA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nitial re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Picture 2" descr="C:\Home\NCSA\Ferrante\html\f16a.jpg"/>
          <p:cNvPicPr/>
          <p:nvPr/>
        </p:nvPicPr>
        <p:blipFill>
          <a:blip r:embed="rId1"/>
          <a:stretch/>
        </p:blipFill>
        <p:spPr>
          <a:xfrm>
            <a:off x="10018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4" descr="C:\Home\NCSA\Ferrante\html\f16e_4.jpg"/>
          <p:cNvPicPr/>
          <p:nvPr/>
        </p:nvPicPr>
        <p:blipFill>
          <a:blip r:embed="rId2"/>
          <a:stretch/>
        </p:blipFill>
        <p:spPr>
          <a:xfrm>
            <a:off x="43894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5" descr="C:\Users\David\Desktop\livingstone.jpg"/>
          <p:cNvPicPr/>
          <p:nvPr/>
        </p:nvPicPr>
        <p:blipFill>
          <a:blip r:embed="rId3"/>
          <a:stretch/>
        </p:blipFill>
        <p:spPr>
          <a:xfrm>
            <a:off x="1006560" y="5589720"/>
            <a:ext cx="2647800" cy="15372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5" descr="C:\Users\David\Desktop\livingstone.jpg"/>
          <p:cNvPicPr/>
          <p:nvPr/>
        </p:nvPicPr>
        <p:blipFill>
          <a:blip r:embed="rId4"/>
          <a:stretch/>
        </p:blipFill>
        <p:spPr>
          <a:xfrm>
            <a:off x="4390920" y="5587920"/>
            <a:ext cx="2648160" cy="1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ransfer function to isolate narrow Lambda2 ran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vident are very small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lormap with gaussian hue and alpha func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A11A73C-208B-481C-B116-32BD6DD412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solating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Picture 2" descr="C:\Home\NCSA\Ferrante\html\f17b1.jpg"/>
          <p:cNvPicPr/>
          <p:nvPr/>
        </p:nvPicPr>
        <p:blipFill>
          <a:blip r:embed="rId1"/>
          <a:stretch/>
        </p:blipFill>
        <p:spPr>
          <a:xfrm>
            <a:off x="1009800" y="3103560"/>
            <a:ext cx="3516120" cy="263844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4" descr="C:\Home\NCSA\Ferrante\html\f17b_cmap.jpg"/>
          <p:cNvPicPr/>
          <p:nvPr/>
        </p:nvPicPr>
        <p:blipFill>
          <a:blip r:embed="rId2"/>
          <a:stretch/>
        </p:blipFill>
        <p:spPr>
          <a:xfrm>
            <a:off x="4637160" y="4032360"/>
            <a:ext cx="3336840" cy="17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7T14:06:46Z</dcterms:created>
  <dc:creator>David Bock;Darren Adams</dc:creator>
  <dc:description/>
  <dc:language>en-US</dc:language>
  <cp:lastModifiedBy>David</cp:lastModifiedBy>
  <dcterms:modified xsi:type="dcterms:W3CDTF">2012-09-18T14:33:21Z</dcterms:modified>
  <cp:revision>132</cp:revision>
  <dc:subject/>
  <dc:title>Visualizing Large Eddy Simulations</dc:title>
</cp:coreProperties>
</file>