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png" ContentType="image/pn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dt" idx="1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0DED576-59F2-4607-9F91-3C9900DECF1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ftr" idx="1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 type="sldNum" idx="1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8E3E2F7-5B52-4AF9-8189-34350F245E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11B3BB8-9D98-4952-8F95-8546561EC0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FBA579-B39E-4658-9AC8-8CFE90B2F9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4CFF247-11C6-47A0-8B35-46D1B75C99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FF27186-E809-4B4F-A82D-B93003AB9D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65BA3D4-F947-4EFD-8BD0-450F60B1F8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04140A0-10EA-440D-9E6A-D9AC2BCD1E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E1B446A-094D-4544-92D5-534D7E4732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848BBB6-B46F-4172-AE38-510BC30743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949BD0-0A4B-4F44-A678-A317B51076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727B44C-3560-4B14-8E4A-8DDFC029D9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F4146-E6F5-4512-B786-91789E6980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AFB75-7CFB-4EF3-B1DD-E3F65D482B28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FA01300-3668-42E0-A227-95032148F764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C87FFF5-1122-4718-88F2-607315B67085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D410C15-CDA2-420F-8AD8-CB6119E70E9B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B4AB94C-7E8F-4D26-9987-D8EF05815E7B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56A6B98-DD76-4B7F-BEC4-EF61682D0505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EAA3537-294B-4FF8-A0EC-C33E7AACD1E8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6143D7A-ACA9-4566-B735-E196EF2F5EC8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9CA5098-3CE5-4FF1-A97D-D357F98AAEED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5194F98-940A-4F0C-9AE3-4E7D82D10E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BB618C-6B93-49F0-BA31-1A2BC56D1A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6555AF-6020-4B88-9D49-63B912CA821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371420-D3A0-4173-A751-30F80FE9E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24E631-2CB9-42C7-96BD-A3C7BF8AE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5DF941-BA0A-4B72-B7B2-610D06635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B8DF13-141E-4313-98D5-C56B86EA2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088883-E6F1-4DF9-8184-DB823A30B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36D97F-CC07-4D57-AA95-F08DCFB64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4B6A40-5959-4DCF-A708-6850ECEE0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69E655-49FD-4C80-8799-AF2A335E26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98CBD1-16B0-495B-96D6-C9A5E7D9B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5D84FD-8DE0-4B5A-82D4-D893B34E1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718AD0-8F36-4C64-8BEC-2EDD2C1E5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D10EED-A34D-4F94-9F8C-C25B5CDCD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D40655-B74A-4F54-9581-6EC858772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5AD2CB-A631-4A6B-AEDF-B1012729E30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CBF684-1B48-4325-B26F-98A4A13B2131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EBE34C-256D-45BA-80BE-1780E9E2F934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8ECAFB-AE1A-4118-A667-F02401F963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2440F4-E2F7-4CEA-B0CF-6F74526BC77D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4E4788-206D-4711-94FD-4CA5EBC453A0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4E0039-2B37-4481-B399-2AFECC5081BB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5198BE-F8D4-42FE-A733-3455FD8B37E4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4916C0-4AD3-4289-A84B-3A7A6D5F4336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30E58D-8E9F-47B9-91A8-D23D9A0C9FA9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C4002B-6130-4C91-BC21-7615F4BEC4B9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2AB68F-908D-475A-8477-1FFBE61351E6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161D1B-74E5-4E9B-8D5E-D13DEC43EE99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5952F6-71D5-4ECF-A256-961E27FEC1BA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9CABE-4E0B-4C0C-90AD-D9DE5E2E4E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259B1F-DB6C-4F65-A5A9-911E91E6FB9F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E5A03-6D1A-44A5-8077-44FFCA14D44C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4BB20-5B77-45D8-99CB-184C2354D241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8E180-3F9B-4164-BCD3-EB9B355091B3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BE68F-9DA7-4A56-9A6A-2CBF62AFADB4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26F9F-0DBD-4698-8FD1-34B197281C0E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5A70D-A412-4341-8F04-C819D58CF767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E8B28-F207-4DE0-98D0-11CB95B88169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1685D-9414-42FC-8ADE-975D309AB735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15479-DC75-455B-9A8B-9F1B0B64C8BC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F4019-C6BF-4C0E-9444-795B83EA71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F0F624-15CA-4002-98F0-7F4F0B16C08E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F1FFF-FFF4-43E5-9BCA-18B6FF757F91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0940ADA-34CD-4DE4-AEBC-5573B4D3B913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A884FE1-A967-48FD-9655-4189E221FD65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F8AFFB5-765D-426A-9394-4E891A656053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5D3E3F0-C54D-4523-8BFC-8E661B102A1A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7CDAC7E-1FCD-40AB-BF54-1885CCB08362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550DA8F-3BAD-4FAA-9B52-2971BDCB9BE8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FD7EF46-751B-443D-AD14-CB8297B60AE1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CD8C380-44B7-4D5C-BC42-208129D6C444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37B6F76-E994-48B8-B827-AFAE1E5E92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E27349-ADC2-4D5D-8101-F392C9C51F9E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FA4DE80-05C5-4136-A63E-F817F96895A7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D1FB98C-CC87-4CF2-B4B6-856808C8B61D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A2FB1F6-C810-41D0-8B91-3F51B0BCF34A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2AB0B58-6705-4F71-80D3-C71924144C1C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CD706D-3DCE-4B12-97DB-BE7301FAD1E8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565A495-AF4E-471B-93B7-350392FB9C8E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E6103EC-8985-4885-A470-65B87D5B8529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12B5F54-D8BE-413D-B03A-348F2CD485F8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E35B72-4C92-4530-A81F-4961D3449B9F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02E9B87-C59B-4012-9535-C19609316A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DEF9F3-9C3A-4E78-966D-B9F4E13BA036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E16DCF3-A826-4E4C-B116-C2255F0200E5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6263AF7-2AF1-491E-9500-AED2B76161D2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CB0667F-56B3-4C09-ACFD-0182D79982FE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F55BD73-24E2-4E70-8EAB-E65BB99D6CDE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C01987F-ED26-425D-A05D-420876FD0EBF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E55E81-B063-49EE-B267-ADCC68E26D11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F0A22E-1047-4174-A139-9EF70571BF80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0FBE84-21E8-4420-967E-7609AFD93B43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224098-287D-4EAA-AD7A-9797837CEBAB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CA89C2-4C69-4383-9782-48F9BC7CCB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B5948A-1621-487A-BCA3-9E15A5635245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74FF64-691B-4E3B-A756-95828E554F1C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64D3CA-C481-42BD-95D5-A52587B4986B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41ACFB-75FB-4031-99B9-4081CDA390F6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7BFA14-74C1-4734-87E8-EAE0613AA56B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B9DC9F-97CA-4963-8A47-38B71DE08140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B84463-06A6-4171-AADD-8605FDF77024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9F69A4-64BD-48C7-B648-8285F82786AD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1C17197-57CE-4192-8598-5A741AF692A1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A6C833F-273B-4733-885E-B623A4843C48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3397A06-2048-4AB9-994B-E2B371B735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1C10CE-BA12-493A-861F-20ADAEEA4A84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05766A-CCD6-4D64-93E7-A0435EDC358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xsede-ppt-titl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Date Placeholder 3"/>
          <p:cNvSpPr/>
          <p:nvPr/>
        </p:nvSpPr>
        <p:spPr>
          <a:xfrm>
            <a:off x="6705720" y="3510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B9ED04-0872-4FA7-803C-7428CF9E8467}" type="datetime3">
              <a:rPr b="0" lang="en-US" sz="1500" spc="-1" strike="noStrike">
                <a:solidFill>
                  <a:srgbClr val="ffffff"/>
                </a:solidFill>
                <a:latin typeface="Verdana"/>
              </a:rPr>
              <a:t>July 30, 2026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8" descr="nsf-white-576x576.png"/>
          <p:cNvPicPr/>
          <p:nvPr/>
        </p:nvPicPr>
        <p:blipFill>
          <a:blip r:embed="rId4"/>
          <a:stretch/>
        </p:blipFill>
        <p:spPr>
          <a:xfrm>
            <a:off x="7772400" y="502920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5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9573F95-A031-4BF4-881B-0330D3844A81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Num" idx="6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E973CCF-BF2E-43D3-89E4-E006F6C79DE4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sldNum" idx="7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42A655E-BBBC-45F5-8B72-E952ACDCCC33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8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2B935CC-958F-438C-958B-20F64DB844A7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sldNum" idx="9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4925A3-668E-43D5-88F0-71DAA30F9E49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sldNum" idx="10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1E5BCC-A4FF-4572-9430-1F496FF952FF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09120" y="2664000"/>
            <a:ext cx="8153640" cy="91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NS of Spatially Developing Turbulent Boundary Layer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609120" y="3657600"/>
            <a:ext cx="815364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PI: Antonino Ferrante, University of Washington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ECSS: Darren Adams, David Bock, NCSA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ay-traced, volume renderings using same colormap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ooking down chamber (left) and close-up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, wispy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15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EF719AC-B4D4-4E03-B42C-4E7325D140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Picture 2" descr="C:\Home\NCSA\Ferrante\html\f17c1.jpg"/>
          <p:cNvPicPr/>
          <p:nvPr/>
        </p:nvPicPr>
        <p:blipFill>
          <a:blip r:embed="rId1"/>
          <a:stretch/>
        </p:blipFill>
        <p:spPr>
          <a:xfrm>
            <a:off x="1004760" y="3100320"/>
            <a:ext cx="3579840" cy="268452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4" descr="C:\Home\NCSA\Ferrante\html\t9a.jpg"/>
          <p:cNvPicPr/>
          <p:nvPr/>
        </p:nvPicPr>
        <p:blipFill>
          <a:blip r:embed="rId2"/>
          <a:stretch/>
        </p:blipFill>
        <p:spPr>
          <a:xfrm>
            <a:off x="468324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ing different visual representa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op-down view (left), three-quarter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dded data boundary grid for refer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AB0CA5-6B72-4266-A11D-9EF0770AF8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Picture 2" descr="C:\Home\NCSA\Ferrante\html\f26c_2.jpg"/>
          <p:cNvPicPr/>
          <p:nvPr/>
        </p:nvPicPr>
        <p:blipFill>
          <a:blip r:embed="rId1"/>
          <a:stretch/>
        </p:blipFill>
        <p:spPr>
          <a:xfrm>
            <a:off x="1009800" y="309564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4" descr="C:\Home\NCSA\Ferrante\html\f26a.jpg"/>
          <p:cNvPicPr/>
          <p:nvPr/>
        </p:nvPicPr>
        <p:blipFill>
          <a:blip r:embed="rId2"/>
          <a:stretch/>
        </p:blipFill>
        <p:spPr>
          <a:xfrm>
            <a:off x="4697280" y="3090960"/>
            <a:ext cx="3584880" cy="268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1651F29-E879-4FDA-B896-B224A215D3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Picture 2" descr="C:\Home\NCSA\Ferrante\html\f27a.0001.jpg"/>
          <p:cNvPicPr/>
          <p:nvPr/>
        </p:nvPicPr>
        <p:blipFill>
          <a:blip r:embed="rId1"/>
          <a:stretch/>
        </p:blipFill>
        <p:spPr>
          <a:xfrm>
            <a:off x="102384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4" descr="C:\Home\NCSA\Ferrante\html\f27b.0001.jpg"/>
          <p:cNvPicPr/>
          <p:nvPr/>
        </p:nvPicPr>
        <p:blipFill>
          <a:blip r:embed="rId2"/>
          <a:stretch/>
        </p:blipFill>
        <p:spPr>
          <a:xfrm>
            <a:off x="4713120" y="3102120"/>
            <a:ext cx="358488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3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F1DB77E-692A-4B34-B9A9-8F54389F04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Picture 2" descr="C:\Home\NCSA\Ferrante\html\f27c.0001.jpg"/>
          <p:cNvPicPr/>
          <p:nvPr/>
        </p:nvPicPr>
        <p:blipFill>
          <a:blip r:embed="rId1"/>
          <a:stretch/>
        </p:blipFill>
        <p:spPr>
          <a:xfrm>
            <a:off x="103176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2" descr="C:\Home\NCSA\Ferrante\html\f27d.0001.jpg"/>
          <p:cNvPicPr/>
          <p:nvPr/>
        </p:nvPicPr>
        <p:blipFill>
          <a:blip r:embed="rId2"/>
          <a:stretch/>
        </p:blipFill>
        <p:spPr>
          <a:xfrm>
            <a:off x="471960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53352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gration of particle flow visualizing veloc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xample of previous particle flow using custom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73A0E2-CC8A-4C38-9A4B-1D2647D56B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Picture 2" descr=""/>
          <p:cNvPicPr/>
          <p:nvPr/>
        </p:nvPicPr>
        <p:blipFill>
          <a:blip r:embed="rId1"/>
          <a:stretch/>
        </p:blipFill>
        <p:spPr>
          <a:xfrm>
            <a:off x="990720" y="2684520"/>
            <a:ext cx="3886200" cy="2914560"/>
          </a:xfrm>
          <a:prstGeom prst="rect">
            <a:avLst/>
          </a:prstGeom>
          <a:ln w="0">
            <a:noFill/>
          </a:ln>
        </p:spPr>
      </p:pic>
      <p:sp>
        <p:nvSpPr>
          <p:cNvPr id="441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Science Overview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6AA9D6-6EC7-44D4-B7C1-3AD5CC9AD6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72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mputational fluid flow at boundary layer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olution of 3D, unsteady Navier-Stokes (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Generate initial inflow conditions to D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elocity components must satisfy 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  <p:pic>
        <p:nvPicPr>
          <p:cNvPr id="381" name="Picture 2" descr="C:\Users\David\Desktop\1-s2.0-S0021999104000348-gr1.gif"/>
          <p:cNvPicPr/>
          <p:nvPr/>
        </p:nvPicPr>
        <p:blipFill>
          <a:blip r:embed="rId1"/>
          <a:stretch/>
        </p:blipFill>
        <p:spPr>
          <a:xfrm>
            <a:off x="1219320" y="2895480"/>
            <a:ext cx="4711680" cy="2833920"/>
          </a:xfrm>
          <a:prstGeom prst="rect">
            <a:avLst/>
          </a:prstGeom>
          <a:ln w="0">
            <a:noFill/>
          </a:ln>
        </p:spPr>
      </p:pic>
      <p:sp>
        <p:nvSpPr>
          <p:cNvPr id="382" name="Rectangle 5"/>
          <p:cNvSpPr/>
          <p:nvPr/>
        </p:nvSpPr>
        <p:spPr>
          <a:xfrm>
            <a:off x="1219320" y="572940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Reference: http://dx.doi.org/10.1016/j.jcp.2004.01.0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XSEDE projec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3874B6-A34F-4DB5-8330-28E6E31627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U hrs and TB on Kraken, Ranger, tape stora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ulation using largest Reynolds number ever report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hare generated DNS database with scientific commun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rform first DNS of fully-resolved droplet-laden turbul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CSS consultants: Darren Adams, David Bock (NCSA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ECSS goal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6DA85C-0588-4055-BF9B-5DA6F93F19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tascale scaling and deployment on XSEDE resourc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igh-level HDF5 parallel IO library layer (H5D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5DNS provid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creation via petascale simulation run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analysi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implified I/O data conversion (e.g. visualization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isualization tests per simulation ru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roduction visualization imagery (e.g. journals, conference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57200" y="973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O library written in C on top of HDF5 library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ncapsulates HDF5 File structure and metadata particular to the DNS simulation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For simulation code, H5DNS provides: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Large data dumps of field variable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Restart capability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Particle IO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Metadata (run vars., input parameters etc.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ED4352A-EFC1-41F8-A5D1-EF9560AB3E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457200" y="993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nalysis and visualizatio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VisIt Reader (C++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Other direct HDF5 access (Matlab,TecPlot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wig interfaces ??? (Perl , Python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04525F-5570-4A9D-8819-899373BC72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533520" y="1676520"/>
            <a:ext cx="82296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Before H5DNS, data generation cumbersome, error-pron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equired editing and executing Fortran post-processor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ple H5DNS reader now used to read and extract data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nverted to format used by custom visualization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rested in scalar Lambda2 (vortices using velocity tensor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C207DB0-7157-46C9-88F0-799F7C4411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Data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s verifying data conversion using slice plan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ambda2 (left) and velocity magnitude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 structures in lambda2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2629D1-834A-4B6E-A218-C66B0D748D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nitial re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Picture 2" descr="C:\Home\NCSA\Ferrante\html\f16a.jpg"/>
          <p:cNvPicPr/>
          <p:nvPr/>
        </p:nvPicPr>
        <p:blipFill>
          <a:blip r:embed="rId1"/>
          <a:stretch/>
        </p:blipFill>
        <p:spPr>
          <a:xfrm>
            <a:off x="10018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4" descr="C:\Home\NCSA\Ferrante\html\f16e_4.jpg"/>
          <p:cNvPicPr/>
          <p:nvPr/>
        </p:nvPicPr>
        <p:blipFill>
          <a:blip r:embed="rId2"/>
          <a:stretch/>
        </p:blipFill>
        <p:spPr>
          <a:xfrm>
            <a:off x="43894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5" descr="C:\Users\David\Desktop\livingstone.jpg"/>
          <p:cNvPicPr/>
          <p:nvPr/>
        </p:nvPicPr>
        <p:blipFill>
          <a:blip r:embed="rId3"/>
          <a:stretch/>
        </p:blipFill>
        <p:spPr>
          <a:xfrm>
            <a:off x="1006560" y="5589720"/>
            <a:ext cx="2647800" cy="15372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5" descr="C:\Users\David\Desktop\livingstone.jpg"/>
          <p:cNvPicPr/>
          <p:nvPr/>
        </p:nvPicPr>
        <p:blipFill>
          <a:blip r:embed="rId4"/>
          <a:stretch/>
        </p:blipFill>
        <p:spPr>
          <a:xfrm>
            <a:off x="4390920" y="5587920"/>
            <a:ext cx="2648160" cy="1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ransfer function to isolate narrow Lambda2 ran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vident are very small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lormap with gaussian hue and alpha func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112C3B1-16B3-4923-9DFF-A7D60C4A1C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solating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Picture 2" descr="C:\Home\NCSA\Ferrante\html\f17b1.jpg"/>
          <p:cNvPicPr/>
          <p:nvPr/>
        </p:nvPicPr>
        <p:blipFill>
          <a:blip r:embed="rId1"/>
          <a:stretch/>
        </p:blipFill>
        <p:spPr>
          <a:xfrm>
            <a:off x="1009800" y="3103560"/>
            <a:ext cx="3516120" cy="263844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4" descr="C:\Home\NCSA\Ferrante\html\f17b_cmap.jpg"/>
          <p:cNvPicPr/>
          <p:nvPr/>
        </p:nvPicPr>
        <p:blipFill>
          <a:blip r:embed="rId2"/>
          <a:stretch/>
        </p:blipFill>
        <p:spPr>
          <a:xfrm>
            <a:off x="4637160" y="4032360"/>
            <a:ext cx="3336840" cy="17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7T14:06:46Z</dcterms:created>
  <dc:creator>David Bock;Darren Adams</dc:creator>
  <dc:description/>
  <dc:language>en-US</dc:language>
  <cp:lastModifiedBy>David</cp:lastModifiedBy>
  <dcterms:modified xsi:type="dcterms:W3CDTF">2012-09-18T14:33:21Z</dcterms:modified>
  <cp:revision>132</cp:revision>
  <dc:subject/>
  <dc:title>Visualizing Large Eddy Simulations</dc:title>
</cp:coreProperties>
</file>