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D421A-ECAC-485C-8720-D5C00199F2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3C967-96F0-45ED-8FED-042C9DD5F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E77D6-CA0B-4816-B62A-BB9493323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86AEC-B1E7-4DC7-A068-162A09F37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54095-54EE-457A-BE1D-2CDC3F9AB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4017A-594F-4D19-91D9-F05767DE4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F6C00-FFC4-4AF1-9674-7DE6395CA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2286C-DB65-45D7-AD66-A08EA1AC6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08539-2763-4EC2-BACC-63AD8A1A2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9A5CA-5EDD-48C4-A62E-1CD77019B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82A00-A64A-4722-8E54-A3AD415A4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D2F4E-BEAA-440C-8339-C81935015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E708-17C1-4005-A611-223DC96CF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022D-7FEE-42C2-B292-8E9E7FDC2E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1C5765-D9F4-4CB2-8965-D7C8767FDA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79228-4AC3-475A-AB55-A650B8BD06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28E3E-AEE3-492A-83D8-A20B623E858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E3D4F-2CEA-4E21-89C3-6C4BF6BAA61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41A43-B276-4F66-923D-B72767BAF3B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424C7-0C13-4F67-8554-A3F6E6929C0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4BD4AB-329F-412E-A7C7-150D8B4BEE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C39B40-359B-4004-9A81-AAD76545191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9DBBDE-D76A-490C-896B-AB1E0B86C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CCBD-7BD4-4309-A217-6B4E1EECD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5462-3F03-4EE4-91C6-459264709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F1E39-6588-4269-ADD4-059F8EBC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0A13F-229D-4487-8A06-2E4E692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D91D7-6F5A-4461-B175-C6968D6D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C5B96-3E0E-4D5E-A690-0026B2B7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C826E-7FF2-4748-9C39-7D867116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F85DD-5929-42CD-BD7B-CC698264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439C1-30A7-487C-A77C-54262A72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58D5-E1BC-4CEF-930A-73AE12206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366AE-4364-442F-84CE-D6D6A9B4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5AD9F-9569-433E-B42B-5E644DD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D2DE1-AA53-48A2-8A02-DDDF9FE7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DD22C-43DE-478F-BCBB-7FF856BF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F49AD-B581-4617-8CB2-3A0D7F36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3403-5B05-4C3F-9414-ABD6A8EFD1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CC012-1CB1-47DB-B548-616E7B6A74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A4DF5-E54C-46CA-84EE-25E9729C39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A70BF-5B91-4FD2-A53E-46A8605BB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0A52C-CB72-4066-9EDB-73117AE4D1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C6998-96AF-4131-B58B-2A261652C3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AFB2C-4644-4A16-9C0F-AE29A02554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CD527-DD54-41D2-B925-98C20FE88E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13AB0-FD51-41BE-AE63-43EFE7F15B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97861-3318-4E3F-8104-58BF7969EF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0118E-3312-4669-989A-D0151002EB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26DF3-2FF0-42C6-B832-B630082F25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5D578-BB17-4F96-B99E-A100A75242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06488-D303-4F46-9ED9-AC4FA2993C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0CAB-5DDD-4D51-A0E0-66158C048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5D34-D6AA-4771-BAFC-7D7B356B7F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5121-BF98-41FD-B845-341B9F7ED7B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3388-E375-4E47-939D-D4685AD289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6572-387E-4438-A45E-30903B5BE9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C329-7F5F-4DA8-A9A8-F1DA4D79CA2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C7A3-DD80-45B7-8318-BB1346BA05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3BC0-70D8-4757-8990-B78A0CF6634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E497-6C54-404A-B55C-61867551E0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ED49-2854-4DA2-9717-C4B509106D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6412-F473-4A01-BE5A-46946B0D35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203C-EB2F-4EBF-98AE-7953375A1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80E9-9495-4980-BBFF-5BF33ACD9E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4E13-2C28-4A27-83D4-715CFDA6E4A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45D883-F067-4764-971C-AC416E7D67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B22B9-9AE7-40EF-AFC6-528489F8C98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B81F3F-A251-43FD-9654-64D44B423CE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CE2DD-4011-49F5-8417-3C1F3E5938D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CD966C-996F-44BA-9378-98964863AF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0DDCF-BC4D-4D28-8719-545D3793A3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4AE55-D380-487A-BE81-242788AB217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EC0D5-847B-415A-92CC-2635CE52FC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FC5CA-9F56-426C-89E7-BA7AA9C5C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78CF-5357-4A6E-9B64-FDE20ADCD7B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6EC03F-967E-4F1D-90A5-0F8885B1125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4B050-034E-4E72-B8C6-B322BDFE1F5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7E8737-9DFA-4405-86FA-8BC683AC69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8B626-E5EA-4EFA-8871-695A95DAA1E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01E61-7DB5-4CD4-987A-65765E7ACD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3F05B-645D-4A74-96A9-3B9E6CACC3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97455-2E65-49DD-A059-9462E55BBF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F6F47-EDAC-4149-A2AA-F74F7317B02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6F2FA-8546-4B90-B180-6EB0614158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F614F-EEB9-46C5-8A5D-C0A644755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D714-0F8E-4981-9BB3-AF82D9031E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402A0-E48D-484D-8EF5-C93C2F6758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29448-5B11-45F5-A3F2-AC48DA91DB9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A2C5E-F276-4990-9E3B-76DE2D716A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8E82F-279A-4DEC-A3DC-8D598DBCF14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4F72A-53B5-49B9-8CE3-B280E7FFE7A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DA5C-0DF5-4AB0-8EAE-77D2CB2F4DE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2B55-F92E-44BD-B4A7-1ED47384E6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8DA7-68E0-4DA3-BE99-0C54B33FD2E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06D0-5D35-4749-AEB4-2FEBFE7D03E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958E-69B6-47EE-B23C-78C18962E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29CC-8E6F-4076-93A7-953933E9E3A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B7CE6-E250-4AEF-A1D6-CCE964AC532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7C8BC-028D-4956-A31C-6C8441AA45F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6B03-3674-4238-8222-D6990B7DC1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4A2F-E603-4AB1-8D19-8CB7EBC5D2F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468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D6B05-DDA9-47AC-A786-CBFA1AA284A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468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4C24E-F3F8-4E2C-89C6-46FE74BDE7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468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404C-0A72-4494-8FA5-875D45F0324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1088F-2058-4D6A-9D2C-1743783F9D4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98775-1B33-4697-8D9F-942C9C2EEE5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55F382-4DD5-4356-A6AF-94EBB57AE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DC203-5EE8-493F-A7CB-E42386FE7EB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B62117-A797-407E-AE53-AC2185100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xsede-ppt-titl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3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FE80B-FE6E-4014-AFC6-C8675C21F356}" type="datetime3">
              <a:rPr b="0" lang="en-US" sz="1500" spc="-1" strike="noStrike">
                <a:solidFill>
                  <a:srgbClr val="ffffff"/>
                </a:solidFill>
                <a:latin typeface="Verdana"/>
              </a:rPr>
              <a:t>July 28, 20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nsf-white-576x576.png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05443-711D-482A-AAAB-0010BFE268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BA0DE-7F28-44E1-B054-316F3C78F9E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08983-157F-46C2-9138-084C58CFB0D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8ADA1-2577-4189-8D3D-FF40CB08F74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615CF-1068-462B-BB54-4B19F79F7FD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xsede-ppt-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nsf-white-576x576.png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5406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5406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1219320" y="635112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9F1BB-4464-49A9-94AE-8C4E654F16F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664000"/>
            <a:ext cx="815364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NS of Spatially Developing Turbulent Boundary Lay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09120" y="3657600"/>
            <a:ext cx="81536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PI: Antonino Ferrante, University of Washington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b9cde5"/>
                </a:solidFill>
                <a:latin typeface="Arial"/>
                <a:ea typeface="Arial"/>
              </a:rPr>
              <a:t>ECSS: Darren Adams, David Bock, NCSA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ay-traced, volume renderings using same colormap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ooking down chamber (left) and close-up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, wispy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8D725-BCDE-440D-AE4B-FBDEC02C4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C:\Home\NCSA\Ferrante\html\f17c1.jpg"/>
          <p:cNvPicPr/>
          <p:nvPr/>
        </p:nvPicPr>
        <p:blipFill>
          <a:blip r:embed="rId1"/>
          <a:stretch/>
        </p:blipFill>
        <p:spPr>
          <a:xfrm>
            <a:off x="1004760" y="3100320"/>
            <a:ext cx="3579840" cy="26845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C:\Home\NCSA\Ferrante\html\t9a.jpg"/>
          <p:cNvPicPr/>
          <p:nvPr/>
        </p:nvPicPr>
        <p:blipFill>
          <a:blip r:embed="rId2"/>
          <a:stretch/>
        </p:blipFill>
        <p:spPr>
          <a:xfrm>
            <a:off x="468324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ing different visual representa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p-down view (left), three-quarter side view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dded data boundary grid for refer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57CA8-D5CC-4C88-B59C-1A99EC19E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Volume render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C:\Home\NCSA\Ferrante\html\f26c_2.jpg"/>
          <p:cNvPicPr/>
          <p:nvPr/>
        </p:nvPicPr>
        <p:blipFill>
          <a:blip r:embed="rId1"/>
          <a:stretch/>
        </p:blipFill>
        <p:spPr>
          <a:xfrm>
            <a:off x="1009800" y="309564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C:\Home\NCSA\Ferrante\html\f26a.jpg"/>
          <p:cNvPicPr/>
          <p:nvPr/>
        </p:nvPicPr>
        <p:blipFill>
          <a:blip r:embed="rId2"/>
          <a:stretch/>
        </p:blipFill>
        <p:spPr>
          <a:xfrm>
            <a:off x="4697280" y="309096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A0582-B6BD-40F0-A245-B999BC52F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Home\NCSA\Ferrante\html\f27a.0001.jpg"/>
          <p:cNvPicPr/>
          <p:nvPr/>
        </p:nvPicPr>
        <p:blipFill>
          <a:blip r:embed="rId1"/>
          <a:stretch/>
        </p:blipFill>
        <p:spPr>
          <a:xfrm>
            <a:off x="102384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C:\Home\NCSA\Ferrante\html\f27b.0001.jpg"/>
          <p:cNvPicPr/>
          <p:nvPr/>
        </p:nvPicPr>
        <p:blipFill>
          <a:blip r:embed="rId2"/>
          <a:stretch/>
        </p:blipFill>
        <p:spPr>
          <a:xfrm>
            <a:off x="4713120" y="3102120"/>
            <a:ext cx="3584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ighting and shadows add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creased absorption coefficient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Multiple viewing angles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24044-B734-431D-8170-71C007595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Production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C:\Home\NCSA\Ferrante\html\f27c.0001.jpg"/>
          <p:cNvPicPr/>
          <p:nvPr/>
        </p:nvPicPr>
        <p:blipFill>
          <a:blip r:embed="rId1"/>
          <a:stretch/>
        </p:blipFill>
        <p:spPr>
          <a:xfrm>
            <a:off x="1031760" y="3103560"/>
            <a:ext cx="3584520" cy="268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C:\Home\NCSA\Ferrante\html\f27d.0001.jpg"/>
          <p:cNvPicPr/>
          <p:nvPr/>
        </p:nvPicPr>
        <p:blipFill>
          <a:blip r:embed="rId2"/>
          <a:stretch/>
        </p:blipFill>
        <p:spPr>
          <a:xfrm>
            <a:off x="4719600" y="3103560"/>
            <a:ext cx="358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gration of particle flow visualizing veloc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xample of previous particle flow using custom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03EC9-4372-49B3-A5B7-E70CCF935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990720" y="2684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1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cience Overvie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DD782-C931-430C-B46B-0D1F6DE27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mputational fluid flow at boundary layer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olution of 3D, unsteady Navier-Stokes (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Generate initial inflow conditions to D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elocity components must satisfy 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291600" indent="-29160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81" name="Picture 2" descr="C:\Users\David\Desktop\1-s2.0-S0021999104000348-gr1.gif"/>
          <p:cNvPicPr/>
          <p:nvPr/>
        </p:nvPicPr>
        <p:blipFill>
          <a:blip r:embed="rId1"/>
          <a:stretch/>
        </p:blipFill>
        <p:spPr>
          <a:xfrm>
            <a:off x="1219320" y="2895480"/>
            <a:ext cx="4711680" cy="2833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1219320" y="5729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Reference: http://dx.doi.org/10.1016/j.jcp.2004.01.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XSEDE projec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C4AEF-3DE4-4715-94BB-5F8F93D5F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U hrs and TB on Kraken, Ranger, tape stora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ulation using largest Reynolds number ever reported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hare generated DNS database with scientific community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form first DNS of fully-resolved droplet-laden turbulenc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CSS consultants: Darren Adams, David Bock (NCSA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ECSS goa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E75A7-D3B0-4B51-BAFE-09369A757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tascale scaling and deployment on XSEDE resourc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gh-level HDF5 parallel IO library layer (H5DN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5DNS provid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creation via petascale simulation run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ata analysi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implified I/O data conversion (e.g. visualization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Visualization tests per simulation ru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roduction visualization imagery (e.g. journals, conference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973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O library written in C on top of HDF5 library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ncapsulates HDF5 File structure and metadata particular to the DNS simulation.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or simulation code, H5DNS provides: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Large data dumps of field variabl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Restart capabilit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Particle IO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Metadata (run vars., input parameters etc.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E28EE-0CFC-4119-A0BF-CDE865727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5DNS softwar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993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nalysis and visualiz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VisIt Reader (C++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Other direct HDF5 access (Matlab,TecPlot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54061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wig interfaces ??? (Perl , Python,…)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057BF-E6AC-451C-86B2-E258319C9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Before H5DNS, data generation cumbersome, error-pron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Required editing and executing Fortran post-processor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imple H5DNS reader now used to read and extract dat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nverted to format used by custom visualization system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Interested in scalar Lambda2 (vortices using velocity tensors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375F3-62DF-4CE4-85D0-307B93FBC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ests verifying data conversion using slice plan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Lambda2 (left) and velocity magnitude (right)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Note small structures in lambda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801A3-93C7-490B-ACB3-B95919642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niti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C:\Home\NCSA\Ferrante\html\f16a.jpg"/>
          <p:cNvPicPr/>
          <p:nvPr/>
        </p:nvPicPr>
        <p:blipFill>
          <a:blip r:embed="rId1"/>
          <a:stretch/>
        </p:blipFill>
        <p:spPr>
          <a:xfrm>
            <a:off x="10018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C:\Home\NCSA\Ferrante\html\f16e_4.jpg"/>
          <p:cNvPicPr/>
          <p:nvPr/>
        </p:nvPicPr>
        <p:blipFill>
          <a:blip r:embed="rId2"/>
          <a:stretch/>
        </p:blipFill>
        <p:spPr>
          <a:xfrm>
            <a:off x="438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C:\Users\David\Desktop\livingstone.jpg"/>
          <p:cNvPicPr/>
          <p:nvPr/>
        </p:nvPicPr>
        <p:blipFill>
          <a:blip r:embed="rId3"/>
          <a:stretch/>
        </p:blipFill>
        <p:spPr>
          <a:xfrm>
            <a:off x="1006560" y="5589720"/>
            <a:ext cx="2647800" cy="153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David\Desktop\livingstone.jpg"/>
          <p:cNvPicPr/>
          <p:nvPr/>
        </p:nvPicPr>
        <p:blipFill>
          <a:blip r:embed="rId4"/>
          <a:stretch/>
        </p:blipFill>
        <p:spPr>
          <a:xfrm>
            <a:off x="4390920" y="5587920"/>
            <a:ext cx="264816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Visualizat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520" y="1676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ransfer function to isolate narrow Lambda2 range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Evident are very small tubular structure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Colormap with gaussian hue and alpha function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219320" y="6351480"/>
            <a:ext cx="121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38906-7222-4C86-9A51-FFE81E6D6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45720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Arial"/>
                <a:ea typeface="Arial"/>
              </a:rPr>
              <a:t>Isolat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:\Home\NCSA\Ferrante\html\f17b1.jpg"/>
          <p:cNvPicPr/>
          <p:nvPr/>
        </p:nvPicPr>
        <p:blipFill>
          <a:blip r:embed="rId1"/>
          <a:stretch/>
        </p:blipFill>
        <p:spPr>
          <a:xfrm>
            <a:off x="1009800" y="3103560"/>
            <a:ext cx="3516120" cy="2638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Home\NCSA\Ferrante\html\f17b_cmap.jpg"/>
          <p:cNvPicPr/>
          <p:nvPr/>
        </p:nvPicPr>
        <p:blipFill>
          <a:blip r:embed="rId2"/>
          <a:stretch/>
        </p:blipFill>
        <p:spPr>
          <a:xfrm>
            <a:off x="4637160" y="4032360"/>
            <a:ext cx="33368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06:46Z</dcterms:created>
  <dc:creator>David Bock;Darren Adams</dc:creator>
  <dc:description/>
  <dc:language>en-US</dc:language>
  <cp:lastModifiedBy>David</cp:lastModifiedBy>
  <dcterms:modified xsi:type="dcterms:W3CDTF">2012-09-18T14:33:21Z</dcterms:modified>
  <cp:revision>132</cp:revision>
  <dc:subject/>
  <dc:title>Visualizing Large Eddy Simulations</dc:title>
</cp:coreProperties>
</file>