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png" ContentType="image/pn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dt" idx="1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204FA01-2AFE-4DA5-8946-56C73DCE779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ftr" idx="1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 type="sldNum" idx="1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97D188-47A8-4608-8FCA-3387A1B732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E6EEC4-B3D4-4616-8738-67588DE37F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57A5348-98F0-4A8C-9636-DD6EE4B7A5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E5B8DE-C57E-439E-B9B9-D2B297AF82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855435F-C5C7-4450-A52F-B8218D89FE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6AE923A-E2C5-472E-A0EB-A4DB2CD310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FC8282-F2A3-4A73-867B-8E1C75E6CC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2604C8-C871-4DC3-8AD7-5A557834A0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D47B6B3-D207-4BAB-B71D-1BE80C15F5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4191A90-C4B0-44A1-9AA9-0FEADE376B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D42BA3-A794-4F37-9607-5363AA3B3C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0C279A-D72F-4DD9-96BD-0E98FB9CE0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CA35C2-2D6D-4B60-B677-7A8D681AC023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4705AF1-BE41-4BC4-B385-C0FB335674DF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0827DB5-E250-443E-81FA-C71B6F498BDA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20070DE-D11B-47B4-9907-CD1909AD1B8C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72BAB5F-AD1B-4381-A800-79F4704102EC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AD4C5F4-0599-49B3-A544-7432E5CF2687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2D6F5F7-D0BC-491B-848E-AC217DB5EC14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6F425BB-05F3-4A42-9128-4A257485B0E1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B4871EA-F30D-4A5E-B262-FA1FE310659F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ACB7EB3-DDA0-4F68-BAA6-1DFB4A22F6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C60751-D66D-43F0-8208-CEAD7B07FC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6E283E-4F30-4237-A9CB-3681A68783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2B49A7-CEAD-4DEA-B8CA-04B6631D7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EB3F01-54D0-4744-9603-5E3A444DE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910A1B-4256-41A4-BEBA-FBAF2FC28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BCA20C-8500-478D-94A4-E4842DE62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22CF78-FBBC-445D-98D1-912A53B2D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A75B7F-1F1D-4B74-B727-5725AE25E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6B06A2-C53B-4CE3-A41F-CCBD3100C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CF0025-BEB7-41F5-A983-497DCDE3E7A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1AF52E-4CB3-440B-880E-628046F89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5E5C7A-629B-427C-B346-6A90FB746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12EC15-913A-48D6-829D-D775CF802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6F850F-2DDC-4CC7-972A-2512D92D1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6D4C22-38B2-4FF9-A97E-6221D56F0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3BF471-6F9A-4578-8914-0886CD63C60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248D6F-4DA8-4C11-AEC9-0502E54F87DF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3B220B-5265-4505-976A-953C01EDC24F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47BCAB-ECE8-45B0-9DBF-D1090B11AA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F43229-BF23-4CDD-9080-B66A6577669A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0A2539-8C4C-4AC5-9923-875937FE7E71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8733E1-ED36-4EA2-810A-15289EF1CE86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60340D-A29D-4110-B611-95C69315EB31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E0A6FC-64CC-41E3-8C13-16AF1FBE5C52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B7D0A6-0EAB-4666-A93E-666E087E4F37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1AD158-71A8-48FA-8E11-FBC35903203A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E09908-F875-4577-802D-3C2A78D02A11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1AECA9-9447-4E52-9CFC-AC3BF79A04C0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D0EAA4-6370-4A72-B39C-8D96E0BC0EC9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CDA37-D288-4C0C-8CA6-FEFBD1FF4B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5CFCC9-06EA-467E-9274-122B6DC33F3F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2EBC2-3FBD-48CC-B9B3-A8B360E06379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520BE-9D07-4900-A39A-DB81E9D7C0A3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B538D-0B38-4AF4-9454-E2EAB259D62B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BBE02-1C8B-4028-A2A9-68B7382010F7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F9454-1E7F-4616-B317-E49DBDA5EF45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8BC7B-A809-4005-90C6-154C9BCDE4C4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CADC8-576B-4F1E-A8B3-5FC65F736F1E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86C36-C337-4E90-930F-BB2CC9A5B9A2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80EA7-8395-417C-87AF-6F4EF626080A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F91AA-C96D-4951-9271-2894B06F08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B5826E-E8EF-4114-B3C8-A55595F25EDA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966D3-ABD5-4050-A9EA-DD7CE7863021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FC133DC-4BA3-4782-AFD9-3E73C8AE0C55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D0ECED3-93D3-4781-9187-00BF04A58358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F55A3AF-E852-473F-BC03-4263794627BD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25AED3D-8053-4173-9EE2-A6D6D1EF893B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44A0347-0125-46EA-A232-79BAF90F65C0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70BDAB2-DBEA-491C-A417-E50B83E46ADE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F7C5DF9-FF44-4B8B-A777-BBB297914685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2913EA8-64E8-4C12-A81C-5D5717BA5BBC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23E3183-3067-4C2D-B4DA-9883CC0395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05EBB3-EA2A-4F7B-ACAF-1619842601F4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78AEE4D-6B3F-4863-A00D-B6E5B1758490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46C64B1-F29D-4375-AEC9-D73001A3586F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2555600-67CE-434C-89EB-9E662A5E48FC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BD72642-7940-4467-8E46-84D78D34E235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9CC7A4-FF0E-4F4D-86D1-D21761E02C89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1808B27-F071-40E7-AA14-06286BE9501E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AD81745-8BD5-4D7A-AAA2-4734AE0E77E6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99E11BB-6B60-42F9-954F-BA1A85741DC9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B13483-37D2-4271-8742-F89480366355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769B7BC-E5FA-413A-9EAE-EB952677EF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ED54F8-C6FD-48A4-9009-EC7DBBBE3460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F56F664-C0FE-4C63-B4F5-57565026BC2E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43C5C87-F62B-4236-A54B-3CDD0EED0DFA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A9A9D4E-17B3-4C38-B3C4-D8761284B0A1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7830829-F2D0-4850-9A70-6630EF0786A5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6A057A-60DF-45F9-B6D2-40944D0286DE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C1ECFE-9DFA-4857-8049-A3A493ED0D2E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9AB0C0-4145-4B49-94D1-0BE103CC6787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327EA9-BF68-48B7-BF78-C3C9B677C391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EB107F-9158-43FE-91EC-CEF08C06A051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778109-DD55-4562-AC98-53C9E9B7AA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437A25-AD5F-479C-AEEA-C981276EB251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739EAE-B599-4849-B04D-55759E8832AC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23E261-CBF0-45C4-96A6-2DB97DF26257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D1B7C4-AAC7-455E-A9AC-084A1375BB24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F2F056-A28A-49FB-8721-D156FD882E1E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D16723-63DA-495D-937A-6FE7C38FBCBD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B0D260-06E6-4C9F-9C55-467EE9593825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915E10-D5EE-4D18-A92E-7D5AB99CFFF6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B9DEBF9-B952-461B-86D3-E5060422002C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F2DDD0C-3FAE-472B-9EAF-45A8E801E49C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FF2E0FF-C6AE-4720-9548-192CAB252C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C0E0C59-08AC-45DE-ADE9-731DBD8BC476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1650DD-4026-42A9-BAF9-BEC47758450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xsede-ppt-titl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Date Placeholder 3"/>
          <p:cNvSpPr/>
          <p:nvPr/>
        </p:nvSpPr>
        <p:spPr>
          <a:xfrm>
            <a:off x="6705720" y="3510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EC7725-F1C8-4FF1-913A-BA4E2CB177ED}" type="datetime3">
              <a:rPr b="0" lang="en-US" sz="1500" spc="-1" strike="noStrike">
                <a:solidFill>
                  <a:srgbClr val="ffffff"/>
                </a:solidFill>
                <a:latin typeface="Verdana"/>
              </a:rPr>
              <a:t>July 30, 2026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8" descr="nsf-white-576x576.png"/>
          <p:cNvPicPr/>
          <p:nvPr/>
        </p:nvPicPr>
        <p:blipFill>
          <a:blip r:embed="rId4"/>
          <a:stretch/>
        </p:blipFill>
        <p:spPr>
          <a:xfrm>
            <a:off x="7772400" y="502920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5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A3A67BD-E7F5-4565-B425-25BF908B0A5E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Num" idx="6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AE3EF5D-8B9D-4130-9E35-53B3696ED3C6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sldNum" idx="7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1569A0-0F90-43B7-AE15-3364BCA22B42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8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661133-FFB1-490F-ABA9-8F832DB71FFA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sldNum" idx="9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D322A05-0B1A-43D5-A182-691865CA655C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sldNum" idx="10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6D6D22A-2419-4537-ACB2-B3DCEFB69C92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09120" y="2664000"/>
            <a:ext cx="8153640" cy="91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NS of Spatially Developing Turbulent Boundary Layer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609120" y="3657600"/>
            <a:ext cx="815364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PI: Antonino Ferrante, University of Washington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ECSS: Darren Adams, David Bock, NCSA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ay-traced, volume renderings using same colormap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ooking down chamber (left) and close-up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, wispy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15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B5A20A-F022-459C-8785-13A49F9117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Picture 2" descr="C:\Home\NCSA\Ferrante\html\f17c1.jpg"/>
          <p:cNvPicPr/>
          <p:nvPr/>
        </p:nvPicPr>
        <p:blipFill>
          <a:blip r:embed="rId1"/>
          <a:stretch/>
        </p:blipFill>
        <p:spPr>
          <a:xfrm>
            <a:off x="1004760" y="3100320"/>
            <a:ext cx="3579840" cy="268452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4" descr="C:\Home\NCSA\Ferrante\html\t9a.jpg"/>
          <p:cNvPicPr/>
          <p:nvPr/>
        </p:nvPicPr>
        <p:blipFill>
          <a:blip r:embed="rId2"/>
          <a:stretch/>
        </p:blipFill>
        <p:spPr>
          <a:xfrm>
            <a:off x="468324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ing different visual representa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op-down view (left), three-quarter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dded data boundary grid for refer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D715C0C-027A-48B2-B0EC-2C12568381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Picture 2" descr="C:\Home\NCSA\Ferrante\html\f26c_2.jpg"/>
          <p:cNvPicPr/>
          <p:nvPr/>
        </p:nvPicPr>
        <p:blipFill>
          <a:blip r:embed="rId1"/>
          <a:stretch/>
        </p:blipFill>
        <p:spPr>
          <a:xfrm>
            <a:off x="1009800" y="309564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4" descr="C:\Home\NCSA\Ferrante\html\f26a.jpg"/>
          <p:cNvPicPr/>
          <p:nvPr/>
        </p:nvPicPr>
        <p:blipFill>
          <a:blip r:embed="rId2"/>
          <a:stretch/>
        </p:blipFill>
        <p:spPr>
          <a:xfrm>
            <a:off x="4697280" y="3090960"/>
            <a:ext cx="3584880" cy="268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AD511B-4DF8-4F29-AEC1-C842B6F222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Picture 2" descr="C:\Home\NCSA\Ferrante\html\f27a.0001.jpg"/>
          <p:cNvPicPr/>
          <p:nvPr/>
        </p:nvPicPr>
        <p:blipFill>
          <a:blip r:embed="rId1"/>
          <a:stretch/>
        </p:blipFill>
        <p:spPr>
          <a:xfrm>
            <a:off x="102384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4" descr="C:\Home\NCSA\Ferrante\html\f27b.0001.jpg"/>
          <p:cNvPicPr/>
          <p:nvPr/>
        </p:nvPicPr>
        <p:blipFill>
          <a:blip r:embed="rId2"/>
          <a:stretch/>
        </p:blipFill>
        <p:spPr>
          <a:xfrm>
            <a:off x="4713120" y="3102120"/>
            <a:ext cx="358488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3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0A8BA4-CCDE-482C-92E4-1097BC03F9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Picture 2" descr="C:\Home\NCSA\Ferrante\html\f27c.0001.jpg"/>
          <p:cNvPicPr/>
          <p:nvPr/>
        </p:nvPicPr>
        <p:blipFill>
          <a:blip r:embed="rId1"/>
          <a:stretch/>
        </p:blipFill>
        <p:spPr>
          <a:xfrm>
            <a:off x="103176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2" descr="C:\Home\NCSA\Ferrante\html\f27d.0001.jpg"/>
          <p:cNvPicPr/>
          <p:nvPr/>
        </p:nvPicPr>
        <p:blipFill>
          <a:blip r:embed="rId2"/>
          <a:stretch/>
        </p:blipFill>
        <p:spPr>
          <a:xfrm>
            <a:off x="471960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53352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gration of particle flow visualizing veloc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xample of previous particle flow using custom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5F0AB3-54FC-4CAF-8F18-49B1917A1E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Picture 2" descr=""/>
          <p:cNvPicPr/>
          <p:nvPr/>
        </p:nvPicPr>
        <p:blipFill>
          <a:blip r:embed="rId1"/>
          <a:stretch/>
        </p:blipFill>
        <p:spPr>
          <a:xfrm>
            <a:off x="990720" y="2684520"/>
            <a:ext cx="3886200" cy="2914560"/>
          </a:xfrm>
          <a:prstGeom prst="rect">
            <a:avLst/>
          </a:prstGeom>
          <a:ln w="0">
            <a:noFill/>
          </a:ln>
        </p:spPr>
      </p:pic>
      <p:sp>
        <p:nvSpPr>
          <p:cNvPr id="441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Science Overview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7145B9-B4BD-4FFD-BF4F-17908BE425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72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mputational fluid flow at boundary layer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olution of 3D, unsteady Navier-Stokes (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Generate initial inflow conditions to D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elocity components must satisfy 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  <p:pic>
        <p:nvPicPr>
          <p:cNvPr id="381" name="Picture 2" descr="C:\Users\David\Desktop\1-s2.0-S0021999104000348-gr1.gif"/>
          <p:cNvPicPr/>
          <p:nvPr/>
        </p:nvPicPr>
        <p:blipFill>
          <a:blip r:embed="rId1"/>
          <a:stretch/>
        </p:blipFill>
        <p:spPr>
          <a:xfrm>
            <a:off x="1219320" y="2895480"/>
            <a:ext cx="4711680" cy="2833920"/>
          </a:xfrm>
          <a:prstGeom prst="rect">
            <a:avLst/>
          </a:prstGeom>
          <a:ln w="0">
            <a:noFill/>
          </a:ln>
        </p:spPr>
      </p:pic>
      <p:sp>
        <p:nvSpPr>
          <p:cNvPr id="382" name="Rectangle 5"/>
          <p:cNvSpPr/>
          <p:nvPr/>
        </p:nvSpPr>
        <p:spPr>
          <a:xfrm>
            <a:off x="1219320" y="572940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Reference: http://dx.doi.org/10.1016/j.jcp.2004.01.0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XSEDE projec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1530F8-23C7-41E6-85BA-2B72922922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U hrs and TB on Kraken, Ranger, tape stora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ulation using largest Reynolds number ever report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hare generated DNS database with scientific commun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rform first DNS of fully-resolved droplet-laden turbul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CSS consultants: Darren Adams, David Bock (NCSA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ECSS goal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9CD5E6-274F-43BA-AC7C-99C9A3F2AA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tascale scaling and deployment on XSEDE resourc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igh-level HDF5 parallel IO library layer (H5D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5DNS provid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creation via petascale simulation run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analysi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implified I/O data conversion (e.g. visualization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isualization tests per simulation ru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roduction visualization imagery (e.g. journals, conference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57200" y="973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O library written in C on top of HDF5 library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ncapsulates HDF5 File structure and metadata particular to the DNS simulation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For simulation code, H5DNS provides: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Large data dumps of field variable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Restart capability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Particle IO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Metadata (run vars., input parameters etc.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023D06E-E8B2-48EF-992A-F01146D038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457200" y="993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nalysis and visualizatio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VisIt Reader (C++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Other direct HDF5 access (Matlab,TecPlot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wig interfaces ??? (Perl , Python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F3C46AE-1B1C-44D7-A104-8EB41413E5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533520" y="1676520"/>
            <a:ext cx="82296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Before H5DNS, data generation cumbersome, error-pron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equired editing and executing Fortran post-processor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ple H5DNS reader now used to read and extract data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nverted to format used by custom visualization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rested in scalar Lambda2 (vortices using velocity tensor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B85D2C4-5E54-4649-9ABB-377213AAA7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Data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s verifying data conversion using slice plan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ambda2 (left) and velocity magnitude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 structures in lambda2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D766C20-3A7F-4053-9787-9111A31C7A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nitial re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Picture 2" descr="C:\Home\NCSA\Ferrante\html\f16a.jpg"/>
          <p:cNvPicPr/>
          <p:nvPr/>
        </p:nvPicPr>
        <p:blipFill>
          <a:blip r:embed="rId1"/>
          <a:stretch/>
        </p:blipFill>
        <p:spPr>
          <a:xfrm>
            <a:off x="10018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4" descr="C:\Home\NCSA\Ferrante\html\f16e_4.jpg"/>
          <p:cNvPicPr/>
          <p:nvPr/>
        </p:nvPicPr>
        <p:blipFill>
          <a:blip r:embed="rId2"/>
          <a:stretch/>
        </p:blipFill>
        <p:spPr>
          <a:xfrm>
            <a:off x="43894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5" descr="C:\Users\David\Desktop\livingstone.jpg"/>
          <p:cNvPicPr/>
          <p:nvPr/>
        </p:nvPicPr>
        <p:blipFill>
          <a:blip r:embed="rId3"/>
          <a:stretch/>
        </p:blipFill>
        <p:spPr>
          <a:xfrm>
            <a:off x="1006560" y="5589720"/>
            <a:ext cx="2647800" cy="15372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5" descr="C:\Users\David\Desktop\livingstone.jpg"/>
          <p:cNvPicPr/>
          <p:nvPr/>
        </p:nvPicPr>
        <p:blipFill>
          <a:blip r:embed="rId4"/>
          <a:stretch/>
        </p:blipFill>
        <p:spPr>
          <a:xfrm>
            <a:off x="4390920" y="5587920"/>
            <a:ext cx="2648160" cy="1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ransfer function to isolate narrow Lambda2 ran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vident are very small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lormap with gaussian hue and alpha func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CB678F9-E631-4C68-AB63-9DFAA09655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solating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Picture 2" descr="C:\Home\NCSA\Ferrante\html\f17b1.jpg"/>
          <p:cNvPicPr/>
          <p:nvPr/>
        </p:nvPicPr>
        <p:blipFill>
          <a:blip r:embed="rId1"/>
          <a:stretch/>
        </p:blipFill>
        <p:spPr>
          <a:xfrm>
            <a:off x="1009800" y="3103560"/>
            <a:ext cx="3516120" cy="263844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4" descr="C:\Home\NCSA\Ferrante\html\f17b_cmap.jpg"/>
          <p:cNvPicPr/>
          <p:nvPr/>
        </p:nvPicPr>
        <p:blipFill>
          <a:blip r:embed="rId2"/>
          <a:stretch/>
        </p:blipFill>
        <p:spPr>
          <a:xfrm>
            <a:off x="4637160" y="4032360"/>
            <a:ext cx="3336840" cy="17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7T14:06:46Z</dcterms:created>
  <dc:creator>David Bock;Darren Adams</dc:creator>
  <dc:description/>
  <dc:language>en-US</dc:language>
  <cp:lastModifiedBy>David</cp:lastModifiedBy>
  <dcterms:modified xsi:type="dcterms:W3CDTF">2012-09-18T14:33:21Z</dcterms:modified>
  <cp:revision>132</cp:revision>
  <dc:subject/>
  <dc:title>Visualizing Large Eddy Simulations</dc:title>
</cp:coreProperties>
</file>