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png" ContentType="image/pn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dt" idx="1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E058E82-FBF8-44D6-B977-77383DFF1C5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ftr" idx="1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 type="sldNum" idx="1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407965-73A7-4BC6-9B8B-43098E9B9C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54E8653-C7E3-4AC7-A42C-F4698CAE0D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549F75-7369-4F5A-942C-D1E8AC0662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9349CAC-A583-42F9-ADB1-90ADA79C32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67B63FE-4BED-42B9-B7C3-DF7021A5C1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428AF30-87DC-4C12-9771-A815ED063B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59100DC-B409-49E6-A348-6725442020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66D437C-D24E-4B51-81CD-BF8426472A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9671318-7607-4BCB-B821-42A1BD82AF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C7E702B-BCD2-4947-820A-F8BC94C172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5E73D11-7DBC-4927-9437-847BAA2041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33B322-60C7-4594-887B-59509CBFCB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D6EF06-FAA7-4436-917F-E4773A68597F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53D8E4E-00A0-4CE3-A95B-860EE2FBCAFE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48B8D5E-3EB2-4A53-AE01-2B7330AA7CCC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D3DB996-EB38-444B-AD4D-F73A301605BB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CA62D5B-36BD-421F-B3C8-2194EB22853C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C499EF2-BBAD-4C70-922B-B4F2D8CE2C39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BE6C1DB-719C-4F7D-8088-F5EF99B7ABEB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B2590F8-BC08-464C-8C4B-0746987A3354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B0EA7C3-73F4-4D81-96ED-EBD865E6D430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BEA41AE-081F-49EB-A121-E92C577F9C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281330-A85C-4572-9575-3CD32755DF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D34756-7FB5-405D-AC03-404AB7AC53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C560F3-C7FC-4CD7-8EA9-D828A98B0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BFFB89-F606-481B-AC21-68386FC10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328DBD-20BE-40D5-A106-86AD1AC1E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A92A0F-6B66-448F-84EE-6957F51D3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2DEA3D-C3AB-47AD-9A3F-870BA42A5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2063B6-767D-4D39-B37E-F8F74A670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F41080-CA01-42CD-B5B2-8521F464B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BA4015-E57F-4314-93FC-D84639325F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F22FFC-440A-4442-9BED-F2BE2EEA9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0DFB7C-28AF-4ACD-B524-B926BABEE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587BF2-190D-48D1-AD40-BCE1BEA23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3F6EFC-FF79-4BAD-AB65-236B92E56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3AF66F-724A-4C7F-B4D8-702EF6F8E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6CEB83-E2B7-4B61-BA6E-57D5563DDDC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172F95-BE8A-4861-8FA7-8268AED120EF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296DFD-DB4D-4753-9413-27DB4ECB83D4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213CA4-EB91-4898-B589-9F5C570C45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DACE93-229E-4F84-A20B-4701A9256F86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829E19-80E3-4D85-B8DF-BEA9A1B05A21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F501B1-2552-40A2-8B9B-94ABEC9FE59E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E5DBB9-9A36-449E-BE57-8565B7C5E223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2F1020-68CC-43EF-904D-B192FA7141AB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F15ABC-D83A-4539-A7CC-CBB1CB44BAB2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6AB708-3F01-4F2F-AFFB-03CAF1AF2B03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E730D6-8844-455A-946A-014E1FAEBE8B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46755B-D407-4D20-B7D2-AE73AA382E26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015223-BB79-4DDB-A362-444047286CCC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100E3-FB62-432F-9D27-01B10CF61E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17BCE1-308B-40AA-A058-3A3E4F3C38F1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1AAA9-C9F1-4CDE-A4AD-FB9447825CD9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47A0B-EBEA-4B67-AC72-91E8045444A2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2EDB3-0B67-4C2D-8A7D-6C14701B79F0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6C58C-DBAD-4104-AC48-909EB62F2E2E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B0D50-0E7F-4A26-8A56-405476AD32E4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661A9-0A63-4B5D-8CEE-340BB6C734A6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6FB72-DB4B-4E5C-8A72-92A4ED9AE023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E07F0-A337-4BB6-B642-1ACA808A3546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72F44-B62F-4A8F-8EB4-F5830522A9FB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64ACB-AEBC-4F91-823A-07A633C3B7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A30245-3032-4A1D-9077-1F502722352C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EC61A-99F3-4826-BFA3-237246EC419E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36CE936-494C-482C-8CAF-DD2EDB07D2CF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340BE62-0932-4459-A0FD-6E10DB77E7B6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2E769F1-A82C-4B95-8E8C-ECF7F1C40935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1EF543D-9436-418D-B044-A574F53B5D8C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E59ABA3-D805-4CB8-A946-10305F9F48A3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6EE9BC3-6D6B-4D07-BF97-54F4CD269061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D21EFFF-736A-441E-91E6-0AB3A7C4E552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5DEE86D-9221-4EF6-B8B9-C55BC805F0D1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C34D521-5738-4AFA-B5C4-A6BC900B3F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2A5AF6-C8AF-4E96-90F0-9EA273696ECD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C0A0FDD-54AC-46FF-91F7-0C88970B52DC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9595A29-498A-4FF9-909A-40B11DD0CDE5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EEC1D2A-3F69-4D9C-9973-AF17F3F9FAAB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CE8D18F-6F24-4196-A06C-6BF381190FFB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9CEF74F-4F89-4EA9-8DF6-B2DD7F210CA4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49CD6A6-5C30-45BF-B8EF-606DB829313A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B61856B-4FF6-4E85-B770-44CECEF22744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62F64A2-E54B-4428-B82F-3CEEBD65D327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9C93BBD-31A0-4CA0-ABFB-CCAFBB71A232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0026AFC-EA66-43FC-86E7-00F2D2C198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88FF0E-4663-4C34-AA10-88B4C721303E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82A384-E62A-4E79-A43F-2C82B8F9BE06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6A5E7BC-176E-48F6-AE3D-DB7122F04D75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AA9840-77F3-4C29-8FB5-75B55CAED1AE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2FBDA9-2588-4927-A654-0696C5431402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7F5DEB4-BFC9-4AA0-A7E1-B10A3B2AFB98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A03E35-0C9C-4233-90FD-3BC0023698F6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BE59FD-22E0-4E16-8296-83C2BB962295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18800C-DC5D-438F-87B8-92267C59BDCB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753619-7A71-44C8-A62A-51A2C0AF3BE5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1D629F-57B4-4DCF-850E-B144ACAA5D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C083CC-1172-4308-9FF3-9FBD697E59AB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236DFC-6DA0-40B2-AC3F-9940136F02C7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E8227A-9DDB-46BF-A7F8-2383ADA8715B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DA1E08-A92C-4493-96AF-E81B0FE6A84E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3581E6-0723-4289-8FBA-3DD16D99AC73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263D1C-593A-4407-8AED-30C89371C29A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1DB5FE-776A-4AD2-984F-5E038C3D92D6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F723CA-F75D-4F69-9F67-16438F3D741D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5A036DC-3A91-48AB-98F1-50FC0C7B7B89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073F242-B0DB-4CB0-9EEF-7977A796699A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84F1CE2-809C-4808-8E68-13D0F75CF8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A39651-4D82-43D1-87D8-79DB88D31E45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7709DC-22FD-4904-BD25-D7C18FBBA78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xsede-ppt-titl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Date Placeholder 3"/>
          <p:cNvSpPr/>
          <p:nvPr/>
        </p:nvSpPr>
        <p:spPr>
          <a:xfrm>
            <a:off x="6705720" y="3510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2E9B103-9482-41DD-BD55-D272752F28E7}" type="datetime3">
              <a:rPr b="0" lang="en-US" sz="1500" spc="-1" strike="noStrike">
                <a:solidFill>
                  <a:srgbClr val="ffffff"/>
                </a:solidFill>
                <a:latin typeface="Verdana"/>
              </a:rPr>
              <a:t>July 28, 2026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8" descr="nsf-white-576x576.png"/>
          <p:cNvPicPr/>
          <p:nvPr/>
        </p:nvPicPr>
        <p:blipFill>
          <a:blip r:embed="rId4"/>
          <a:stretch/>
        </p:blipFill>
        <p:spPr>
          <a:xfrm>
            <a:off x="7772400" y="502920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5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5B81EDC-C95A-48DC-A4E4-ED9BF1AE3FC3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Num" idx="6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6DDA155-56BA-498B-8EA3-A9723954C34A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sldNum" idx="7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AD44FC3-B6B0-4CCC-B817-485F1064BC7A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8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BF4755-3383-4612-874A-92438B144D2D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sldNum" idx="9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D3F5A79-538E-45BF-A63C-F541055285AA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sldNum" idx="10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BFCDEB4-188E-4627-894D-05C668E865B7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09120" y="2664000"/>
            <a:ext cx="8153640" cy="91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NS of Spatially Developing Turbulent Boundary Layer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609120" y="3657600"/>
            <a:ext cx="815364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PI: Antonino Ferrante, University of Washington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ECSS: Darren Adams, David Bock, NCSA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ay-traced, volume renderings using same colormap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ooking down chamber (left) and close-up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, wispy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15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53129F7-7F77-4AA4-ADF0-62C3A491FA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Picture 2" descr="C:\Home\NCSA\Ferrante\html\f17c1.jpg"/>
          <p:cNvPicPr/>
          <p:nvPr/>
        </p:nvPicPr>
        <p:blipFill>
          <a:blip r:embed="rId1"/>
          <a:stretch/>
        </p:blipFill>
        <p:spPr>
          <a:xfrm>
            <a:off x="1004760" y="3100320"/>
            <a:ext cx="3579840" cy="268452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4" descr="C:\Home\NCSA\Ferrante\html\t9a.jpg"/>
          <p:cNvPicPr/>
          <p:nvPr/>
        </p:nvPicPr>
        <p:blipFill>
          <a:blip r:embed="rId2"/>
          <a:stretch/>
        </p:blipFill>
        <p:spPr>
          <a:xfrm>
            <a:off x="468324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ing different visual representa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op-down view (left), three-quarter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dded data boundary grid for refer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6B482B4-6DE9-4F88-87BF-317EDE89E0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Picture 2" descr="C:\Home\NCSA\Ferrante\html\f26c_2.jpg"/>
          <p:cNvPicPr/>
          <p:nvPr/>
        </p:nvPicPr>
        <p:blipFill>
          <a:blip r:embed="rId1"/>
          <a:stretch/>
        </p:blipFill>
        <p:spPr>
          <a:xfrm>
            <a:off x="1009800" y="309564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4" descr="C:\Home\NCSA\Ferrante\html\f26a.jpg"/>
          <p:cNvPicPr/>
          <p:nvPr/>
        </p:nvPicPr>
        <p:blipFill>
          <a:blip r:embed="rId2"/>
          <a:stretch/>
        </p:blipFill>
        <p:spPr>
          <a:xfrm>
            <a:off x="4697280" y="3090960"/>
            <a:ext cx="3584880" cy="268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88790BB-671F-4FA8-BEF2-8423CBA789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Picture 2" descr="C:\Home\NCSA\Ferrante\html\f27a.0001.jpg"/>
          <p:cNvPicPr/>
          <p:nvPr/>
        </p:nvPicPr>
        <p:blipFill>
          <a:blip r:embed="rId1"/>
          <a:stretch/>
        </p:blipFill>
        <p:spPr>
          <a:xfrm>
            <a:off x="102384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4" descr="C:\Home\NCSA\Ferrante\html\f27b.0001.jpg"/>
          <p:cNvPicPr/>
          <p:nvPr/>
        </p:nvPicPr>
        <p:blipFill>
          <a:blip r:embed="rId2"/>
          <a:stretch/>
        </p:blipFill>
        <p:spPr>
          <a:xfrm>
            <a:off x="4713120" y="3102120"/>
            <a:ext cx="358488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3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F8D1134-D1AF-40E9-ABC4-84BD0409A3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Picture 2" descr="C:\Home\NCSA\Ferrante\html\f27c.0001.jpg"/>
          <p:cNvPicPr/>
          <p:nvPr/>
        </p:nvPicPr>
        <p:blipFill>
          <a:blip r:embed="rId1"/>
          <a:stretch/>
        </p:blipFill>
        <p:spPr>
          <a:xfrm>
            <a:off x="103176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2" descr="C:\Home\NCSA\Ferrante\html\f27d.0001.jpg"/>
          <p:cNvPicPr/>
          <p:nvPr/>
        </p:nvPicPr>
        <p:blipFill>
          <a:blip r:embed="rId2"/>
          <a:stretch/>
        </p:blipFill>
        <p:spPr>
          <a:xfrm>
            <a:off x="471960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53352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gration of particle flow visualizing veloc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xample of previous particle flow using custom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E4386FB-E17A-4AE2-BD98-54CAFD8DA2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Picture 2" descr=""/>
          <p:cNvPicPr/>
          <p:nvPr/>
        </p:nvPicPr>
        <p:blipFill>
          <a:blip r:embed="rId1"/>
          <a:stretch/>
        </p:blipFill>
        <p:spPr>
          <a:xfrm>
            <a:off x="990720" y="2684520"/>
            <a:ext cx="3886200" cy="2914560"/>
          </a:xfrm>
          <a:prstGeom prst="rect">
            <a:avLst/>
          </a:prstGeom>
          <a:ln w="0">
            <a:noFill/>
          </a:ln>
        </p:spPr>
      </p:pic>
      <p:sp>
        <p:nvSpPr>
          <p:cNvPr id="441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Science Overview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5002E08-D853-4032-AE21-D758C68750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72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mputational fluid flow at boundary layer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olution of 3D, unsteady Navier-Stokes (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Generate initial inflow conditions to D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elocity components must satisfy 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  <p:pic>
        <p:nvPicPr>
          <p:cNvPr id="381" name="Picture 2" descr="C:\Users\David\Desktop\1-s2.0-S0021999104000348-gr1.gif"/>
          <p:cNvPicPr/>
          <p:nvPr/>
        </p:nvPicPr>
        <p:blipFill>
          <a:blip r:embed="rId1"/>
          <a:stretch/>
        </p:blipFill>
        <p:spPr>
          <a:xfrm>
            <a:off x="1219320" y="2895480"/>
            <a:ext cx="4711680" cy="2833920"/>
          </a:xfrm>
          <a:prstGeom prst="rect">
            <a:avLst/>
          </a:prstGeom>
          <a:ln w="0">
            <a:noFill/>
          </a:ln>
        </p:spPr>
      </p:pic>
      <p:sp>
        <p:nvSpPr>
          <p:cNvPr id="382" name="Rectangle 5"/>
          <p:cNvSpPr/>
          <p:nvPr/>
        </p:nvSpPr>
        <p:spPr>
          <a:xfrm>
            <a:off x="1219320" y="572940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Reference: http://dx.doi.org/10.1016/j.jcp.2004.01.0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XSEDE projec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F2C06C-9EE8-4275-9A4F-63BE287509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U hrs and TB on Kraken, Ranger, tape stora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ulation using largest Reynolds number ever report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hare generated DNS database with scientific commun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rform first DNS of fully-resolved droplet-laden turbul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CSS consultants: Darren Adams, David Bock (NCSA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ECSS goal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A13685-CCB8-4664-8DE6-B59919E7FA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tascale scaling and deployment on XSEDE resourc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igh-level HDF5 parallel IO library layer (H5D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5DNS provid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creation via petascale simulation run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analysi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implified I/O data conversion (e.g. visualization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isualization tests per simulation ru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roduction visualization imagery (e.g. journals, conference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57200" y="973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O library written in C on top of HDF5 library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ncapsulates HDF5 File structure and metadata particular to the DNS simulation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For simulation code, H5DNS provides: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Large data dumps of field variable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Restart capability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Particle IO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Metadata (run vars., input parameters etc.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D8282EC-B8E9-4D4E-9464-07A0C8CD98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457200" y="993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nalysis and visualizatio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VisIt Reader (C++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Other direct HDF5 access (Matlab,TecPlot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wig interfaces ??? (Perl , Python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1DD9694-CCF7-4551-8D8E-B2794CF661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533520" y="1676520"/>
            <a:ext cx="82296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Before H5DNS, data generation cumbersome, error-pron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equired editing and executing Fortran post-processor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ple H5DNS reader now used to read and extract data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nverted to format used by custom visualization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rested in scalar Lambda2 (vortices using velocity tensor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72411E-D7C7-4888-AC2F-7BAD84F55F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Data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s verifying data conversion using slice plan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ambda2 (left) and velocity magnitude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 structures in lambda2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62BEAF-EA1A-442C-8A29-B333619D7F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nitial re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Picture 2" descr="C:\Home\NCSA\Ferrante\html\f16a.jpg"/>
          <p:cNvPicPr/>
          <p:nvPr/>
        </p:nvPicPr>
        <p:blipFill>
          <a:blip r:embed="rId1"/>
          <a:stretch/>
        </p:blipFill>
        <p:spPr>
          <a:xfrm>
            <a:off x="10018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4" descr="C:\Home\NCSA\Ferrante\html\f16e_4.jpg"/>
          <p:cNvPicPr/>
          <p:nvPr/>
        </p:nvPicPr>
        <p:blipFill>
          <a:blip r:embed="rId2"/>
          <a:stretch/>
        </p:blipFill>
        <p:spPr>
          <a:xfrm>
            <a:off x="43894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5" descr="C:\Users\David\Desktop\livingstone.jpg"/>
          <p:cNvPicPr/>
          <p:nvPr/>
        </p:nvPicPr>
        <p:blipFill>
          <a:blip r:embed="rId3"/>
          <a:stretch/>
        </p:blipFill>
        <p:spPr>
          <a:xfrm>
            <a:off x="1006560" y="5589720"/>
            <a:ext cx="2647800" cy="15372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5" descr="C:\Users\David\Desktop\livingstone.jpg"/>
          <p:cNvPicPr/>
          <p:nvPr/>
        </p:nvPicPr>
        <p:blipFill>
          <a:blip r:embed="rId4"/>
          <a:stretch/>
        </p:blipFill>
        <p:spPr>
          <a:xfrm>
            <a:off x="4390920" y="5587920"/>
            <a:ext cx="2648160" cy="1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ransfer function to isolate narrow Lambda2 ran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vident are very small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lormap with gaussian hue and alpha func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EAAC18-D342-4458-B5AF-049F58EF5D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solating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Picture 2" descr="C:\Home\NCSA\Ferrante\html\f17b1.jpg"/>
          <p:cNvPicPr/>
          <p:nvPr/>
        </p:nvPicPr>
        <p:blipFill>
          <a:blip r:embed="rId1"/>
          <a:stretch/>
        </p:blipFill>
        <p:spPr>
          <a:xfrm>
            <a:off x="1009800" y="3103560"/>
            <a:ext cx="3516120" cy="263844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4" descr="C:\Home\NCSA\Ferrante\html\f17b_cmap.jpg"/>
          <p:cNvPicPr/>
          <p:nvPr/>
        </p:nvPicPr>
        <p:blipFill>
          <a:blip r:embed="rId2"/>
          <a:stretch/>
        </p:blipFill>
        <p:spPr>
          <a:xfrm>
            <a:off x="4637160" y="4032360"/>
            <a:ext cx="3336840" cy="17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7T14:06:46Z</dcterms:created>
  <dc:creator>David Bock;Darren Adams</dc:creator>
  <dc:description/>
  <dc:language>en-US</dc:language>
  <cp:lastModifiedBy>David</cp:lastModifiedBy>
  <dcterms:modified xsi:type="dcterms:W3CDTF">2012-09-18T14:33:21Z</dcterms:modified>
  <cp:revision>132</cp:revision>
  <dc:subject/>
  <dc:title>Visualizing Large Eddy Simulations</dc:title>
</cp:coreProperties>
</file>