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png" ContentType="image/pn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dt" idx="1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0C3389-8FD4-499E-92C6-A1358056F59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ftr" idx="1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 type="sldNum" idx="1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208A3F8-13AD-402D-84F2-8976D84A08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A859D4-FC6E-42D7-BA9A-452C347F7C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FDE3662-4440-4042-92A3-EBE2780D52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197AB4-6735-4C77-B99E-D925FC696B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889F5D-483C-4271-9C95-617DF174D2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5B2872-5627-44BA-9A0B-48FC9B0883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E204B0C-1629-456E-8404-110428BDAE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286236B-AC3E-4D8F-8DBB-573AAC71C5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8771774-572B-42B7-AC23-C52ED73DE3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46E3ED6-6BB7-4A9A-B5B9-0B22067A56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A38B81-E2C2-4727-950C-0373CC0C6A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EB5493-3A44-4576-BDE3-5D3705488B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4A06D0-FF4E-416E-A6D2-70C7422B6048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5F35A4F-5839-4883-8244-6CF445770B97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2C4AD38-A9BD-4C97-993A-2182DD8F6B95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F08BEB1-D2EC-4F86-A8CC-DD56B074AB0F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13551A5-7C6F-4BF4-BC1B-B71001F2CA3A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CBBB402-93C8-447F-93EE-6281853143B9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C53A7CE-3AA9-4A54-B621-0CDADC89869D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1FE0D58-1580-4586-8FD3-D2C39D306239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21D1A58-4520-4CA9-9AA3-736AD5873311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D19615B-8467-48BD-9178-41BBC7B02B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4DEF47-D1AC-4AB4-A317-046ACF6F85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2B1B51-62DA-45C0-8377-2E25678C0D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FA2B93-5EFB-4D45-8400-7FA47849C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773703-5237-4D09-B16E-AB077A284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3C0594-D41C-4326-B685-64D0FD08A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0E2579-BBEF-45EA-93E0-F76ECB239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FFD662-AF54-4950-914D-98D1F18E0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DD75E8-CE9B-4492-ABBE-9191E7DB1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0E35DA-D187-498E-B7E5-1FC212386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714D12-889A-4532-B400-DBF9AC8954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AF75D2-14C0-4402-93B6-7D0EB99AB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2D1B9C-2F7F-4AB5-853F-2D1114B46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0AEAA3-9E7B-4D10-B1E1-A74536C8C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86A8F2-2CD0-44FD-8C64-685D36A7F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CD43C6-BB88-4390-8DBB-C5D1C1FF8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8B73F2-D215-4197-A2DB-3A722212457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EC9BE6-991D-4B13-8D48-3807F148EDFF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CCEB7A-84D4-4D0C-B7B6-C1E6B21DBE60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EE81AA-23E4-426E-97A7-C7245A5F10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34C647-A8BD-4234-A4DA-5994BC596FF9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F278C5-8D23-4AE9-86D9-6620A186FDF8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7E9941-1EE8-45DC-BC30-10F4B5DE583A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5E435D-C6E8-4102-A042-1419B4533770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B1DD87-2718-469E-9CCA-CD8A5AA35C6D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B70B68-942C-4004-82BE-548A6C0E5E07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9868B9-4DB9-4374-AD5D-92C222DF4E83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B086C1-7551-438A-B931-A6301C227D70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AD112D-DC2E-49E3-B0A0-BA5580A94808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B649D2-950C-403E-9285-FAA663ADD381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8EC67-47C5-4FEF-A1A2-4AA441AB4D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B91AA1-98E1-4E59-9B2C-0A2AE7D053FB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D8C28-F33A-456D-9EA0-253DD89BCA4E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BEA08-3DEE-4685-9474-235911FF6797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EFBC2-3D19-4407-BE9A-AAB7135BE49E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F0636-9F33-4E84-B4FD-830333DF8070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3997E-D810-4C55-8E3B-03ECD0E4EC1C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E0B31-F464-48C3-A0CF-A91EF88279E9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5F248-D4AD-41A8-AC87-31353002B988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2EFAD-AFAE-4DC4-93A4-5659AF712B99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7A812-B8ED-4503-96A0-4497064014D0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DB3D5-0AA8-44C7-823E-50BDE57407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0A66AC-42A5-4896-8160-1FE6115AE66C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AD571-2E41-41C7-BA90-04C4D83A447E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036418B-92C3-4F0C-9485-963C0E9C19EA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B3DA1CF-6D2C-439E-83E4-B2A53DA222CA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7492216-5BC6-4185-AD09-557BDECD0028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514BC2D-F845-4CCD-A26F-3D7B4233978F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EC5CE16-0018-4672-9B02-67DBCE3A0790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FC9FC71-A316-405C-AEDF-23314159BC3D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1446BCE-4D94-45FC-A3D0-A94417389AE2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938A149-3EFF-474F-9E7B-A13B3F95EDA8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C14A38D-13A8-4DD3-8ECB-34414562FA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223AEF-9F7E-409A-AED4-EB7340108272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915B7E6-5072-4D27-AF10-8F6F69EF0A28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3B000ED-7C62-4A48-B6FF-EF9A3D7915E3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3847198-CFF6-457E-8113-37D070917BF1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293A534-DAD0-4F1F-886C-00069DEC7580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8178B92-C1CB-4106-8E62-06EA226D4DEE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9559B7D-2767-4F20-89B8-B3EFCC27FC2F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F4DADFD-7A9C-461C-8CC2-59CFFC0544B2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3B55BE-B83E-4DF0-BAC2-B780E95467C7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DDEAC3A-5EE8-4A56-82D9-73CDB21AC9CA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D81A0EF-616F-4310-B38C-4B45A00D61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CB4700-450C-4601-949D-F4DB1C2237FB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9C285E3-7749-4505-A6A7-6E56A69F1D23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C39DCDA-EE4B-40C8-AD91-FFC8A1E4C179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FCEE543-2238-4FD7-A8CD-0FFCD6F752C5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45E2D2-BAB2-4750-86A2-8B7F0C71A0FB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C7A07C0-AC92-4158-AC8E-3AE2E2552F2F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F3DDE5-D486-46D2-AF58-86A565A15210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069EDE-A433-4FB3-8C01-F717007C054F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CAD2A2-437E-475A-BBCB-A04F64C1A77E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0EBD26-AF77-415C-A3FB-CB650D7EE193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4F8826-09EB-40A5-8896-F6A8685B1E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21F4BF-BDDA-4E35-991C-550618918DCF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9310DE-3645-4089-A5A0-3888B2FCAD17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039AE9-E7FC-4D9B-9B1B-DE3B8698F02E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74BB54-B8FE-4632-9281-52899069C369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C59443-C71B-4905-85B4-2A8293A63A4C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4E3E0D-A3CA-4322-A211-58CE35BB6497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C01944-24B8-4604-A0A6-60B1C663B8C6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0B8463-CCDB-447E-B974-98B57622C091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C5637E2-A932-4DD8-BEFA-5ABF165076AC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F85D36F-508A-4817-A7CC-1865A92FD4C5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9C4DBA7-07F1-4136-AED2-7EFE7E7BFD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D347168-91EF-430C-A50C-E0BF5F304A0E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08A5B36-897D-41AC-BEFB-2F08267ED4C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xsede-ppt-titl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Date Placeholder 3"/>
          <p:cNvSpPr/>
          <p:nvPr/>
        </p:nvSpPr>
        <p:spPr>
          <a:xfrm>
            <a:off x="6705720" y="3510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8174E0-084A-4D5F-8825-5D4F986904EB}" type="datetime3">
              <a:rPr b="0" lang="en-US" sz="1500" spc="-1" strike="noStrike">
                <a:solidFill>
                  <a:srgbClr val="ffffff"/>
                </a:solidFill>
                <a:latin typeface="Verdana"/>
              </a:rPr>
              <a:t>July 30, 2026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8" descr="nsf-white-576x576.png"/>
          <p:cNvPicPr/>
          <p:nvPr/>
        </p:nvPicPr>
        <p:blipFill>
          <a:blip r:embed="rId4"/>
          <a:stretch/>
        </p:blipFill>
        <p:spPr>
          <a:xfrm>
            <a:off x="7772400" y="502920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5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ACBC77C-761B-42E7-A8F1-3FCE024CC340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Num" idx="6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F25852-050F-4B66-902A-BB7868C70B48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sldNum" idx="7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252252-7B47-43C1-8929-EE07A91C9536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8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D52D981-0A54-4BC5-B9BB-91999E3E46C6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sldNum" idx="9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37F54A-7A5B-4A09-9D9D-9C29E51CEB27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sldNum" idx="10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4A82154-653B-48CE-A001-980CCD8A8F4E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09120" y="2664000"/>
            <a:ext cx="8153640" cy="91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NS of Spatially Developing Turbulent Boundary Layer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609120" y="3657600"/>
            <a:ext cx="815364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PI: Antonino Ferrante, University of Washington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ECSS: Darren Adams, David Bock, NCSA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ay-traced, volume renderings using same colormap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ooking down chamber (left) and close-up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, wispy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15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13FCD77-02F8-497A-8241-0633A69869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Picture 2" descr="C:\Home\NCSA\Ferrante\html\f17c1.jpg"/>
          <p:cNvPicPr/>
          <p:nvPr/>
        </p:nvPicPr>
        <p:blipFill>
          <a:blip r:embed="rId1"/>
          <a:stretch/>
        </p:blipFill>
        <p:spPr>
          <a:xfrm>
            <a:off x="1004760" y="3100320"/>
            <a:ext cx="3579840" cy="268452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4" descr="C:\Home\NCSA\Ferrante\html\t9a.jpg"/>
          <p:cNvPicPr/>
          <p:nvPr/>
        </p:nvPicPr>
        <p:blipFill>
          <a:blip r:embed="rId2"/>
          <a:stretch/>
        </p:blipFill>
        <p:spPr>
          <a:xfrm>
            <a:off x="468324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ing different visual representa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op-down view (left), three-quarter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dded data boundary grid for refer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219CC2-C4F4-4A74-B565-5CB668FF09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Picture 2" descr="C:\Home\NCSA\Ferrante\html\f26c_2.jpg"/>
          <p:cNvPicPr/>
          <p:nvPr/>
        </p:nvPicPr>
        <p:blipFill>
          <a:blip r:embed="rId1"/>
          <a:stretch/>
        </p:blipFill>
        <p:spPr>
          <a:xfrm>
            <a:off x="1009800" y="309564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4" descr="C:\Home\NCSA\Ferrante\html\f26a.jpg"/>
          <p:cNvPicPr/>
          <p:nvPr/>
        </p:nvPicPr>
        <p:blipFill>
          <a:blip r:embed="rId2"/>
          <a:stretch/>
        </p:blipFill>
        <p:spPr>
          <a:xfrm>
            <a:off x="4697280" y="3090960"/>
            <a:ext cx="3584880" cy="268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10DADBF-7768-4A2E-824E-A72A60766F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Picture 2" descr="C:\Home\NCSA\Ferrante\html\f27a.0001.jpg"/>
          <p:cNvPicPr/>
          <p:nvPr/>
        </p:nvPicPr>
        <p:blipFill>
          <a:blip r:embed="rId1"/>
          <a:stretch/>
        </p:blipFill>
        <p:spPr>
          <a:xfrm>
            <a:off x="102384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4" descr="C:\Home\NCSA\Ferrante\html\f27b.0001.jpg"/>
          <p:cNvPicPr/>
          <p:nvPr/>
        </p:nvPicPr>
        <p:blipFill>
          <a:blip r:embed="rId2"/>
          <a:stretch/>
        </p:blipFill>
        <p:spPr>
          <a:xfrm>
            <a:off x="4713120" y="3102120"/>
            <a:ext cx="358488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3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EC68A3-EF10-464F-9BCA-8EF64BE9EA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Picture 2" descr="C:\Home\NCSA\Ferrante\html\f27c.0001.jpg"/>
          <p:cNvPicPr/>
          <p:nvPr/>
        </p:nvPicPr>
        <p:blipFill>
          <a:blip r:embed="rId1"/>
          <a:stretch/>
        </p:blipFill>
        <p:spPr>
          <a:xfrm>
            <a:off x="103176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2" descr="C:\Home\NCSA\Ferrante\html\f27d.0001.jpg"/>
          <p:cNvPicPr/>
          <p:nvPr/>
        </p:nvPicPr>
        <p:blipFill>
          <a:blip r:embed="rId2"/>
          <a:stretch/>
        </p:blipFill>
        <p:spPr>
          <a:xfrm>
            <a:off x="471960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53352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gration of particle flow visualizing veloc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xample of previous particle flow using custom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2263E54-D921-44DA-A6E3-57D4228F3F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Picture 2" descr=""/>
          <p:cNvPicPr/>
          <p:nvPr/>
        </p:nvPicPr>
        <p:blipFill>
          <a:blip r:embed="rId1"/>
          <a:stretch/>
        </p:blipFill>
        <p:spPr>
          <a:xfrm>
            <a:off x="990720" y="2684520"/>
            <a:ext cx="3886200" cy="2914560"/>
          </a:xfrm>
          <a:prstGeom prst="rect">
            <a:avLst/>
          </a:prstGeom>
          <a:ln w="0">
            <a:noFill/>
          </a:ln>
        </p:spPr>
      </p:pic>
      <p:sp>
        <p:nvSpPr>
          <p:cNvPr id="441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Science Overview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54757B-07A6-4C0D-AD1B-349DCE4388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72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mputational fluid flow at boundary layer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olution of 3D, unsteady Navier-Stokes (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Generate initial inflow conditions to D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elocity components must satisfy 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  <p:pic>
        <p:nvPicPr>
          <p:cNvPr id="381" name="Picture 2" descr="C:\Users\David\Desktop\1-s2.0-S0021999104000348-gr1.gif"/>
          <p:cNvPicPr/>
          <p:nvPr/>
        </p:nvPicPr>
        <p:blipFill>
          <a:blip r:embed="rId1"/>
          <a:stretch/>
        </p:blipFill>
        <p:spPr>
          <a:xfrm>
            <a:off x="1219320" y="2895480"/>
            <a:ext cx="4711680" cy="2833920"/>
          </a:xfrm>
          <a:prstGeom prst="rect">
            <a:avLst/>
          </a:prstGeom>
          <a:ln w="0">
            <a:noFill/>
          </a:ln>
        </p:spPr>
      </p:pic>
      <p:sp>
        <p:nvSpPr>
          <p:cNvPr id="382" name="Rectangle 5"/>
          <p:cNvSpPr/>
          <p:nvPr/>
        </p:nvSpPr>
        <p:spPr>
          <a:xfrm>
            <a:off x="1219320" y="572940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Reference: http://dx.doi.org/10.1016/j.jcp.2004.01.0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XSEDE projec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9716EB-8F91-4B9F-954F-4AFC1D5D5E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U hrs and TB on Kraken, Ranger, tape stora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ulation using largest Reynolds number ever report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hare generated DNS database with scientific commun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rform first DNS of fully-resolved droplet-laden turbul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CSS consultants: Darren Adams, David Bock (NCSA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ECSS goal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516980-FA65-48DD-A404-33108061C1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tascale scaling and deployment on XSEDE resourc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igh-level HDF5 parallel IO library layer (H5D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5DNS provid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creation via petascale simulation run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analysi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implified I/O data conversion (e.g. visualization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isualization tests per simulation ru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roduction visualization imagery (e.g. journals, conference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57200" y="973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O library written in C on top of HDF5 library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ncapsulates HDF5 File structure and metadata particular to the DNS simulation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For simulation code, H5DNS provides: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Large data dumps of field variable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Restart capability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Particle IO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Metadata (run vars., input parameters etc.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9FE528-BAA3-41B4-9FE7-C5AF6109F7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457200" y="993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nalysis and visualizatio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VisIt Reader (C++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Other direct HDF5 access (Matlab,TecPlot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wig interfaces ??? (Perl , Python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19A1707-D5A7-47D5-960B-A31FD08470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533520" y="1676520"/>
            <a:ext cx="82296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Before H5DNS, data generation cumbersome, error-pron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equired editing and executing Fortran post-processor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ple H5DNS reader now used to read and extract data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nverted to format used by custom visualization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rested in scalar Lambda2 (vortices using velocity tensor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2ADEF2-D99A-426C-A663-3B409FB494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Data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s verifying data conversion using slice plan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ambda2 (left) and velocity magnitude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 structures in lambda2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5340467-09F0-438A-82C0-B109B74900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nitial re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Picture 2" descr="C:\Home\NCSA\Ferrante\html\f16a.jpg"/>
          <p:cNvPicPr/>
          <p:nvPr/>
        </p:nvPicPr>
        <p:blipFill>
          <a:blip r:embed="rId1"/>
          <a:stretch/>
        </p:blipFill>
        <p:spPr>
          <a:xfrm>
            <a:off x="10018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4" descr="C:\Home\NCSA\Ferrante\html\f16e_4.jpg"/>
          <p:cNvPicPr/>
          <p:nvPr/>
        </p:nvPicPr>
        <p:blipFill>
          <a:blip r:embed="rId2"/>
          <a:stretch/>
        </p:blipFill>
        <p:spPr>
          <a:xfrm>
            <a:off x="43894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5" descr="C:\Users\David\Desktop\livingstone.jpg"/>
          <p:cNvPicPr/>
          <p:nvPr/>
        </p:nvPicPr>
        <p:blipFill>
          <a:blip r:embed="rId3"/>
          <a:stretch/>
        </p:blipFill>
        <p:spPr>
          <a:xfrm>
            <a:off x="1006560" y="5589720"/>
            <a:ext cx="2647800" cy="15372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5" descr="C:\Users\David\Desktop\livingstone.jpg"/>
          <p:cNvPicPr/>
          <p:nvPr/>
        </p:nvPicPr>
        <p:blipFill>
          <a:blip r:embed="rId4"/>
          <a:stretch/>
        </p:blipFill>
        <p:spPr>
          <a:xfrm>
            <a:off x="4390920" y="5587920"/>
            <a:ext cx="2648160" cy="1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ransfer function to isolate narrow Lambda2 ran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vident are very small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lormap with gaussian hue and alpha func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D3DE342-BF40-43E0-A7D4-8A41D4FD1E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solating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Picture 2" descr="C:\Home\NCSA\Ferrante\html\f17b1.jpg"/>
          <p:cNvPicPr/>
          <p:nvPr/>
        </p:nvPicPr>
        <p:blipFill>
          <a:blip r:embed="rId1"/>
          <a:stretch/>
        </p:blipFill>
        <p:spPr>
          <a:xfrm>
            <a:off x="1009800" y="3103560"/>
            <a:ext cx="3516120" cy="263844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4" descr="C:\Home\NCSA\Ferrante\html\f17b_cmap.jpg"/>
          <p:cNvPicPr/>
          <p:nvPr/>
        </p:nvPicPr>
        <p:blipFill>
          <a:blip r:embed="rId2"/>
          <a:stretch/>
        </p:blipFill>
        <p:spPr>
          <a:xfrm>
            <a:off x="4637160" y="4032360"/>
            <a:ext cx="3336840" cy="17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7T14:06:46Z</dcterms:created>
  <dc:creator>David Bock;Darren Adams</dc:creator>
  <dc:description/>
  <dc:language>en-US</dc:language>
  <cp:lastModifiedBy>David</cp:lastModifiedBy>
  <dcterms:modified xsi:type="dcterms:W3CDTF">2012-09-18T14:33:21Z</dcterms:modified>
  <cp:revision>132</cp:revision>
  <dc:subject/>
  <dc:title>Visualizing Large Eddy Simulations</dc:title>
</cp:coreProperties>
</file>