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png" ContentType="image/pn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dt" idx="1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ADB1A9-AF26-4BCF-8CBC-3A9BD3355B8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ftr" idx="1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 type="sldNum" idx="1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4044E2B-2F68-4B1E-B383-047CEF340B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4B2C931-38BA-4BC8-9CCE-197E0B638F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40C559B-3A68-4EFA-9C1C-546427D9FE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57703FE-3E1D-4FFF-9317-7D8C2A7037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EA5DC8-4C9F-4C83-B0E4-23EC09FC7A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A24D21-3F89-415E-9732-1D120CDADB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1DAFE69-BB70-4CD7-A916-552C09A096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1359DB-1256-4038-A139-76DE060241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9F2E21-11EE-4FBF-846E-D6CA2EC393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FCFA44-67F8-4DE8-BFCE-9130263407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1DF2171-8339-43A4-874C-24C8C4394C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D44CB0-C4D2-4E00-97B0-BF0C5EABB4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CA5239-AC21-4EE0-B877-3AA8855D39B9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0D421AD-8621-48A9-BE7F-FD741945DBA9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B1684BD-BDF3-4CDD-B626-8EF4C6273811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CF0663D-BA0B-45EC-938F-8E8764644DA9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FCC3407-E32E-4B65-8BF5-2FD0C4F62050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08D73F0-DB18-4C55-AE68-99D82D7EB374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6BEFB59-6646-4415-867C-173EEF1AFE51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88140A2-DB36-4CE5-9753-4CDC440CE0FF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92693FE-FF6A-45D4-B252-441FD71CD464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D44BBA9-B3EE-4681-AE0D-D386A50C62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DE5CDC-D0A3-4CA9-A0EF-EB46F0D568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F10B74-3871-4FBD-9BD0-44567DFA7D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30BEA1-8958-4CE4-853F-EAEC73F92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FC8C6E-A44C-4266-B2ED-09DAE421F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7ECD60-EF60-43A8-8226-2D6741D89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73020A-60DC-4254-A714-177014C1F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F56B60-D2D8-4B4B-8577-86B76AE67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798911-527A-4085-A307-4AC386B5E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63D2C0-9620-46DA-8272-BB1F440BD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790416-775F-4CF5-94CB-E3985EEA627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90D995-5B26-4B78-8F71-B6B1EB5F6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8273DC-2098-4981-B49F-343B9D74D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712B17-89EA-47BC-9C18-9957C01EC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152664-4E04-4158-98B2-8AA6DF312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27ACDF-C8EE-4AD0-88F3-77F93B0A8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2CAF37-BF70-46E6-BA5F-4073F549BCB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E44C6A-FDC4-46CE-99F3-638D6D901A9E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60835F-F9EB-4DC5-B1E8-8D68B631DD0A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8149EC-5CBC-4735-BB47-8AE6B0BA38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49E730-6686-460C-BAEA-2DC333CEDB9C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D9A43D-1FBA-49E3-8277-FCF9EC18AE9F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BB99F3-5D34-4AC5-BDBE-310962FD9022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1E142D-517B-463A-9D26-B99677AB8D4A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CF8E7F-82ED-4E09-B107-32654B7430C3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2794CC-2797-4E3F-8188-7CA4A5C2D0C6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4ECA99-77D8-4875-9FE4-062F0A3A91B4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9CD353-8049-47FD-925A-6B4EF4C099E5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2E10A7-392A-4F2B-B90A-F898935A593A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894FCF-7797-4AFD-BB4D-FE4FB7B7DF1E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D0E08-3317-434C-B77D-8409A0B83C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AC659C-1083-457E-A54F-CDE2117E7485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F054E-FB34-4098-95D0-8371E2AB5C8C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EB9B8-D895-4FB2-B7D2-6B18EB1951FD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607C0-9204-4623-B25E-BB25B0530A73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9C3B6-8E80-4E87-9C65-6CD05BCFC5D3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1AC59-94B3-453F-964C-ACFE37ECC2D2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CA37F-7DBA-466D-8C6E-2291D084231E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C0C2E-1429-447C-BC0B-9ACD533CBED3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565A8-A56E-41B6-8373-AA01C98DDBBD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7DA44-348A-4FD1-9A32-9F959DFD5313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EDD8E-8E9B-4091-B4F8-0D0A98877C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99AA63-F680-47DA-A6DA-F8BB1BFF57D8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CC5EA-0DBF-4C84-9BE0-6C31EFC13B2E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C674345-B51B-4B51-9B9D-31467CB0B4BF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BBC871F-ED79-46D0-B72D-D765D5E56CD3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30A8CCE-E553-4DFC-80F6-D6189F2EE8D0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1B0A7D7-691F-4EAA-945C-84C576D94CAF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3767E76-7FD2-4DC8-BA6C-FF8BB48FC0C9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4F35804-C2EC-4C40-A2E9-6407E37D6C38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6209519-41B1-4CA0-8F16-FC3710D70B23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1FF053B-EA63-4F21-BFD0-5EA9B33D46ED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A5C2AC3-0211-43DD-AE86-B007423C28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E206BF-2AFB-4D3D-AAFD-47EC4750B7D7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DBAA791-47F7-40E4-AE8B-7CB4B98B8649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7325E9E-6A00-49BC-85CB-EF660656B6D8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52E6C81-D978-4EF4-AEB0-B774AB422856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733F042-536E-4772-A86B-743668B52479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97B754C-10E0-46A9-856B-7C3CF2B829F5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96DD598-BA4F-4802-B2F4-07D34491A86D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01C91B7-7087-4641-A519-66E5D06FF9FF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CDE5596-6ACC-455F-A2C0-EAA237CE2834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4AAD2DF-DB63-4202-8E07-D4C3F27C2F12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87B68DB-9886-4C01-8B3E-0CCB2D5D69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843AA4-8F2C-4A96-98BE-0F4B06D42238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AE6A9FA-BD39-4BEA-82F3-BD1F85335DF7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CCDC26-83EE-422A-88AE-F999283A2B70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EAEEB02-1872-4A49-A9BF-F514ADECF491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B04E9C4-6679-435F-B2E6-142425FBE760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30464A5-286E-48B0-84A6-D7A366300100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04E49A-B9CC-42DD-8D10-C2661BA40369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A424FA-E5B0-4BF8-A90C-60D1D84A20A1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AD8B13-0724-40A6-A317-F4C985FCFF71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237FB3-6236-4328-AE17-E49C8BBA19D3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A3BC27-FCE3-4DA6-A3E3-E5C5D960CC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2A5871-8C14-490C-B52F-4D591D3BD975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F54FAC-B1DA-4719-8AB5-D30F56F40DB3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10FF64-1F33-4825-A65A-5C3E168209EE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9994C5-F923-47B6-BDD8-9916AFA96D43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CD0960-DAE5-4BE5-A85F-730EE5FA7AEB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94B065-DD40-42F9-9F6C-6A6C41DF4149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4DBB1D-ACB1-4262-AFEE-77363AB99053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643B87-4F2B-4D8E-8E98-C22BDA031A69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BD5B954-2011-4DD3-81B8-74A3E9C01C18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7C4B179-0F66-400A-B4E9-29B22F4B00C6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8C344D1-95EC-4A35-B312-9664489D17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DA79D31-EE76-4A48-A1B8-E89FB0CE4FA3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4E61B6-A5E8-4D92-9E96-395F0956CB6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xsede-ppt-titl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Date Placeholder 3"/>
          <p:cNvSpPr/>
          <p:nvPr/>
        </p:nvSpPr>
        <p:spPr>
          <a:xfrm>
            <a:off x="6705720" y="3510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E317C0-7166-4E3D-A857-DBBEB8E6E8FF}" type="datetime3">
              <a:rPr b="0" lang="en-US" sz="1500" spc="-1" strike="noStrike">
                <a:solidFill>
                  <a:srgbClr val="ffffff"/>
                </a:solidFill>
                <a:latin typeface="Verdana"/>
              </a:rPr>
              <a:t>July 30, 2026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8" descr="nsf-white-576x576.png"/>
          <p:cNvPicPr/>
          <p:nvPr/>
        </p:nvPicPr>
        <p:blipFill>
          <a:blip r:embed="rId4"/>
          <a:stretch/>
        </p:blipFill>
        <p:spPr>
          <a:xfrm>
            <a:off x="7772400" y="502920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5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18D55E-F15E-4E7F-9EDE-1F6869469D85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Num" idx="6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2CFAFD7-ADFA-4890-A25E-A024E5CF3F92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sldNum" idx="7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09C899-4D55-44BF-B1CE-2A49A416D557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8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3A70D11-64B4-4B91-BEB4-447A2978A1E8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sldNum" idx="9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8068450-B88A-4454-9B88-7A33E10635EC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sldNum" idx="10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4EEA34-1F91-44C6-93D6-BEAE3571BE7E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09120" y="2664000"/>
            <a:ext cx="8153640" cy="91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NS of Spatially Developing Turbulent Boundary Layer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609120" y="3657600"/>
            <a:ext cx="815364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PI: Antonino Ferrante, University of Washington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ECSS: Darren Adams, David Bock, NCSA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ay-traced, volume renderings using same colormap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ooking down chamber (left) and close-up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, wispy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15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E9F1194-BBE3-4658-AD34-3347B22D45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Picture 2" descr="C:\Home\NCSA\Ferrante\html\f17c1.jpg"/>
          <p:cNvPicPr/>
          <p:nvPr/>
        </p:nvPicPr>
        <p:blipFill>
          <a:blip r:embed="rId1"/>
          <a:stretch/>
        </p:blipFill>
        <p:spPr>
          <a:xfrm>
            <a:off x="1004760" y="3100320"/>
            <a:ext cx="3579840" cy="268452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4" descr="C:\Home\NCSA\Ferrante\html\t9a.jpg"/>
          <p:cNvPicPr/>
          <p:nvPr/>
        </p:nvPicPr>
        <p:blipFill>
          <a:blip r:embed="rId2"/>
          <a:stretch/>
        </p:blipFill>
        <p:spPr>
          <a:xfrm>
            <a:off x="468324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ing different visual representa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op-down view (left), three-quarter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dded data boundary grid for refer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A7A3082-2DB4-4E1E-AE91-27D3AF5CCA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Picture 2" descr="C:\Home\NCSA\Ferrante\html\f26c_2.jpg"/>
          <p:cNvPicPr/>
          <p:nvPr/>
        </p:nvPicPr>
        <p:blipFill>
          <a:blip r:embed="rId1"/>
          <a:stretch/>
        </p:blipFill>
        <p:spPr>
          <a:xfrm>
            <a:off x="1009800" y="309564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4" descr="C:\Home\NCSA\Ferrante\html\f26a.jpg"/>
          <p:cNvPicPr/>
          <p:nvPr/>
        </p:nvPicPr>
        <p:blipFill>
          <a:blip r:embed="rId2"/>
          <a:stretch/>
        </p:blipFill>
        <p:spPr>
          <a:xfrm>
            <a:off x="4697280" y="3090960"/>
            <a:ext cx="3584880" cy="268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6B14EA3-1E4F-4B95-8AA3-E18BD818BB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Picture 2" descr="C:\Home\NCSA\Ferrante\html\f27a.0001.jpg"/>
          <p:cNvPicPr/>
          <p:nvPr/>
        </p:nvPicPr>
        <p:blipFill>
          <a:blip r:embed="rId1"/>
          <a:stretch/>
        </p:blipFill>
        <p:spPr>
          <a:xfrm>
            <a:off x="102384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4" descr="C:\Home\NCSA\Ferrante\html\f27b.0001.jpg"/>
          <p:cNvPicPr/>
          <p:nvPr/>
        </p:nvPicPr>
        <p:blipFill>
          <a:blip r:embed="rId2"/>
          <a:stretch/>
        </p:blipFill>
        <p:spPr>
          <a:xfrm>
            <a:off x="4713120" y="3102120"/>
            <a:ext cx="358488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3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D77842-FFD8-4094-BD23-90A03C8ED7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Picture 2" descr="C:\Home\NCSA\Ferrante\html\f27c.0001.jpg"/>
          <p:cNvPicPr/>
          <p:nvPr/>
        </p:nvPicPr>
        <p:blipFill>
          <a:blip r:embed="rId1"/>
          <a:stretch/>
        </p:blipFill>
        <p:spPr>
          <a:xfrm>
            <a:off x="103176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2" descr="C:\Home\NCSA\Ferrante\html\f27d.0001.jpg"/>
          <p:cNvPicPr/>
          <p:nvPr/>
        </p:nvPicPr>
        <p:blipFill>
          <a:blip r:embed="rId2"/>
          <a:stretch/>
        </p:blipFill>
        <p:spPr>
          <a:xfrm>
            <a:off x="471960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53352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gration of particle flow visualizing veloc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xample of previous particle flow using custom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7F3939E-A826-4E58-A34E-23BF5FBE7D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Picture 2" descr=""/>
          <p:cNvPicPr/>
          <p:nvPr/>
        </p:nvPicPr>
        <p:blipFill>
          <a:blip r:embed="rId1"/>
          <a:stretch/>
        </p:blipFill>
        <p:spPr>
          <a:xfrm>
            <a:off x="990720" y="2684520"/>
            <a:ext cx="3886200" cy="2914560"/>
          </a:xfrm>
          <a:prstGeom prst="rect">
            <a:avLst/>
          </a:prstGeom>
          <a:ln w="0">
            <a:noFill/>
          </a:ln>
        </p:spPr>
      </p:pic>
      <p:sp>
        <p:nvSpPr>
          <p:cNvPr id="441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Science Overview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1664839-A40B-4DF0-89CF-D43FE31E93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72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mputational fluid flow at boundary layer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olution of 3D, unsteady Navier-Stokes (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Generate initial inflow conditions to D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elocity components must satisfy 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  <p:pic>
        <p:nvPicPr>
          <p:cNvPr id="381" name="Picture 2" descr="C:\Users\David\Desktop\1-s2.0-S0021999104000348-gr1.gif"/>
          <p:cNvPicPr/>
          <p:nvPr/>
        </p:nvPicPr>
        <p:blipFill>
          <a:blip r:embed="rId1"/>
          <a:stretch/>
        </p:blipFill>
        <p:spPr>
          <a:xfrm>
            <a:off x="1219320" y="2895480"/>
            <a:ext cx="4711680" cy="2833920"/>
          </a:xfrm>
          <a:prstGeom prst="rect">
            <a:avLst/>
          </a:prstGeom>
          <a:ln w="0">
            <a:noFill/>
          </a:ln>
        </p:spPr>
      </p:pic>
      <p:sp>
        <p:nvSpPr>
          <p:cNvPr id="382" name="Rectangle 5"/>
          <p:cNvSpPr/>
          <p:nvPr/>
        </p:nvSpPr>
        <p:spPr>
          <a:xfrm>
            <a:off x="1219320" y="572940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Reference: http://dx.doi.org/10.1016/j.jcp.2004.01.0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XSEDE projec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627639-D7D1-425C-A093-D21AC5E613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U hrs and TB on Kraken, Ranger, tape stora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ulation using largest Reynolds number ever report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hare generated DNS database with scientific commun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rform first DNS of fully-resolved droplet-laden turbul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CSS consultants: Darren Adams, David Bock (NCSA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ECSS goal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8B2BEAF-3A0F-4496-8C4F-15598F8984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tascale scaling and deployment on XSEDE resourc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igh-level HDF5 parallel IO library layer (H5D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5DNS provid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creation via petascale simulation run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analysi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implified I/O data conversion (e.g. visualization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isualization tests per simulation ru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roduction visualization imagery (e.g. journals, conference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57200" y="973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O library written in C on top of HDF5 library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ncapsulates HDF5 File structure and metadata particular to the DNS simulation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For simulation code, H5DNS provides: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Large data dumps of field variable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Restart capability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Particle IO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Metadata (run vars., input parameters etc.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427F24-9358-4FA9-9B65-FD6D84B669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457200" y="993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nalysis and visualizatio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VisIt Reader (C++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Other direct HDF5 access (Matlab,TecPlot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wig interfaces ??? (Perl , Python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D49100E-9BEA-45E6-987A-C4D5ECE2AD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533520" y="1676520"/>
            <a:ext cx="82296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Before H5DNS, data generation cumbersome, error-pron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equired editing and executing Fortran post-processor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ple H5DNS reader now used to read and extract data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nverted to format used by custom visualization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rested in scalar Lambda2 (vortices using velocity tensor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D7DE5DA-E75B-48F4-991F-07B1BE64D6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Data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s verifying data conversion using slice plan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ambda2 (left) and velocity magnitude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 structures in lambda2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DEC7E2-6B87-49C1-9675-21CB4F9A3B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nitial re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Picture 2" descr="C:\Home\NCSA\Ferrante\html\f16a.jpg"/>
          <p:cNvPicPr/>
          <p:nvPr/>
        </p:nvPicPr>
        <p:blipFill>
          <a:blip r:embed="rId1"/>
          <a:stretch/>
        </p:blipFill>
        <p:spPr>
          <a:xfrm>
            <a:off x="10018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4" descr="C:\Home\NCSA\Ferrante\html\f16e_4.jpg"/>
          <p:cNvPicPr/>
          <p:nvPr/>
        </p:nvPicPr>
        <p:blipFill>
          <a:blip r:embed="rId2"/>
          <a:stretch/>
        </p:blipFill>
        <p:spPr>
          <a:xfrm>
            <a:off x="43894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5" descr="C:\Users\David\Desktop\livingstone.jpg"/>
          <p:cNvPicPr/>
          <p:nvPr/>
        </p:nvPicPr>
        <p:blipFill>
          <a:blip r:embed="rId3"/>
          <a:stretch/>
        </p:blipFill>
        <p:spPr>
          <a:xfrm>
            <a:off x="1006560" y="5589720"/>
            <a:ext cx="2647800" cy="15372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5" descr="C:\Users\David\Desktop\livingstone.jpg"/>
          <p:cNvPicPr/>
          <p:nvPr/>
        </p:nvPicPr>
        <p:blipFill>
          <a:blip r:embed="rId4"/>
          <a:stretch/>
        </p:blipFill>
        <p:spPr>
          <a:xfrm>
            <a:off x="4390920" y="5587920"/>
            <a:ext cx="2648160" cy="1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ransfer function to isolate narrow Lambda2 ran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vident are very small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lormap with gaussian hue and alpha func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08E679-7F72-4A09-9841-168C372812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solating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Picture 2" descr="C:\Home\NCSA\Ferrante\html\f17b1.jpg"/>
          <p:cNvPicPr/>
          <p:nvPr/>
        </p:nvPicPr>
        <p:blipFill>
          <a:blip r:embed="rId1"/>
          <a:stretch/>
        </p:blipFill>
        <p:spPr>
          <a:xfrm>
            <a:off x="1009800" y="3103560"/>
            <a:ext cx="3516120" cy="263844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4" descr="C:\Home\NCSA\Ferrante\html\f17b_cmap.jpg"/>
          <p:cNvPicPr/>
          <p:nvPr/>
        </p:nvPicPr>
        <p:blipFill>
          <a:blip r:embed="rId2"/>
          <a:stretch/>
        </p:blipFill>
        <p:spPr>
          <a:xfrm>
            <a:off x="4637160" y="4032360"/>
            <a:ext cx="3336840" cy="17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7T14:06:46Z</dcterms:created>
  <dc:creator>David Bock;Darren Adams</dc:creator>
  <dc:description/>
  <dc:language>en-US</dc:language>
  <cp:lastModifiedBy>David</cp:lastModifiedBy>
  <dcterms:modified xsi:type="dcterms:W3CDTF">2012-09-18T14:33:21Z</dcterms:modified>
  <cp:revision>132</cp:revision>
  <dc:subject/>
  <dc:title>Visualizing Large Eddy Simulations</dc:title>
</cp:coreProperties>
</file>