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png" ContentType="image/pn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dt" idx="1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91350C6-A4A1-4252-AE0A-7C870CB65EA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ftr" idx="1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 type="sldNum" idx="1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DEC8708-E81A-433A-A9F1-9539F84AC0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3395C1-5410-42A4-A937-E1B715C49D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90FF017-DB7D-4E26-BDE5-0E72210DF3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65A41A-67CA-4DA6-AFFD-02B98F8DB4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3BF821-849C-438C-B123-E6560FEF93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9F8505-764E-4EEF-931F-8E3EDF20A4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B293DC-3F5D-4CA9-8A7C-AFDE8A5BA6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7AC5831-3E3A-4D25-BA48-4E93A8CFC3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8B2322-1450-49AB-89DA-EC5858BA18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127FA6-95A8-4812-9EBF-33C52CA8C8C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A041D5-D751-496F-81E2-4F78196BEC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409557-527E-4E07-8DFE-BA0BCE6822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CB3F24-4D33-4D90-85BD-43706E2DAFDB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E14544B-6B69-4075-9DA1-1A010F591F84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6151007-AE34-4410-8169-5AF005D4D332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A5422A4-C9D6-495E-AA37-29EED69064D5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E78172D-58E0-4EBD-91A8-4BCFB10E23DF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E3F7D44-7BC9-4BEE-8372-781F2AD47B8D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24CD6D3-5640-4BFD-8E91-DDE75F9FA0AF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F4482C5-4C1A-42C2-A1F9-A3A7FE3BC055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E0E6E94-67C1-4BAD-B4F8-02F7DFDD27AD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4ACACBE-C7CC-43A1-B3E3-C3A51AD3C4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2FD848-59B0-407F-9B1F-9F1448E035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352426-0809-4416-908A-0CC395FD3A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32A22E-64EE-445A-8279-F4DACB45A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D07FD3-01AC-4719-85D2-062A36F29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75C457-C4EA-4287-B4E4-C3F5077C2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2F8B24-F033-4EDF-9F49-CA1096F0A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0C69FA-9A35-4E4A-A094-CBC813777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3419FE-B60A-443B-B147-369850DDF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58CB72-6FDE-4561-BC18-3400805A6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1BFEEC-FA49-4DC1-A0AC-9A2B82E810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98A614-0BD6-4855-B0D3-F402C7239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198400-252D-4927-85B9-8E6DA94C7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011700-794F-4066-AD88-0B8EBF41A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78E744-9B29-4E18-9DBA-3157AE99E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753BA3-7856-4408-A6AA-C1E971AFC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4A5464-D645-4AEC-8F87-5EFC5CC9EC1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92FFA5-DDA5-4E67-A07E-3BAA10756656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566D0D-3A16-4B19-BA41-7A8FE4568971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441C57-931A-4E86-AA67-CFFBADBA12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43E653-6283-4783-9042-8AC01A84DB26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ED67C7-28ED-44CA-8895-F1A83B4C1093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743CFA-A201-4DF0-8878-3145690B7A4D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D9A4B0-7795-496E-B351-6C0D5EE6DFB6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B11DFB-BF3B-4595-A1DE-C0B3C963C643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A5DD0A-18EF-4110-94EE-5E3F350F4242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D54108-B404-4465-91BE-77EAFFE1FB25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4C23FB-D45C-40F4-8922-E1138A4E0923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EF7323-93D2-4B62-9B06-E713D3CCEB8F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E7CFB4-5EBB-4A89-9ED8-C2C8E3E7D2F0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A9B30-313D-42EE-8785-414290A336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AF7DD4-023B-4620-8F3D-DF9A9C57A8C4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BC373-F4ED-43D7-BDBF-570571400D99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59055-B581-4800-8EC3-ED3EA2A3160E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837F6-CD6E-4FC2-9C9A-37C96A5C2366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A079E-A448-4B49-AC3F-666BA3AC4065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559DF-EB31-4F68-85F4-B513DE75235E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D96E5-D54E-432B-9F5C-107C6C6E92A0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C2A35-C27D-4716-941A-4CADCD85A6DF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F0595-335B-45C9-8A0C-5D35ACFB82B4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3CE97-A99C-414E-880A-F4C792DE7792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18225-8FFD-4D6A-8603-AFDE503ADA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24D201-855E-49A5-B598-20C4010AA1B5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F040F-DBDC-45FE-97B1-643DF54A4907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66D5180-7C0F-4652-9C33-C374F4BA80AE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A32FB0A-0233-4DC1-8306-61454BA3FFD4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06B6E6F-3D1D-40DC-8027-4BC2088F06DE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5C98940-9823-44F6-BF85-EE9DF1C8113E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9340C7F-EA71-4F79-B71B-4E914F6EF1FC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0569B5F-B373-42E2-A110-DD935338B41F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0B2E34A-8656-43D4-A76D-BB294108F43E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8867A91-D94F-4FF0-9B4A-4DB6A0C12837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FF74954-AB19-4F4B-BFAF-1BF44A2344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81616B-3F2D-42C0-A1F1-5506CD03859B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38C702D-E106-48F9-9FBF-EF308EBD146D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9EE02BE-1D4A-4529-AA35-EAE76AA65565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01D38F7-0E4D-43D0-8FCD-76E70F97ED0A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B62CD2A-5E6F-46F3-8380-2B115FDCB944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7497496-3E24-4543-9488-11FFB6C449C6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6EBAF1D-6422-4374-9627-5D137D8D1D23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9B080FF-B997-416D-A503-D90B5FDB42B6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748E97B-1B6D-4BA7-B255-A99566714DEB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891AE67-27AA-4BF4-8D7C-3236F7F08B36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CDC80CC-629D-4406-A8DC-092E4B2891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365A09-8DEA-4951-A3F4-DA4CADE7450E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84891FF-5B21-47B0-9E7B-5C666006A490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6EA2832-C110-4ED3-949E-9E934F11C108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418C3B3-C0D1-4584-B8E4-34118539F582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2EB4E8-760F-41CD-A647-C1C4D9C876AD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B424D84-D520-431D-8D5E-483197ABE774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7317C2-8E30-4333-9B51-7FD49E2C5DB5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27B974-1B59-4961-AD60-C79301C74B12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06ED30-FAA1-4DF8-961F-45E4189DD9C6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366ABA-DE41-465E-8011-6E274995385E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82F46B-A632-4357-ADB0-44BC501A9F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4B5AEB-8C4E-4DA9-A6B4-407F724BA324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7B77BB-C5FC-4AB0-8C63-D2D68DC08A64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7D5A1E-B7E8-4BBA-BB68-7E60D0DE991B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A83DAC-B99F-491E-9142-209B700F39D5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C910C9-D06C-4A36-B74F-591F36A8DF32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01C7B0-22BD-4D40-BC24-A4CEE4535874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64615F-5C29-4CD8-AE6B-F047A8FAA558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E91823-6BE0-42A9-B97E-83A120F3961A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B482BD2-AE92-4FDC-A9D1-DB7765D88CC9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9C7369A-9C37-440E-BF12-1723861C359D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7BDF92B-7E98-40D1-B850-FC63B4CC72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68FE813-EB19-4519-B8A8-319D7E689F18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B8465B-7EC5-4CFC-B56E-A1BD2F8A5E4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xsede-ppt-titl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Date Placeholder 3"/>
          <p:cNvSpPr/>
          <p:nvPr/>
        </p:nvSpPr>
        <p:spPr>
          <a:xfrm>
            <a:off x="6705720" y="3510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CA6E93-8652-4876-B125-DE4771500B03}" type="datetime3">
              <a:rPr b="0" lang="en-US" sz="1500" spc="-1" strike="noStrike">
                <a:solidFill>
                  <a:srgbClr val="ffffff"/>
                </a:solidFill>
                <a:latin typeface="Verdana"/>
              </a:rPr>
              <a:t>July 30, 2026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8" descr="nsf-white-576x576.png"/>
          <p:cNvPicPr/>
          <p:nvPr/>
        </p:nvPicPr>
        <p:blipFill>
          <a:blip r:embed="rId4"/>
          <a:stretch/>
        </p:blipFill>
        <p:spPr>
          <a:xfrm>
            <a:off x="7772400" y="502920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5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D97193-8529-409F-BF8F-6F62117A8842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Num" idx="6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D2EF61D-9A5D-4508-8FAD-B2B78C772529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sldNum" idx="7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5F1466-AE9F-4F8F-B39C-8794EF3A7295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8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47861CF-A464-42F0-BC99-10FCE6701FDB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sldNum" idx="9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834DF9-9FF1-4491-9421-92E604B00E6F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sldNum" idx="10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B81CB2C-BFDC-43C9-9ACB-E56CEF85775F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09120" y="2664000"/>
            <a:ext cx="8153640" cy="91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NS of Spatially Developing Turbulent Boundary Layer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609120" y="3657600"/>
            <a:ext cx="815364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PI: Antonino Ferrante, University of Washington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ECSS: Darren Adams, David Bock, NCSA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ay-traced, volume renderings using same colormap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ooking down chamber (left) and close-up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, wispy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15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BF8FF4F-6F82-4DB6-BE9B-34B889408A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Picture 2" descr="C:\Home\NCSA\Ferrante\html\f17c1.jpg"/>
          <p:cNvPicPr/>
          <p:nvPr/>
        </p:nvPicPr>
        <p:blipFill>
          <a:blip r:embed="rId1"/>
          <a:stretch/>
        </p:blipFill>
        <p:spPr>
          <a:xfrm>
            <a:off x="1004760" y="3100320"/>
            <a:ext cx="3579840" cy="268452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4" descr="C:\Home\NCSA\Ferrante\html\t9a.jpg"/>
          <p:cNvPicPr/>
          <p:nvPr/>
        </p:nvPicPr>
        <p:blipFill>
          <a:blip r:embed="rId2"/>
          <a:stretch/>
        </p:blipFill>
        <p:spPr>
          <a:xfrm>
            <a:off x="468324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ing different visual representa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op-down view (left), three-quarter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dded data boundary grid for refer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106179A-30D2-4171-B895-DBF6F2F86A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Picture 2" descr="C:\Home\NCSA\Ferrante\html\f26c_2.jpg"/>
          <p:cNvPicPr/>
          <p:nvPr/>
        </p:nvPicPr>
        <p:blipFill>
          <a:blip r:embed="rId1"/>
          <a:stretch/>
        </p:blipFill>
        <p:spPr>
          <a:xfrm>
            <a:off x="1009800" y="309564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4" descr="C:\Home\NCSA\Ferrante\html\f26a.jpg"/>
          <p:cNvPicPr/>
          <p:nvPr/>
        </p:nvPicPr>
        <p:blipFill>
          <a:blip r:embed="rId2"/>
          <a:stretch/>
        </p:blipFill>
        <p:spPr>
          <a:xfrm>
            <a:off x="4697280" y="3090960"/>
            <a:ext cx="3584880" cy="268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33B3AD-02EC-429D-A241-642A6CF7B8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Picture 2" descr="C:\Home\NCSA\Ferrante\html\f27a.0001.jpg"/>
          <p:cNvPicPr/>
          <p:nvPr/>
        </p:nvPicPr>
        <p:blipFill>
          <a:blip r:embed="rId1"/>
          <a:stretch/>
        </p:blipFill>
        <p:spPr>
          <a:xfrm>
            <a:off x="102384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4" descr="C:\Home\NCSA\Ferrante\html\f27b.0001.jpg"/>
          <p:cNvPicPr/>
          <p:nvPr/>
        </p:nvPicPr>
        <p:blipFill>
          <a:blip r:embed="rId2"/>
          <a:stretch/>
        </p:blipFill>
        <p:spPr>
          <a:xfrm>
            <a:off x="4713120" y="3102120"/>
            <a:ext cx="358488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3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46EC5A5-05B7-420B-BF1A-80B4CFD890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Picture 2" descr="C:\Home\NCSA\Ferrante\html\f27c.0001.jpg"/>
          <p:cNvPicPr/>
          <p:nvPr/>
        </p:nvPicPr>
        <p:blipFill>
          <a:blip r:embed="rId1"/>
          <a:stretch/>
        </p:blipFill>
        <p:spPr>
          <a:xfrm>
            <a:off x="103176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2" descr="C:\Home\NCSA\Ferrante\html\f27d.0001.jpg"/>
          <p:cNvPicPr/>
          <p:nvPr/>
        </p:nvPicPr>
        <p:blipFill>
          <a:blip r:embed="rId2"/>
          <a:stretch/>
        </p:blipFill>
        <p:spPr>
          <a:xfrm>
            <a:off x="471960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53352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gration of particle flow visualizing veloc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xample of previous particle flow using custom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DF6B73D-92A6-4B42-8270-4C6F702F66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Picture 2" descr=""/>
          <p:cNvPicPr/>
          <p:nvPr/>
        </p:nvPicPr>
        <p:blipFill>
          <a:blip r:embed="rId1"/>
          <a:stretch/>
        </p:blipFill>
        <p:spPr>
          <a:xfrm>
            <a:off x="990720" y="2684520"/>
            <a:ext cx="3886200" cy="2914560"/>
          </a:xfrm>
          <a:prstGeom prst="rect">
            <a:avLst/>
          </a:prstGeom>
          <a:ln w="0">
            <a:noFill/>
          </a:ln>
        </p:spPr>
      </p:pic>
      <p:sp>
        <p:nvSpPr>
          <p:cNvPr id="441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Science Overview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6C83D1-BD32-42EB-8C7A-72ECAF2888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72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mputational fluid flow at boundary layer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olution of 3D, unsteady Navier-Stokes (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Generate initial inflow conditions to D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elocity components must satisfy 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  <p:pic>
        <p:nvPicPr>
          <p:cNvPr id="381" name="Picture 2" descr="C:\Users\David\Desktop\1-s2.0-S0021999104000348-gr1.gif"/>
          <p:cNvPicPr/>
          <p:nvPr/>
        </p:nvPicPr>
        <p:blipFill>
          <a:blip r:embed="rId1"/>
          <a:stretch/>
        </p:blipFill>
        <p:spPr>
          <a:xfrm>
            <a:off x="1219320" y="2895480"/>
            <a:ext cx="4711680" cy="2833920"/>
          </a:xfrm>
          <a:prstGeom prst="rect">
            <a:avLst/>
          </a:prstGeom>
          <a:ln w="0">
            <a:noFill/>
          </a:ln>
        </p:spPr>
      </p:pic>
      <p:sp>
        <p:nvSpPr>
          <p:cNvPr id="382" name="Rectangle 5"/>
          <p:cNvSpPr/>
          <p:nvPr/>
        </p:nvSpPr>
        <p:spPr>
          <a:xfrm>
            <a:off x="1219320" y="572940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Reference: http://dx.doi.org/10.1016/j.jcp.2004.01.0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XSEDE projec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38D9F94-7AA3-475D-B049-935037A33F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U hrs and TB on Kraken, Ranger, tape stora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ulation using largest Reynolds number ever report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hare generated DNS database with scientific commun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rform first DNS of fully-resolved droplet-laden turbul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CSS consultants: Darren Adams, David Bock (NCSA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ECSS goal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EAC6FB-8156-4E21-8AD5-D68DC35F74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tascale scaling and deployment on XSEDE resourc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igh-level HDF5 parallel IO library layer (H5D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5DNS provid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creation via petascale simulation run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analysi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implified I/O data conversion (e.g. visualization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isualization tests per simulation ru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roduction visualization imagery (e.g. journals, conference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57200" y="973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O library written in C on top of HDF5 library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ncapsulates HDF5 File structure and metadata particular to the DNS simulation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For simulation code, H5DNS provides: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Large data dumps of field variable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Restart capability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Particle IO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Metadata (run vars., input parameters etc.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28199D-ADAB-4E68-855F-08BCEAB495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457200" y="993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nalysis and visualizatio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VisIt Reader (C++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Other direct HDF5 access (Matlab,TecPlot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wig interfaces ??? (Perl , Python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CF8912-9CEB-4D1D-880F-397A0C1C34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533520" y="1676520"/>
            <a:ext cx="82296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Before H5DNS, data generation cumbersome, error-pron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equired editing and executing Fortran post-processor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ple H5DNS reader now used to read and extract data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nverted to format used by custom visualization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rested in scalar Lambda2 (vortices using velocity tensor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6C321A-DAD6-497E-BED2-0CF41B1B86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Data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s verifying data conversion using slice plan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ambda2 (left) and velocity magnitude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 structures in lambda2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FA4C2FA-B236-4268-88A1-FD374572EF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nitial re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Picture 2" descr="C:\Home\NCSA\Ferrante\html\f16a.jpg"/>
          <p:cNvPicPr/>
          <p:nvPr/>
        </p:nvPicPr>
        <p:blipFill>
          <a:blip r:embed="rId1"/>
          <a:stretch/>
        </p:blipFill>
        <p:spPr>
          <a:xfrm>
            <a:off x="10018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4" descr="C:\Home\NCSA\Ferrante\html\f16e_4.jpg"/>
          <p:cNvPicPr/>
          <p:nvPr/>
        </p:nvPicPr>
        <p:blipFill>
          <a:blip r:embed="rId2"/>
          <a:stretch/>
        </p:blipFill>
        <p:spPr>
          <a:xfrm>
            <a:off x="43894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5" descr="C:\Users\David\Desktop\livingstone.jpg"/>
          <p:cNvPicPr/>
          <p:nvPr/>
        </p:nvPicPr>
        <p:blipFill>
          <a:blip r:embed="rId3"/>
          <a:stretch/>
        </p:blipFill>
        <p:spPr>
          <a:xfrm>
            <a:off x="1006560" y="5589720"/>
            <a:ext cx="2647800" cy="15372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5" descr="C:\Users\David\Desktop\livingstone.jpg"/>
          <p:cNvPicPr/>
          <p:nvPr/>
        </p:nvPicPr>
        <p:blipFill>
          <a:blip r:embed="rId4"/>
          <a:stretch/>
        </p:blipFill>
        <p:spPr>
          <a:xfrm>
            <a:off x="4390920" y="5587920"/>
            <a:ext cx="2648160" cy="1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ransfer function to isolate narrow Lambda2 ran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vident are very small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lormap with gaussian hue and alpha func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AE3A465-74CF-47D6-B203-07B358A6B9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solating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Picture 2" descr="C:\Home\NCSA\Ferrante\html\f17b1.jpg"/>
          <p:cNvPicPr/>
          <p:nvPr/>
        </p:nvPicPr>
        <p:blipFill>
          <a:blip r:embed="rId1"/>
          <a:stretch/>
        </p:blipFill>
        <p:spPr>
          <a:xfrm>
            <a:off x="1009800" y="3103560"/>
            <a:ext cx="3516120" cy="263844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4" descr="C:\Home\NCSA\Ferrante\html\f17b_cmap.jpg"/>
          <p:cNvPicPr/>
          <p:nvPr/>
        </p:nvPicPr>
        <p:blipFill>
          <a:blip r:embed="rId2"/>
          <a:stretch/>
        </p:blipFill>
        <p:spPr>
          <a:xfrm>
            <a:off x="4637160" y="4032360"/>
            <a:ext cx="3336840" cy="17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7T14:06:46Z</dcterms:created>
  <dc:creator>David Bock;Darren Adams</dc:creator>
  <dc:description/>
  <dc:language>en-US</dc:language>
  <cp:lastModifiedBy>David</cp:lastModifiedBy>
  <dcterms:modified xsi:type="dcterms:W3CDTF">2012-09-18T14:33:21Z</dcterms:modified>
  <cp:revision>132</cp:revision>
  <dc:subject/>
  <dc:title>Visualizing Large Eddy Simulations</dc:title>
</cp:coreProperties>
</file>