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png" ContentType="image/pn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dt" idx="1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F05430-A82C-4CAC-8E03-0F35602A8AA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ftr" idx="1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 type="sldNum" idx="1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E6693C-2EB1-4BE2-B8FE-2B5FE8A9FB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26C585-A88A-4D77-9C7B-DD243E6990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56DA3E-158F-4ED2-B407-2F7D14BF61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0333E2-4D65-4BF8-9244-AFA0C766E5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A4A406-5CF7-4F07-9380-6CD25D8926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93C2D8-5098-4D79-8138-6978227CBC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CCC4A9-7F49-4083-8ABD-ED6CB20DFE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4CA327F-6FA1-4607-8C6A-A5176EC0AA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DB8592A-40AA-4715-8182-4FC5618CE0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9F26B7-C0D6-436B-AA88-FEBB6DE7A3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A48D03E-CC12-4911-93A8-CB477D7038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E9B852-C044-4468-9C8B-D97BEC983B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6D3633-3F03-43B6-A2A5-084387CE003E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3C12F0B-23A0-4D0F-862C-2EE70FD13C17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17FC348-6E55-4CAE-945E-8FED6C063D87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B837F76-A7D2-4734-B19C-2775DD50F549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C5D02FE-1B8C-4B17-90C9-8A942A95BA26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1C6E253-11C1-4522-8D3E-D36F92EB96AF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A9EE1C9-598B-4699-8082-C04A502CA163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AFE2BCA-0EB7-4EA2-B2D8-45A559F61905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ED4CA44-280E-40EE-A42D-5E0333030D23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556407C-6880-4439-A0BD-171EE11EC3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B24EDE-DBA5-4E45-861B-FE6E5C4D64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A13260-11B3-47CE-ACD3-D096E87ADD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10F5F6-54AB-41AC-A77A-0DFC6EFB8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C622B4-78FE-4745-BEAD-5281905FB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5B1393-57B2-41B9-A3FA-81083E3A4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F7B486-415C-4B36-B323-177ADFCF9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6BA92D-8FCC-41B9-AFDB-5462C98D4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35F897-A268-4EE7-AE21-EB52C1A47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21DD55-0ABC-42F1-A7AB-F0AD7CF24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6112F2-498C-4089-8C59-7AE298249F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1445A6-9D64-49CF-BC02-9DC8601A3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9567AD-A40A-4BEF-BDE6-C14FB6E4B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8C7160-7F21-4701-A4F1-5805A985A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1143DA-3B2D-48EE-98D4-FC988C97F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6844E5-7E16-4612-AB82-D1BA95CA5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BC3239-914D-4FCF-92DA-E749C006986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2EF807-0868-4DCE-B6A6-926D46E70643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0DB4C9-DFD9-4570-90CB-F618ABC60907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160183-F621-4740-9EEC-14350BB5FD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FFE88A-EC02-4A57-9F43-F203EF8A9557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E163B0-2D2C-456E-8520-67B700291942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C498BF-7206-4997-9121-25F6FB50BA81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630A88-2344-4FBE-BF2E-101BC8D8AC47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D68543-D2A6-4967-B0CD-8DD0B944DF6E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D6E3A3-3073-487D-8539-2B7BA9A53E68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CB2C88-958E-4B7D-ACD8-604D3E52E98E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B8C326-9B8F-4CF4-9C1C-92CD8D6A9D19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D0854F-811C-4136-B894-2928227E4DB4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21CB94-9942-43CC-88FC-04005B84A4E1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5BB4C-B2FF-4D55-BFA2-E53E3C0AAF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55D21F-44D2-4236-BE9D-A40EA2EEF1A4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F1949-D41C-42A9-B58C-AD4956A427DD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3E916-2D25-4826-862E-10AE76179CFC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55043-92EB-422A-BC96-61ABEFEC884E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EDB17-459F-4C80-9396-D3C6E833D5E8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3B967-C264-4631-9C9E-7C36A088F383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E6ADC-596E-48C5-A3E8-C279CCAB4BBF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441B8-59F0-4D7E-BE5F-806911A8A98E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28C19-0686-44B4-87C9-3E7FC39595F9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D1637-7E82-4684-ACB1-AB4F8E25143F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839CD-3A32-4172-9392-E48590F10A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5DD6FA-2F0D-41D2-A9FD-1F3AF8C9B4F5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AFB98-7A21-4149-BEE7-E94EDF5E8826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D8BBA72-B2E0-422E-B124-9E4E14065F74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13DD6AD-DFAE-444E-870E-8296C68A520A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C91D389-EA83-4E5E-8B09-500787CAEB76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ACD0065-81E1-49E6-A891-DFEF3BCEF725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69FA255-F6B6-4905-867B-0963CB3E746C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F250B80-9EE7-4E5B-A6F1-327B5492812B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F560FF6-C02D-4527-BE37-2230FE84CB36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60EC81A-1FCF-4334-946D-CD256DDC223F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1B09E8C-A9FD-4380-BCD6-068E19362B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BE7992-9A92-4FAD-A74B-16E76BBCCAFA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CB3870E-76BC-416E-BEBE-326946EDAAC2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8564C33-276E-4157-8FA8-820BB7111C0D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6FA5A3A-940D-42B2-844F-9343093CE32D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7994162-F9EA-4CC2-A43B-4EAE2930DF51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8B0FCB7-4736-49DE-B520-E8D0F9FD8D25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FFF0E58-B608-4C11-93F5-3ECA0F826D84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E1907E5-E2DD-4E14-8F46-1AA6466996D6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0809F2B-5DFF-4B41-BCCC-198C23382D9C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6E1874F-B8D8-4E21-A817-DC4FC682E8FC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9260730-45D3-429F-9BD2-0E70A90188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9A6B2D-A878-4809-A74D-52E6D6E3A560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E0C0730-D8DF-4695-8BCE-2491C8F240CC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CC2390A-1FC2-4DD2-9C5D-A7DF11AF6C40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76655A7-EDBE-44B5-909A-654368903A72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828F7EF-9498-48E8-9BEB-D5A2C0060018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41930E6-3080-4A95-920A-38403D528D27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241A60-CAD9-42EC-A2D2-E4B99659A3EB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AE19BF-C40A-40C2-B3EF-4D0A16FFF494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F70306-9CEB-4EB8-A598-E1CB2DF5A520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E27284-7A82-4EEC-8E32-E680FBAB3992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65AB13-6D5B-45A3-ADA4-49174EBCF4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707BF5-DBE6-45A9-AC37-D2D0010C6FD5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1FDF50-AAAE-4741-BAAE-E9116DA98523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A21B46-8E75-48F1-ADDA-20B29B2163E7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BEA45F-7D0F-434C-83F9-228D505A5DD5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D31DD0-A9D6-436E-83E0-2568F0C40E12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5032DC-6758-4A00-856D-B956315548D5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F0EB17-38BC-4210-A8E7-6FE9A06807E1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FD7F50-5CA5-4E16-96DC-CCEED93666D6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1DBA24E-F20A-4D31-9733-1890C794281F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F27731C-388E-41B2-A227-063ABE453580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DBB2098-56E1-4D07-A64E-3AA6AD033C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4100E8-52A2-4E10-B1D1-1E858BF839F6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C633528-FAEC-4565-9E63-AF7631E11D2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xsede-ppt-titl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Date Placeholder 3"/>
          <p:cNvSpPr/>
          <p:nvPr/>
        </p:nvSpPr>
        <p:spPr>
          <a:xfrm>
            <a:off x="6705720" y="3510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BBC42B-B73C-4B0C-B4E4-12ED60AF1276}" type="datetime3">
              <a:rPr b="0" lang="en-US" sz="1500" spc="-1" strike="noStrike">
                <a:solidFill>
                  <a:srgbClr val="ffffff"/>
                </a:solidFill>
                <a:latin typeface="Verdana"/>
              </a:rPr>
              <a:t>July 28, 2026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8" descr="nsf-white-576x576.png"/>
          <p:cNvPicPr/>
          <p:nvPr/>
        </p:nvPicPr>
        <p:blipFill>
          <a:blip r:embed="rId4"/>
          <a:stretch/>
        </p:blipFill>
        <p:spPr>
          <a:xfrm>
            <a:off x="7772400" y="502920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5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4ECA92-9A33-4514-B67C-6627455421BE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Num" idx="6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AAA5A4F-D9B5-4F6B-AD81-FCBA44DEFA15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sldNum" idx="7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8713C2-EF13-4624-ACA6-1BDC72BB9D98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8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3A1A89-EDFB-479A-B699-214DA3488CCA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sldNum" idx="9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E768C4B-588B-4940-93AD-696BED231A90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sldNum" idx="10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EECD05A-0DAF-4267-BF33-961529E49746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09120" y="2664000"/>
            <a:ext cx="8153640" cy="91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NS of Spatially Developing Turbulent Boundary Layer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609120" y="3657600"/>
            <a:ext cx="815364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PI: Antonino Ferrante, University of Washington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ECSS: Darren Adams, David Bock, NCSA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ay-traced, volume renderings using same colormap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ooking down chamber (left) and close-up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, wispy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15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F774173-3636-44DA-8170-738F32B367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Picture 2" descr="C:\Home\NCSA\Ferrante\html\f17c1.jpg"/>
          <p:cNvPicPr/>
          <p:nvPr/>
        </p:nvPicPr>
        <p:blipFill>
          <a:blip r:embed="rId1"/>
          <a:stretch/>
        </p:blipFill>
        <p:spPr>
          <a:xfrm>
            <a:off x="1004760" y="3100320"/>
            <a:ext cx="3579840" cy="268452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4" descr="C:\Home\NCSA\Ferrante\html\t9a.jpg"/>
          <p:cNvPicPr/>
          <p:nvPr/>
        </p:nvPicPr>
        <p:blipFill>
          <a:blip r:embed="rId2"/>
          <a:stretch/>
        </p:blipFill>
        <p:spPr>
          <a:xfrm>
            <a:off x="468324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ing different visual representa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op-down view (left), three-quarter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dded data boundary grid for refer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422503-403E-4CD2-B438-1DFB185C86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Picture 2" descr="C:\Home\NCSA\Ferrante\html\f26c_2.jpg"/>
          <p:cNvPicPr/>
          <p:nvPr/>
        </p:nvPicPr>
        <p:blipFill>
          <a:blip r:embed="rId1"/>
          <a:stretch/>
        </p:blipFill>
        <p:spPr>
          <a:xfrm>
            <a:off x="1009800" y="309564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4" descr="C:\Home\NCSA\Ferrante\html\f26a.jpg"/>
          <p:cNvPicPr/>
          <p:nvPr/>
        </p:nvPicPr>
        <p:blipFill>
          <a:blip r:embed="rId2"/>
          <a:stretch/>
        </p:blipFill>
        <p:spPr>
          <a:xfrm>
            <a:off x="4697280" y="3090960"/>
            <a:ext cx="3584880" cy="268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6E5B98-C85E-4B07-B94A-E1A8740E68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Picture 2" descr="C:\Home\NCSA\Ferrante\html\f27a.0001.jpg"/>
          <p:cNvPicPr/>
          <p:nvPr/>
        </p:nvPicPr>
        <p:blipFill>
          <a:blip r:embed="rId1"/>
          <a:stretch/>
        </p:blipFill>
        <p:spPr>
          <a:xfrm>
            <a:off x="102384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4" descr="C:\Home\NCSA\Ferrante\html\f27b.0001.jpg"/>
          <p:cNvPicPr/>
          <p:nvPr/>
        </p:nvPicPr>
        <p:blipFill>
          <a:blip r:embed="rId2"/>
          <a:stretch/>
        </p:blipFill>
        <p:spPr>
          <a:xfrm>
            <a:off x="4713120" y="3102120"/>
            <a:ext cx="358488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3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26D47C-22F0-4E52-B51D-6DC73CD42F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Picture 2" descr="C:\Home\NCSA\Ferrante\html\f27c.0001.jpg"/>
          <p:cNvPicPr/>
          <p:nvPr/>
        </p:nvPicPr>
        <p:blipFill>
          <a:blip r:embed="rId1"/>
          <a:stretch/>
        </p:blipFill>
        <p:spPr>
          <a:xfrm>
            <a:off x="103176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2" descr="C:\Home\NCSA\Ferrante\html\f27d.0001.jpg"/>
          <p:cNvPicPr/>
          <p:nvPr/>
        </p:nvPicPr>
        <p:blipFill>
          <a:blip r:embed="rId2"/>
          <a:stretch/>
        </p:blipFill>
        <p:spPr>
          <a:xfrm>
            <a:off x="471960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53352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gration of particle flow visualizing veloc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xample of previous particle flow using custom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6A4244-7A46-4B20-A7DA-FB5737852B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Picture 2" descr=""/>
          <p:cNvPicPr/>
          <p:nvPr/>
        </p:nvPicPr>
        <p:blipFill>
          <a:blip r:embed="rId1"/>
          <a:stretch/>
        </p:blipFill>
        <p:spPr>
          <a:xfrm>
            <a:off x="990720" y="2684520"/>
            <a:ext cx="3886200" cy="2914560"/>
          </a:xfrm>
          <a:prstGeom prst="rect">
            <a:avLst/>
          </a:prstGeom>
          <a:ln w="0">
            <a:noFill/>
          </a:ln>
        </p:spPr>
      </p:pic>
      <p:sp>
        <p:nvSpPr>
          <p:cNvPr id="441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Science Overview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73ADF9C-B56D-4993-A5BD-5FB5609183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72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mputational fluid flow at boundary layer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olution of 3D, unsteady Navier-Stokes (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Generate initial inflow conditions to D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elocity components must satisfy 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  <p:pic>
        <p:nvPicPr>
          <p:cNvPr id="381" name="Picture 2" descr="C:\Users\David\Desktop\1-s2.0-S0021999104000348-gr1.gif"/>
          <p:cNvPicPr/>
          <p:nvPr/>
        </p:nvPicPr>
        <p:blipFill>
          <a:blip r:embed="rId1"/>
          <a:stretch/>
        </p:blipFill>
        <p:spPr>
          <a:xfrm>
            <a:off x="1219320" y="2895480"/>
            <a:ext cx="4711680" cy="2833920"/>
          </a:xfrm>
          <a:prstGeom prst="rect">
            <a:avLst/>
          </a:prstGeom>
          <a:ln w="0">
            <a:noFill/>
          </a:ln>
        </p:spPr>
      </p:pic>
      <p:sp>
        <p:nvSpPr>
          <p:cNvPr id="382" name="Rectangle 5"/>
          <p:cNvSpPr/>
          <p:nvPr/>
        </p:nvSpPr>
        <p:spPr>
          <a:xfrm>
            <a:off x="1219320" y="572940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Reference: http://dx.doi.org/10.1016/j.jcp.2004.01.0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XSEDE projec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9167B7-E088-42E8-B8C3-C0D7249F17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U hrs and TB on Kraken, Ranger, tape stora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ulation using largest Reynolds number ever report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hare generated DNS database with scientific commun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rform first DNS of fully-resolved droplet-laden turbul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CSS consultants: Darren Adams, David Bock (NCSA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ECSS goal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A978FE-DB80-4A1C-A14D-D03D13A392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tascale scaling and deployment on XSEDE resourc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igh-level HDF5 parallel IO library layer (H5D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5DNS provid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creation via petascale simulation run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analysi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implified I/O data conversion (e.g. visualization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isualization tests per simulation ru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roduction visualization imagery (e.g. journals, conference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57200" y="973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O library written in C on top of HDF5 library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ncapsulates HDF5 File structure and metadata particular to the DNS simulation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For simulation code, H5DNS provides: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Large data dumps of field variable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Restart capability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Particle IO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Metadata (run vars., input parameters etc.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D55D651-80DA-4DDD-A453-9DF6EDB519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457200" y="993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nalysis and visualizatio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VisIt Reader (C++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Other direct HDF5 access (Matlab,TecPlot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wig interfaces ??? (Perl , Python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931FEA-0B96-45F3-AB6D-C70CF7031C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533520" y="1676520"/>
            <a:ext cx="82296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Before H5DNS, data generation cumbersome, error-pron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equired editing and executing Fortran post-processor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ple H5DNS reader now used to read and extract data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nverted to format used by custom visualization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rested in scalar Lambda2 (vortices using velocity tensor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BAE6D3-F552-47EB-817D-39D9D63B89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Data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s verifying data conversion using slice plan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ambda2 (left) and velocity magnitude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 structures in lambda2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221CE97-1D54-40CC-A774-29165B6758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nitial re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Picture 2" descr="C:\Home\NCSA\Ferrante\html\f16a.jpg"/>
          <p:cNvPicPr/>
          <p:nvPr/>
        </p:nvPicPr>
        <p:blipFill>
          <a:blip r:embed="rId1"/>
          <a:stretch/>
        </p:blipFill>
        <p:spPr>
          <a:xfrm>
            <a:off x="10018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4" descr="C:\Home\NCSA\Ferrante\html\f16e_4.jpg"/>
          <p:cNvPicPr/>
          <p:nvPr/>
        </p:nvPicPr>
        <p:blipFill>
          <a:blip r:embed="rId2"/>
          <a:stretch/>
        </p:blipFill>
        <p:spPr>
          <a:xfrm>
            <a:off x="43894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5" descr="C:\Users\David\Desktop\livingstone.jpg"/>
          <p:cNvPicPr/>
          <p:nvPr/>
        </p:nvPicPr>
        <p:blipFill>
          <a:blip r:embed="rId3"/>
          <a:stretch/>
        </p:blipFill>
        <p:spPr>
          <a:xfrm>
            <a:off x="1006560" y="5589720"/>
            <a:ext cx="2647800" cy="15372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5" descr="C:\Users\David\Desktop\livingstone.jpg"/>
          <p:cNvPicPr/>
          <p:nvPr/>
        </p:nvPicPr>
        <p:blipFill>
          <a:blip r:embed="rId4"/>
          <a:stretch/>
        </p:blipFill>
        <p:spPr>
          <a:xfrm>
            <a:off x="4390920" y="5587920"/>
            <a:ext cx="2648160" cy="1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ransfer function to isolate narrow Lambda2 ran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vident are very small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lormap with gaussian hue and alpha func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A196819-6432-4EED-974F-12F7DF8F0F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solating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Picture 2" descr="C:\Home\NCSA\Ferrante\html\f17b1.jpg"/>
          <p:cNvPicPr/>
          <p:nvPr/>
        </p:nvPicPr>
        <p:blipFill>
          <a:blip r:embed="rId1"/>
          <a:stretch/>
        </p:blipFill>
        <p:spPr>
          <a:xfrm>
            <a:off x="1009800" y="3103560"/>
            <a:ext cx="3516120" cy="263844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4" descr="C:\Home\NCSA\Ferrante\html\f17b_cmap.jpg"/>
          <p:cNvPicPr/>
          <p:nvPr/>
        </p:nvPicPr>
        <p:blipFill>
          <a:blip r:embed="rId2"/>
          <a:stretch/>
        </p:blipFill>
        <p:spPr>
          <a:xfrm>
            <a:off x="4637160" y="4032360"/>
            <a:ext cx="3336840" cy="17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7T14:06:46Z</dcterms:created>
  <dc:creator>David Bock;Darren Adams</dc:creator>
  <dc:description/>
  <dc:language>en-US</dc:language>
  <cp:lastModifiedBy>David</cp:lastModifiedBy>
  <dcterms:modified xsi:type="dcterms:W3CDTF">2012-09-18T14:33:21Z</dcterms:modified>
  <cp:revision>132</cp:revision>
  <dc:subject/>
  <dc:title>Visualizing Large Eddy Simulations</dc:title>
</cp:coreProperties>
</file>