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png" ContentType="image/pn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dt" idx="1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606A469-143B-41AB-A841-80760AC6FF6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ftr" idx="1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 type="sldNum" idx="1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6629C75-66E9-48F4-B7C0-3FACFC2EF3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07B5B8-914C-4752-94D1-A18EF05327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FABE49-D163-4C1C-81B3-659F8BFA88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E29C21-BA3B-4D6C-8CB4-BD38096C68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C5C8EC-A101-4DC3-92CD-FD700808EE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7B064AA-A5FD-47CC-9FA2-5F5639A440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A70921-05B2-4920-B1AE-C99935DBC1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0DF452F-50B3-4494-A0E9-2C98774F14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1C16760-E75F-4671-9F81-4A958A9C62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8486593-2DC5-4113-9FB4-0933A13007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582E6F-C45D-4C00-936E-3BA5462DBA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38419F-BE8C-4764-B628-EFC0B72763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9FCDD5-D769-4A30-ACAE-638ABA2CF51B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6BE2D6B-A0B8-4344-B328-B970012423DD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B0FD322-25B9-42DA-8417-0299E5F73F48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ECAD22A-14F8-4284-BB55-F47A3CCB7073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91D480F-6658-4E82-B621-4578A56E906C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6D5EBF2-351C-403A-8BA8-9F868D67DF8C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5255BCC-C25B-4A1C-8EF8-2724549ED463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5113B51-9574-4362-B6C3-23C10D2D91DA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10EA54D-AAE2-4153-BD4D-60122E33D3AA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6E364EF-FE62-410B-B99F-97921EC57B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C3B81F-582C-4CDA-9702-7448CCE086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B3D932-690F-4A70-B879-42D5329F59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4CE29C-500F-4605-BAF5-F4187D372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231053-5C75-4EDA-BF9C-C3914C0EB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3B2FD8-0E00-4C21-987C-459803C6A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122817-4501-471C-8144-AEC83E4A5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288110-8F29-4252-A87F-C910816CD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5FBA44-2B21-4975-8C7B-A500B4FD1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B6EE91-E568-449F-82FD-4FE709FEE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FC2325-39CC-43C3-9A97-A7BDA587C4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644EC2-6B7E-4D36-B948-1D532B04F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1C9EF7-116D-4AC8-8DD3-543538BF5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8B14BD-ED82-4DD1-8C3E-3C78D1ED1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A95F53-161C-4B44-9B63-625590499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086648-D063-4549-8D2C-ED7A1CAF2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0229A3-F254-417C-A36B-D86349717FB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8EC4AC-19A0-4498-AE47-9A72558659CC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72D3F2-15A7-4C47-A810-5B9BBAA33053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D5DDA8-C455-4E95-9C9A-4BB2268A74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F005BE-332E-48E9-A12A-8557026FD992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CDEB3C-B9BB-48F8-B68B-704BF4998F0C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9271A2-28D0-4148-8A08-A7D7975FA09D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018CCD-71A6-45E4-BD66-2217CF2530E8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9A5090-0684-4D3A-9E76-06F93B6A7CF3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F6BEDE-94E1-4F74-8118-DBFAF6A52DCA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3C2D59-A2B7-4651-8D9B-678E93D6FF36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7516CC-FE08-4619-882A-E2FBBE9A7330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8AE999-F07E-484D-8A29-7BBE7D530BCB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EB5116-C579-4759-8F18-894B8DEC23CF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95169-6A53-489E-8A37-1B9A7D3F1E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80995C-C79F-46F1-9108-44FFA022F81B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4BA2B-320D-494C-9C3F-A498193AB8E4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C543E-0901-466C-801D-996979537EBA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A594A-56AA-4A7F-97A6-09CBBC865A32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925CA-3204-4703-8051-80CB42E6E7F7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52C00-E8C0-4780-B675-5CA9D22277FB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2239A-CE29-4F7C-AA58-AE417B4A4736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C58AA-6A18-4F22-A5A4-56F701F74B6A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1F159-0F18-404B-A905-FD9EB5D0F96D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C386E-2CD7-47D8-BFF8-5E52DC5E7C85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495C3-2EB6-4A78-982E-E2C2D40106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F4EFB3-3F2E-46BB-9888-9E3882EB66C3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C1B27-CEFE-476B-A0A0-3FD49478A763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4D327B4-D968-407A-B2A1-90BDB4EA9AD4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20E44E7-C0D2-44A0-9DCB-5AAE9353FC00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334DA64-C698-4DE0-8CC8-D3A6E9FEE06D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4218E49-D4C3-461C-A2F0-3D5C59CD6DE9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EB33C98-4452-4DAE-8C9B-F3391EA988D0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5CC6432-6F3F-4E66-818D-7FF2EDE938EF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F16F585-498A-41BA-8427-2EFFF82997C3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2C2AFE7-5AF4-42CB-9653-A777A991C5EC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5447F29-9986-4C2F-92B6-02AE9D2B1A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35E736-13DE-4EEB-BD76-48B30C977958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2125D4C-0058-4E3D-96F7-1B801A12E66A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B8E5DCE-2E49-4371-B2BC-8D9DC93981FD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020D5ED-912F-4C71-A06A-76EF08C18C8C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08E130-82D8-4C10-91B3-7EBBEB92511A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7635E6D-146D-45DA-8843-0F615247DF0C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2A05398-A21B-4E0F-9D61-00FF3C1173F5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4A1DFAE-C070-4D8A-8956-DE46D33CF673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372E6CF-7E8C-475D-9A7C-8C76E33E5656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89FB76E-2061-4579-81D5-D743C1042E6E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35C3249-156F-4A57-A6E7-8DE1CA23F4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7EA0C9-2953-484F-B1F6-33B84AE109F5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77E5B99-8AB2-4BD2-B6A2-B53EF403EF2B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64A674-9DFB-473F-B6ED-7F40CF00A880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17D945F-20FA-4E82-A3C7-D5B0ECABFE8C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816D9F6-8C7C-4BD8-AB11-9E2924B0A4B8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5CDF650-8F3E-44A7-96C0-B71A9E7CDAC5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570880-D169-4C65-B8A7-B0847129886B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ECF481-13F9-4BE9-92A2-6AFE434798C7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99ADD3-8AAF-4C84-A3BA-F440C149208D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F21F15-C516-455A-9637-E3FE7417963B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5D9F41-EAA7-4DAD-82C6-8BC2D2A971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C080FA-3B21-446A-9D6E-B46154DC1FDA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6B1371-8AA0-45D4-A3BC-4DA9E324B90E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4682FE-DB4F-4DB0-B656-21071094AC54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4697A3-3CB0-483F-973C-01894AC1442E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95E0BC-B738-4EE3-A931-6B0F295199CC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7E8FBC-4F40-450C-82AA-AED98DF09047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E30B6F-E317-4F22-85F0-492F0A78607B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A150AD-411B-41C2-A390-C1D755AC1909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C957F8C-FE43-4BA5-B9F1-57F1E92622D4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68572DA-1DD3-4F18-92FD-A29F5EAA9AD2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F4EBE7D-07CE-49AE-BB5C-029898D0C4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5B6802B-D7CD-4926-B311-BEE49C613EA5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0D9DF5-4EBD-41CC-A5A9-09B9CE1EAE7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xsede-ppt-titl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Date Placeholder 3"/>
          <p:cNvSpPr/>
          <p:nvPr/>
        </p:nvSpPr>
        <p:spPr>
          <a:xfrm>
            <a:off x="6705720" y="3510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E2CE44-B64E-4820-B34F-E2FFE842E4B2}" type="datetime3">
              <a:rPr b="0" lang="en-US" sz="1500" spc="-1" strike="noStrike">
                <a:solidFill>
                  <a:srgbClr val="ffffff"/>
                </a:solidFill>
                <a:latin typeface="Verdana"/>
              </a:rPr>
              <a:t>July 28, 2026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8" descr="nsf-white-576x576.png"/>
          <p:cNvPicPr/>
          <p:nvPr/>
        </p:nvPicPr>
        <p:blipFill>
          <a:blip r:embed="rId4"/>
          <a:stretch/>
        </p:blipFill>
        <p:spPr>
          <a:xfrm>
            <a:off x="7772400" y="502920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5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D848E8A-A1E7-41FD-9FC2-AA8468BACBFA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Num" idx="6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BFA5E4-026A-4382-B404-4BC770985D0B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sldNum" idx="7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F491AFC-7EBE-48D3-AFEA-70763DD62750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8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C3F4C2-A4F9-4700-88F8-5167B41B1252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sldNum" idx="9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DE05AF1-50CE-404B-9D59-C8F420C946F1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sldNum" idx="10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1982421-7991-4122-B468-C639A844C21F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09120" y="2664000"/>
            <a:ext cx="8153640" cy="91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NS of Spatially Developing Turbulent Boundary Layer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609120" y="3657600"/>
            <a:ext cx="815364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PI: Antonino Ferrante, University of Washington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ECSS: Darren Adams, David Bock, NCSA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ay-traced, volume renderings using same colormap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ooking down chamber (left) and close-up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, wispy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15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520AB6-CB2C-4D0F-97EE-06152F0C8A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Picture 2" descr="C:\Home\NCSA\Ferrante\html\f17c1.jpg"/>
          <p:cNvPicPr/>
          <p:nvPr/>
        </p:nvPicPr>
        <p:blipFill>
          <a:blip r:embed="rId1"/>
          <a:stretch/>
        </p:blipFill>
        <p:spPr>
          <a:xfrm>
            <a:off x="1004760" y="3100320"/>
            <a:ext cx="3579840" cy="268452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4" descr="C:\Home\NCSA\Ferrante\html\t9a.jpg"/>
          <p:cNvPicPr/>
          <p:nvPr/>
        </p:nvPicPr>
        <p:blipFill>
          <a:blip r:embed="rId2"/>
          <a:stretch/>
        </p:blipFill>
        <p:spPr>
          <a:xfrm>
            <a:off x="468324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ing different visual representa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op-down view (left), three-quarter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dded data boundary grid for refer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97AD847-0DDB-4EE3-AFD8-1F83E136D1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Picture 2" descr="C:\Home\NCSA\Ferrante\html\f26c_2.jpg"/>
          <p:cNvPicPr/>
          <p:nvPr/>
        </p:nvPicPr>
        <p:blipFill>
          <a:blip r:embed="rId1"/>
          <a:stretch/>
        </p:blipFill>
        <p:spPr>
          <a:xfrm>
            <a:off x="1009800" y="309564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4" descr="C:\Home\NCSA\Ferrante\html\f26a.jpg"/>
          <p:cNvPicPr/>
          <p:nvPr/>
        </p:nvPicPr>
        <p:blipFill>
          <a:blip r:embed="rId2"/>
          <a:stretch/>
        </p:blipFill>
        <p:spPr>
          <a:xfrm>
            <a:off x="4697280" y="3090960"/>
            <a:ext cx="3584880" cy="268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5B104C7-E216-4C41-B5FD-9AE837E677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Picture 2" descr="C:\Home\NCSA\Ferrante\html\f27a.0001.jpg"/>
          <p:cNvPicPr/>
          <p:nvPr/>
        </p:nvPicPr>
        <p:blipFill>
          <a:blip r:embed="rId1"/>
          <a:stretch/>
        </p:blipFill>
        <p:spPr>
          <a:xfrm>
            <a:off x="102384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4" descr="C:\Home\NCSA\Ferrante\html\f27b.0001.jpg"/>
          <p:cNvPicPr/>
          <p:nvPr/>
        </p:nvPicPr>
        <p:blipFill>
          <a:blip r:embed="rId2"/>
          <a:stretch/>
        </p:blipFill>
        <p:spPr>
          <a:xfrm>
            <a:off x="4713120" y="3102120"/>
            <a:ext cx="358488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3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C0B3CF-07AD-43B6-8B48-D4DFE28D59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Picture 2" descr="C:\Home\NCSA\Ferrante\html\f27c.0001.jpg"/>
          <p:cNvPicPr/>
          <p:nvPr/>
        </p:nvPicPr>
        <p:blipFill>
          <a:blip r:embed="rId1"/>
          <a:stretch/>
        </p:blipFill>
        <p:spPr>
          <a:xfrm>
            <a:off x="103176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2" descr="C:\Home\NCSA\Ferrante\html\f27d.0001.jpg"/>
          <p:cNvPicPr/>
          <p:nvPr/>
        </p:nvPicPr>
        <p:blipFill>
          <a:blip r:embed="rId2"/>
          <a:stretch/>
        </p:blipFill>
        <p:spPr>
          <a:xfrm>
            <a:off x="471960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53352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gration of particle flow visualizing veloc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xample of previous particle flow using custom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C6F365F-E7D6-47D2-AB97-F9B7EDF70B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Picture 2" descr=""/>
          <p:cNvPicPr/>
          <p:nvPr/>
        </p:nvPicPr>
        <p:blipFill>
          <a:blip r:embed="rId1"/>
          <a:stretch/>
        </p:blipFill>
        <p:spPr>
          <a:xfrm>
            <a:off x="990720" y="2684520"/>
            <a:ext cx="3886200" cy="2914560"/>
          </a:xfrm>
          <a:prstGeom prst="rect">
            <a:avLst/>
          </a:prstGeom>
          <a:ln w="0">
            <a:noFill/>
          </a:ln>
        </p:spPr>
      </p:pic>
      <p:sp>
        <p:nvSpPr>
          <p:cNvPr id="441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Science Overview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4EF8300-0EF7-4837-AF0D-CD69F27A9D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72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mputational fluid flow at boundary layer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olution of 3D, unsteady Navier-Stokes (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Generate initial inflow conditions to D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elocity components must satisfy 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  <p:pic>
        <p:nvPicPr>
          <p:cNvPr id="381" name="Picture 2" descr="C:\Users\David\Desktop\1-s2.0-S0021999104000348-gr1.gif"/>
          <p:cNvPicPr/>
          <p:nvPr/>
        </p:nvPicPr>
        <p:blipFill>
          <a:blip r:embed="rId1"/>
          <a:stretch/>
        </p:blipFill>
        <p:spPr>
          <a:xfrm>
            <a:off x="1219320" y="2895480"/>
            <a:ext cx="4711680" cy="2833920"/>
          </a:xfrm>
          <a:prstGeom prst="rect">
            <a:avLst/>
          </a:prstGeom>
          <a:ln w="0">
            <a:noFill/>
          </a:ln>
        </p:spPr>
      </p:pic>
      <p:sp>
        <p:nvSpPr>
          <p:cNvPr id="382" name="Rectangle 5"/>
          <p:cNvSpPr/>
          <p:nvPr/>
        </p:nvSpPr>
        <p:spPr>
          <a:xfrm>
            <a:off x="1219320" y="572940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Reference: http://dx.doi.org/10.1016/j.jcp.2004.01.0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XSEDE projec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2B405BD-7F07-4466-959F-84DD900068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U hrs and TB on Kraken, Ranger, tape stora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ulation using largest Reynolds number ever report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hare generated DNS database with scientific commun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rform first DNS of fully-resolved droplet-laden turbul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CSS consultants: Darren Adams, David Bock (NCSA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ECSS goal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485FE7-1A03-4546-867D-7295DDBA18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tascale scaling and deployment on XSEDE resourc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igh-level HDF5 parallel IO library layer (H5D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5DNS provid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creation via petascale simulation run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analysi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implified I/O data conversion (e.g. visualization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isualization tests per simulation ru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roduction visualization imagery (e.g. journals, conference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57200" y="973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O library written in C on top of HDF5 library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ncapsulates HDF5 File structure and metadata particular to the DNS simulation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For simulation code, H5DNS provides: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Large data dumps of field variable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Restart capability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Particle IO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Metadata (run vars., input parameters etc.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B801AB-34A0-40FE-A88B-6F80645C0C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457200" y="993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nalysis and visualizatio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VisIt Reader (C++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Other direct HDF5 access (Matlab,TecPlot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wig interfaces ??? (Perl , Python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E428C1-E882-49FB-94FE-FFF368F8A5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533520" y="1676520"/>
            <a:ext cx="82296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Before H5DNS, data generation cumbersome, error-pron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equired editing and executing Fortran post-processor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ple H5DNS reader now used to read and extract data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nverted to format used by custom visualization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rested in scalar Lambda2 (vortices using velocity tensor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B4F5F9A-1E58-4856-9ADB-8CD84C9CDD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Data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s verifying data conversion using slice plan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ambda2 (left) and velocity magnitude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 structures in lambda2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1D36E54-DC93-4642-BA3C-96D0A3E952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nitial re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Picture 2" descr="C:\Home\NCSA\Ferrante\html\f16a.jpg"/>
          <p:cNvPicPr/>
          <p:nvPr/>
        </p:nvPicPr>
        <p:blipFill>
          <a:blip r:embed="rId1"/>
          <a:stretch/>
        </p:blipFill>
        <p:spPr>
          <a:xfrm>
            <a:off x="10018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4" descr="C:\Home\NCSA\Ferrante\html\f16e_4.jpg"/>
          <p:cNvPicPr/>
          <p:nvPr/>
        </p:nvPicPr>
        <p:blipFill>
          <a:blip r:embed="rId2"/>
          <a:stretch/>
        </p:blipFill>
        <p:spPr>
          <a:xfrm>
            <a:off x="43894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5" descr="C:\Users\David\Desktop\livingstone.jpg"/>
          <p:cNvPicPr/>
          <p:nvPr/>
        </p:nvPicPr>
        <p:blipFill>
          <a:blip r:embed="rId3"/>
          <a:stretch/>
        </p:blipFill>
        <p:spPr>
          <a:xfrm>
            <a:off x="1006560" y="5589720"/>
            <a:ext cx="2647800" cy="15372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5" descr="C:\Users\David\Desktop\livingstone.jpg"/>
          <p:cNvPicPr/>
          <p:nvPr/>
        </p:nvPicPr>
        <p:blipFill>
          <a:blip r:embed="rId4"/>
          <a:stretch/>
        </p:blipFill>
        <p:spPr>
          <a:xfrm>
            <a:off x="4390920" y="5587920"/>
            <a:ext cx="2648160" cy="1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ransfer function to isolate narrow Lambda2 ran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vident are very small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lormap with gaussian hue and alpha func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1DB351-FFA2-4EB7-BA58-04E3B9E817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solating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Picture 2" descr="C:\Home\NCSA\Ferrante\html\f17b1.jpg"/>
          <p:cNvPicPr/>
          <p:nvPr/>
        </p:nvPicPr>
        <p:blipFill>
          <a:blip r:embed="rId1"/>
          <a:stretch/>
        </p:blipFill>
        <p:spPr>
          <a:xfrm>
            <a:off x="1009800" y="3103560"/>
            <a:ext cx="3516120" cy="263844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4" descr="C:\Home\NCSA\Ferrante\html\f17b_cmap.jpg"/>
          <p:cNvPicPr/>
          <p:nvPr/>
        </p:nvPicPr>
        <p:blipFill>
          <a:blip r:embed="rId2"/>
          <a:stretch/>
        </p:blipFill>
        <p:spPr>
          <a:xfrm>
            <a:off x="4637160" y="4032360"/>
            <a:ext cx="3336840" cy="17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7T14:06:46Z</dcterms:created>
  <dc:creator>David Bock;Darren Adams</dc:creator>
  <dc:description/>
  <dc:language>en-US</dc:language>
  <cp:lastModifiedBy>David</cp:lastModifiedBy>
  <dcterms:modified xsi:type="dcterms:W3CDTF">2012-09-18T14:33:21Z</dcterms:modified>
  <cp:revision>132</cp:revision>
  <dc:subject/>
  <dc:title>Visualizing Large Eddy Simulations</dc:title>
</cp:coreProperties>
</file>