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png" ContentType="image/pn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dt" idx="1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0F33453-DC4F-4C61-88F7-09ACD03330C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ftr" idx="1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 type="sldNum" idx="1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564F205-DFB5-41EC-87AF-DC17ED8ABF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B0D0633-7189-4CF8-89EB-DDEEB0C5CE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8566C5-E37C-403C-9EB1-D7B430DF6AC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C4F2D90-4DCB-4B88-BF40-EBBDB53EEF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009004F-3AEE-416E-9482-B61806BF4B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53A68F-CF3B-44AA-BF48-74C8C0D0B4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42C058-47E1-46E7-96E8-38EB5295BB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8D64285-530A-40F3-B6A4-6D37FF829A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326F258-09E9-4CB7-ADED-4D6798F3FA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644F99-0432-41CF-9FDD-EA2263C75E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7906FB-6C4E-4EDD-8A4D-97A83342E4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B85B53-B195-4E9A-875A-B4F0DB90A5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03F234-19BD-4D6F-8B8A-047FBFF92823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79898A7-3C49-4476-8457-6B00AA39D347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8FB3FA8-E03C-4E73-83BA-A1C16878ECEB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813AF48-CDC5-4227-AC73-E48D9FFFBA53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AE3A1D7-E205-4ACF-93B0-36C43B409CD0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71D22C9-0E90-4508-ACA1-4D17CEDAA4AC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9C8BEDA-D821-4DB3-B4E6-EA41D12DDA07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C632AAE-3E21-4DB2-8B40-9C7907AA90CF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2C8A63C-1E42-4516-9130-FC5F4C93B904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1BF659D-0691-4450-B1EE-B7A5F48187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4CD8C9-4F1E-43DA-96F5-9A1B2F2DEC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801E31-5C29-401F-9A1A-CDFFD5F4F5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462EA7-41F5-48AE-B7D8-BA8A6497C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C41D47-68CC-4F5E-9744-612790A62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3E1F20-2380-4ABE-B546-6ABC33686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4260AC-89CD-4F48-AD7C-C68EE2416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0F438B-2F61-482C-851D-14350FD10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8E1CAA-0D89-4B3B-99F0-1AA3BBA24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26CBDE-A4D8-4337-BE37-C5DCC223F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3177C3-E781-4236-B25A-EF8A518BF0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8D3C18-2E4B-4B53-A6A0-261B9EA94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195C9B-DBB0-4668-AC24-2A46AA570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BB5C0A-8A94-4C3E-AA28-B38658C70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F2A086-16B2-4844-9EEB-33D1261C3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C542FA-C8A5-4AA1-AF47-E01554699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146F37-AF5B-4BEC-B686-BBACFA7227B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55EA48-1C38-460B-BC32-06821BA8CE45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0E4230-39C5-47AE-9FFF-52CF841C7554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8A6750-D6C0-49A5-901F-01A2CACC86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2E2139-DA16-4279-9D97-9441DD0A51E5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C51616-72E0-4F34-B2E3-9206871B0717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FA9658-5FF1-43DE-ABC9-CE8896D53764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B4A4B8-974D-4571-86CA-1A0B3E795F9F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BEDB85-DD5A-404B-8B7B-C276F3D7244C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5DD4AD-44F2-4D36-B4A7-EA7C839E431E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2E296B-D5DD-421E-858E-8B9995111DA0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826905-65D7-46D1-9605-A8D100D1AF01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0BCB07-FC49-4930-B09A-B7057F18591F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52529C-FA71-4EEC-B3CE-116A8E1C9549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53E4F-24A1-43B3-BE4A-FC47676B86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2207CC-E29E-40AA-BF75-15CF5D485888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8A154-3EE1-4DC2-9817-A9C1CBD857B5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620E2-24BA-4C09-8032-E2D8115580DF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DEA96-5EF5-489B-9C42-ECF0BD6E7286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C7C11-4B07-496B-8DF5-FFF11614D3EC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54BE0-E883-4F63-BECE-CE348579F6FC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39C9A-A874-48B6-806A-967A4858BF20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4A2DE-93B4-4D69-829C-42DD7C7F5EA5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AE474-6E3C-4EB5-BE24-B727D185F35D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FC7FE-23EC-43A3-AE31-38B13C326B17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CD511-82D2-4037-B9FA-F95A043D10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0B7DD-3429-495C-A0D5-C8E9D7543694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FB925-B6EF-41C8-A2A4-6B74E23EA741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0D7404A-210F-4F4C-AA99-EE12CB298F04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BDB199E-A592-4652-AABE-857A23830B0C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E57AEDF-E79B-4DB8-8290-39CCB6B6E326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80AA1EC-956C-489A-B498-A7914704FC25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719281C-73A9-4993-9ED2-3B14DAFDC017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DA7A43C-3A9A-4CC9-B2CE-0B2D2F7411B8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688B2C1-CAA8-4D9E-87F7-0E25E195FAFB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2D4052E-585C-44F2-90A0-6370564D8A89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762FF6B-ACA4-4C43-8D7A-8F8EC61140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17A2DC-5D3E-4008-B666-02D238B4EE3D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31DE477-B8F2-4345-B633-C4996DB23319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D08B38B-0CCE-4CF3-8F87-955E5FD4F39A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493AE9E-306B-441E-B3C4-232E774D3FDB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FE9278B-5D4F-4443-9987-CB5E1D67D80A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530672B-2A53-4FD6-8F68-4C95AD324D4A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C41A06D-C6A1-4B66-BD30-DAAFCA39E6C6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D091ED-E1A3-468B-8706-0D8A7DA6EB97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6C3F16-77FE-4265-B060-B67ED3D1B2CE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93A59CE-E7A6-4077-A134-8A39E76D90A3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A09C2F9-7D3F-4164-B931-73767862D3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75A4EC-F00B-415B-9EBF-A0F680B71E81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68C4DB-B6D2-4702-A9A6-9D8DDE9EAEAF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E691A9E-C19F-4494-9476-48435BB66D5A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15AF12A-3D82-4ED7-840C-BF0A9576A99D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12E4F03-AEC8-4486-8B31-662AD19FA4B4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259724C-624B-4146-94A2-0EAF93849C42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C3276D-6CB8-4B56-A653-3602C7AD8EC2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25629D-5732-470E-A0F9-D087D8F2400C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9797FF-9EC9-4B46-9F3C-2E1E2EA7806D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C122FA-8EE3-4C06-AC29-BC3D01C6BB30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5EE4C9-975A-4B5A-9BA2-796E05B461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DC3077-08DA-4165-B413-08AF035F576A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E35B7E-0D9D-43F1-8804-10E893A1A8D9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17A290-8AA8-4EC5-8EF6-4010BA73791F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6EF14C-CF2C-4D2B-979D-39985CA42E52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668B2C-07E4-4E0E-A755-7847B7E24A33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45A12D-34EB-4BEA-BF8C-1A83019D6B97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8C99D2-5CD3-4D4A-989C-A6F052834D3D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91B5DD-073F-4302-8B17-3A69F1A02B94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B906304-7FE0-4C91-9A1B-76E48908D40B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6A450D1-0D84-45B7-8193-06950AFE2D7D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CA52204-0FEE-454E-8B9C-0991EDC22D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0DEFAAA-B576-4F13-A510-E8090F66B536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74CE941-01C0-4312-90B0-36CDA48AEC5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xsede-ppt-titl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Date Placeholder 3"/>
          <p:cNvSpPr/>
          <p:nvPr/>
        </p:nvSpPr>
        <p:spPr>
          <a:xfrm>
            <a:off x="6705720" y="3510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9410FE6-C2D7-47F3-BF90-10FC34E97143}" type="datetime3">
              <a:rPr b="0" lang="en-US" sz="1500" spc="-1" strike="noStrike">
                <a:solidFill>
                  <a:srgbClr val="ffffff"/>
                </a:solidFill>
                <a:latin typeface="Verdana"/>
              </a:rPr>
              <a:t>July 28, 2026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8" descr="nsf-white-576x576.png"/>
          <p:cNvPicPr/>
          <p:nvPr/>
        </p:nvPicPr>
        <p:blipFill>
          <a:blip r:embed="rId4"/>
          <a:stretch/>
        </p:blipFill>
        <p:spPr>
          <a:xfrm>
            <a:off x="7772400" y="502920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5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5020BAA-6BE8-41F3-B673-753D89A7407D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Num" idx="6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1151F4-F963-4DD1-AF2B-929C3748E2A1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sldNum" idx="7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1FF0AE-A100-4B04-B23F-33F3F81C7E8C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8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227C25-6CB6-4A00-994D-EE5828B03B17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sldNum" idx="9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07044F3-9BA8-43C8-8952-91EA5481CED4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sldNum" idx="10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C419ADC-AF54-4D87-AC3A-C14DBD569684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09120" y="2664000"/>
            <a:ext cx="8153640" cy="91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NS of Spatially Developing Turbulent Boundary Layer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609120" y="3657600"/>
            <a:ext cx="815364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PI: Antonino Ferrante, University of Washington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ECSS: Darren Adams, David Bock, NCSA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ay-traced, volume renderings using same colormap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ooking down chamber (left) and close-up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, wispy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15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30A3112-C098-4B98-9201-7D54BB8A3A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Picture 2" descr="C:\Home\NCSA\Ferrante\html\f17c1.jpg"/>
          <p:cNvPicPr/>
          <p:nvPr/>
        </p:nvPicPr>
        <p:blipFill>
          <a:blip r:embed="rId1"/>
          <a:stretch/>
        </p:blipFill>
        <p:spPr>
          <a:xfrm>
            <a:off x="1004760" y="3100320"/>
            <a:ext cx="3579840" cy="268452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4" descr="C:\Home\NCSA\Ferrante\html\t9a.jpg"/>
          <p:cNvPicPr/>
          <p:nvPr/>
        </p:nvPicPr>
        <p:blipFill>
          <a:blip r:embed="rId2"/>
          <a:stretch/>
        </p:blipFill>
        <p:spPr>
          <a:xfrm>
            <a:off x="468324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ing different visual representa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op-down view (left), three-quarter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dded data boundary grid for refer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D88C79B-1284-43D9-8B10-A48631DDBF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Picture 2" descr="C:\Home\NCSA\Ferrante\html\f26c_2.jpg"/>
          <p:cNvPicPr/>
          <p:nvPr/>
        </p:nvPicPr>
        <p:blipFill>
          <a:blip r:embed="rId1"/>
          <a:stretch/>
        </p:blipFill>
        <p:spPr>
          <a:xfrm>
            <a:off x="1009800" y="309564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4" descr="C:\Home\NCSA\Ferrante\html\f26a.jpg"/>
          <p:cNvPicPr/>
          <p:nvPr/>
        </p:nvPicPr>
        <p:blipFill>
          <a:blip r:embed="rId2"/>
          <a:stretch/>
        </p:blipFill>
        <p:spPr>
          <a:xfrm>
            <a:off x="4697280" y="3090960"/>
            <a:ext cx="3584880" cy="268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351690-A993-4D4B-A53C-5FA383BEB5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Picture 2" descr="C:\Home\NCSA\Ferrante\html\f27a.0001.jpg"/>
          <p:cNvPicPr/>
          <p:nvPr/>
        </p:nvPicPr>
        <p:blipFill>
          <a:blip r:embed="rId1"/>
          <a:stretch/>
        </p:blipFill>
        <p:spPr>
          <a:xfrm>
            <a:off x="102384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4" descr="C:\Home\NCSA\Ferrante\html\f27b.0001.jpg"/>
          <p:cNvPicPr/>
          <p:nvPr/>
        </p:nvPicPr>
        <p:blipFill>
          <a:blip r:embed="rId2"/>
          <a:stretch/>
        </p:blipFill>
        <p:spPr>
          <a:xfrm>
            <a:off x="4713120" y="3102120"/>
            <a:ext cx="358488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3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F3513F-6E01-4304-97B5-18A95CD2A0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Picture 2" descr="C:\Home\NCSA\Ferrante\html\f27c.0001.jpg"/>
          <p:cNvPicPr/>
          <p:nvPr/>
        </p:nvPicPr>
        <p:blipFill>
          <a:blip r:embed="rId1"/>
          <a:stretch/>
        </p:blipFill>
        <p:spPr>
          <a:xfrm>
            <a:off x="103176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2" descr="C:\Home\NCSA\Ferrante\html\f27d.0001.jpg"/>
          <p:cNvPicPr/>
          <p:nvPr/>
        </p:nvPicPr>
        <p:blipFill>
          <a:blip r:embed="rId2"/>
          <a:stretch/>
        </p:blipFill>
        <p:spPr>
          <a:xfrm>
            <a:off x="471960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53352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gration of particle flow visualizing veloc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xample of previous particle flow using custom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1C03CC9-DEC5-46C7-9A14-8CC6D05370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Picture 2" descr=""/>
          <p:cNvPicPr/>
          <p:nvPr/>
        </p:nvPicPr>
        <p:blipFill>
          <a:blip r:embed="rId1"/>
          <a:stretch/>
        </p:blipFill>
        <p:spPr>
          <a:xfrm>
            <a:off x="990720" y="2684520"/>
            <a:ext cx="3886200" cy="2914560"/>
          </a:xfrm>
          <a:prstGeom prst="rect">
            <a:avLst/>
          </a:prstGeom>
          <a:ln w="0">
            <a:noFill/>
          </a:ln>
        </p:spPr>
      </p:pic>
      <p:sp>
        <p:nvSpPr>
          <p:cNvPr id="441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Science Overview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059894-2172-4380-89F9-A4FEB6A3E6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72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mputational fluid flow at boundary layer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olution of 3D, unsteady Navier-Stokes (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Generate initial inflow conditions to D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elocity components must satisfy 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  <p:pic>
        <p:nvPicPr>
          <p:cNvPr id="381" name="Picture 2" descr="C:\Users\David\Desktop\1-s2.0-S0021999104000348-gr1.gif"/>
          <p:cNvPicPr/>
          <p:nvPr/>
        </p:nvPicPr>
        <p:blipFill>
          <a:blip r:embed="rId1"/>
          <a:stretch/>
        </p:blipFill>
        <p:spPr>
          <a:xfrm>
            <a:off x="1219320" y="2895480"/>
            <a:ext cx="4711680" cy="2833920"/>
          </a:xfrm>
          <a:prstGeom prst="rect">
            <a:avLst/>
          </a:prstGeom>
          <a:ln w="0">
            <a:noFill/>
          </a:ln>
        </p:spPr>
      </p:pic>
      <p:sp>
        <p:nvSpPr>
          <p:cNvPr id="382" name="Rectangle 5"/>
          <p:cNvSpPr/>
          <p:nvPr/>
        </p:nvSpPr>
        <p:spPr>
          <a:xfrm>
            <a:off x="1219320" y="572940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Reference: http://dx.doi.org/10.1016/j.jcp.2004.01.0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XSEDE projec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1A5E000-072A-42A1-8B43-0FEFCBEEB2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U hrs and TB on Kraken, Ranger, tape stora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ulation using largest Reynolds number ever report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hare generated DNS database with scientific commun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rform first DNS of fully-resolved droplet-laden turbul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CSS consultants: Darren Adams, David Bock (NCSA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ECSS goal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C02B068-6C4A-4976-9059-A2B6B567BD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tascale scaling and deployment on XSEDE resourc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igh-level HDF5 parallel IO library layer (H5D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5DNS provid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creation via petascale simulation run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analysi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implified I/O data conversion (e.g. visualization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isualization tests per simulation ru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roduction visualization imagery (e.g. journals, conference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57200" y="973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O library written in C on top of HDF5 library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ncapsulates HDF5 File structure and metadata particular to the DNS simulation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For simulation code, H5DNS provides: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Large data dumps of field variable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Restart capability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Particle IO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Metadata (run vars., input parameters etc.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8BD8BD0-CD9C-492E-8DF2-3DCE45D77F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457200" y="993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nalysis and visualizatio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VisIt Reader (C++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Other direct HDF5 access (Matlab,TecPlot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wig interfaces ??? (Perl , Python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58CC4B-1786-4D23-A7C0-4DD33FDAA3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533520" y="1676520"/>
            <a:ext cx="82296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Before H5DNS, data generation cumbersome, error-pron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equired editing and executing Fortran post-processor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ple H5DNS reader now used to read and extract data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nverted to format used by custom visualization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rested in scalar Lambda2 (vortices using velocity tensor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C801AE-3BBA-46E2-88BB-6EF3C2E280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Data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s verifying data conversion using slice plan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ambda2 (left) and velocity magnitude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 structures in lambda2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0DBEFB-AD11-4800-BF89-92C15A2C65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nitial re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Picture 2" descr="C:\Home\NCSA\Ferrante\html\f16a.jpg"/>
          <p:cNvPicPr/>
          <p:nvPr/>
        </p:nvPicPr>
        <p:blipFill>
          <a:blip r:embed="rId1"/>
          <a:stretch/>
        </p:blipFill>
        <p:spPr>
          <a:xfrm>
            <a:off x="10018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4" descr="C:\Home\NCSA\Ferrante\html\f16e_4.jpg"/>
          <p:cNvPicPr/>
          <p:nvPr/>
        </p:nvPicPr>
        <p:blipFill>
          <a:blip r:embed="rId2"/>
          <a:stretch/>
        </p:blipFill>
        <p:spPr>
          <a:xfrm>
            <a:off x="43894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5" descr="C:\Users\David\Desktop\livingstone.jpg"/>
          <p:cNvPicPr/>
          <p:nvPr/>
        </p:nvPicPr>
        <p:blipFill>
          <a:blip r:embed="rId3"/>
          <a:stretch/>
        </p:blipFill>
        <p:spPr>
          <a:xfrm>
            <a:off x="1006560" y="5589720"/>
            <a:ext cx="2647800" cy="15372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5" descr="C:\Users\David\Desktop\livingstone.jpg"/>
          <p:cNvPicPr/>
          <p:nvPr/>
        </p:nvPicPr>
        <p:blipFill>
          <a:blip r:embed="rId4"/>
          <a:stretch/>
        </p:blipFill>
        <p:spPr>
          <a:xfrm>
            <a:off x="4390920" y="5587920"/>
            <a:ext cx="2648160" cy="1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ransfer function to isolate narrow Lambda2 ran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vident are very small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lormap with gaussian hue and alpha func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4B0FAAA-7FD0-4B60-9D01-39FB8F38DA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solating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Picture 2" descr="C:\Home\NCSA\Ferrante\html\f17b1.jpg"/>
          <p:cNvPicPr/>
          <p:nvPr/>
        </p:nvPicPr>
        <p:blipFill>
          <a:blip r:embed="rId1"/>
          <a:stretch/>
        </p:blipFill>
        <p:spPr>
          <a:xfrm>
            <a:off x="1009800" y="3103560"/>
            <a:ext cx="3516120" cy="263844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4" descr="C:\Home\NCSA\Ferrante\html\f17b_cmap.jpg"/>
          <p:cNvPicPr/>
          <p:nvPr/>
        </p:nvPicPr>
        <p:blipFill>
          <a:blip r:embed="rId2"/>
          <a:stretch/>
        </p:blipFill>
        <p:spPr>
          <a:xfrm>
            <a:off x="4637160" y="4032360"/>
            <a:ext cx="3336840" cy="17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7T14:06:46Z</dcterms:created>
  <dc:creator>David Bock;Darren Adams</dc:creator>
  <dc:description/>
  <dc:language>en-US</dc:language>
  <cp:lastModifiedBy>David</cp:lastModifiedBy>
  <dcterms:modified xsi:type="dcterms:W3CDTF">2012-09-18T14:33:21Z</dcterms:modified>
  <cp:revision>132</cp:revision>
  <dc:subject/>
  <dc:title>Visualizing Large Eddy Simulations</dc:title>
</cp:coreProperties>
</file>