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png" ContentType="image/pn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dt" idx="1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86CC6E-4A2C-4E2C-8743-EFDCCAE0A78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ftr" idx="1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 type="sldNum" idx="1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DE281C2-D46E-47B5-847C-0955A3CDF8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51C3F3-DC58-4FCD-8FFB-B14E852574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39C17A-6F75-408A-8E4E-5BC55D3584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AD06FC6-57A4-497B-A355-92EAC52718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DBFFE17-A135-4C50-B616-4C2DB9B17B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14598F-6B8E-476E-A314-28684130A9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D8EFFB9-D1DC-4EE4-8631-78E766308C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D5FF32-E6A2-4DDB-AA23-5C62F94733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0542CB-06FD-4AEE-92B3-43328E1F63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5F7A79-BD86-441B-A648-E61C63210D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FBE91C-BAE0-482F-8CBD-A8A17819A9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0EAE81-F169-4090-9370-93E68D2E66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FBF43F-1CFF-4883-AC68-AB17884AC8DD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02CAB89-7F07-46EE-8EE8-033457A8E55E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D9D10A6-059A-425E-9CEE-02F851A6AA74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8813146-52A3-4245-A0D7-2CF6A85AF490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B10ED2B-B04B-4FC0-ABC2-F8ED527698D1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903935D-9864-4081-9735-CF83119BD04A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EC8AFB6-65C8-4E5D-ACFC-F11F32CA60F8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3956DCB-F10A-45B2-806D-31C5485C5E4B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952F097-F637-43A1-83D0-C17F7E30DFBD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C9C5699-CD5C-426D-9A6E-408C9DDDBF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645CBB-EEDA-40D0-B59D-CE66082063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CBC92E-961F-4D1B-833A-D459F430D6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253F39-0369-44AF-BF44-90FC2642F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C139E8-7B12-412B-A738-0FA93F4A7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8B3C4A-212C-4ACF-A232-4A615CECC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894989-7F38-4292-A973-9F9593DC7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56D929-4745-4863-B0E9-CF321224E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B8B708-162C-4D7D-BC13-B33A2F22A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0D8BE1-8A1E-4F43-9DB7-A52BE9AF3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BF6F74-751D-4369-9E8F-FE474E511E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C433F1-B3AA-4BA2-8831-94CC96C81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2F826E-FEB5-4B73-B566-480BC6F95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E7C146-612A-470E-BED2-4BC329037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430B2F-7B25-4514-A403-E602C7A57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EC2824-7163-4669-A5FD-0D24A3161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70DA96-2995-4B6C-89D0-3CCCF7CD58F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70A353-F0D3-45BC-AA53-394FFEF01641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1EC989-005A-457E-847B-2C088DA92F99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990692-E10E-4930-B124-032E428034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180F56-749F-4790-BEA8-DA670D878325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C2C1E8-A656-41A7-8720-EADFD26EE8BC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E3F03B-6041-4FCF-9D50-2A91DE371D2A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8B69B9-428A-4CA4-87F4-7BA6084AD760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64EB6E-B95C-4910-8D88-EBB2235947E5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E5AF39-DAB5-434A-9489-F7190DA36D26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ED8362-2D7E-4C77-B713-0214716C91E1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C380AA-8B84-4198-A672-45B841CD86DE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932433-50CC-46B8-B92C-D064F1862BB4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A1EA57-B5C5-407A-A456-0CC9BA109092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3FB25-02F2-41B1-98CE-0494E54B71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EF39DD-CAAC-4E85-9561-083E77B44911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15FC1-249C-4AA0-8F0B-4A26DDEC67F2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2C458-B250-444A-89C5-57BB6FDBAC72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98D00-1AEE-4400-8F00-0D20470431B3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B63BA-4742-418D-A362-5F13C4CD7135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93811-E57F-4238-8BA5-0B63306D453B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4FD75-8E5D-4580-90C5-E1E7F06DA59D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8D022-6A8F-4302-88AE-F8F682C1F421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8FAFB-2719-481B-9698-D78E1D8E4F48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FAE82-3B47-435C-9042-CAFAB8CE8039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32323-3868-49FA-981C-54205D9E6A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893352-B453-454F-859F-049187277E50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94A4B-2A00-4553-8BFF-BDB80848587B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8958817-19A8-426F-847F-76F28A2D47F9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3D37472-786C-4B50-AEFC-26DDB5F1DFDF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E39A394-0E05-4CBD-898A-341DF454FA0A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BDA5FB9-718C-46EF-B873-B981779832F4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AB071F8-9F81-4A18-ABAF-4A3CFD772633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B7EE80B-08AB-4DD0-A630-3367123447FB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009305E-3F5F-4D81-9692-D2EA1E02C1FD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69B5342-90BE-4C06-BBE4-59579026F07F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DE806D8-07C7-48AF-A9CC-E40E8DEF27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DAF41A-5EB2-47D1-8DCC-25627FA65123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3CD8124-6140-415E-B80D-58DC183368CB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688C67E-994A-4CF2-B7C1-4DAD24EB6C91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82DF941-2870-40E9-8A16-8E2192A4294A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969743B-BCC7-45A8-98F3-9DB76F32B7E3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EB049FC-0374-4FFD-82F6-94D9922B6203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B836B7D-6E1B-41E7-90EB-7A6394C2E747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8548ED8-0035-4B28-804F-5F797A306D5A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BAE02B3-E0C7-41F8-9F01-7591FC2F12D3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5623D3C-F9F7-454C-9F25-1E4E3881B792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ADD6B9E-E703-4617-9007-7F47C896A6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4A8D5D-5470-4211-881B-66F7EC3D62C0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F586182-38E0-42A7-8596-BFB2F4FC50FF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575A921-1625-48C1-8BC6-3CA636BA14FC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3E38AE8-4461-4C72-93DF-7A6BD62A5964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C01025C-FAA8-4558-A550-B0BF5C6981DF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EAB70F1-0910-4C2C-9759-6275152C156D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F54CDF-BA67-49F1-8D75-7D12E9532F23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FF58FD-7061-45AF-B84E-5C65CAE218F7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1D407D-E360-48BE-A1E7-E4703B7DD258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196048-8543-4B81-8866-65A5C03903C4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451AC5-7E2F-4BEC-BAAD-27E2D76898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1DE958-EC4C-4562-B9EF-AF9312120E56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307FB9-7727-4FFE-9EBE-1DEE0F3E2660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E1A8DC-0006-49D9-B54A-FFE7D2A6519C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C96527-42DB-471D-BA15-7C12B4425FF9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A270C9-16BD-4F10-8D38-32AB8751E0E2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78551C-F611-46F1-A7E0-02326A6B9E92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DF1DE8-D418-4206-85D5-4DFF00B37B3C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344480-ACC5-4431-B7AE-78D3EF308354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38439B4-04F3-49FF-AB04-82DCA94F5EB5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D0CF83C-87C1-4CA9-9B8D-C0637B25AD4E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C8AC38A-D78F-4784-B54D-060A37200D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233303C-1F8B-4860-A0DC-346F31E70744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892206-0999-4513-89BA-FD9974F97C3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xsede-ppt-titl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Date Placeholder 3"/>
          <p:cNvSpPr/>
          <p:nvPr/>
        </p:nvSpPr>
        <p:spPr>
          <a:xfrm>
            <a:off x="6705720" y="3510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77DED4C-234E-46DC-8AAF-4948D64EB3BF}" type="datetime3">
              <a:rPr b="0" lang="en-US" sz="1500" spc="-1" strike="noStrike">
                <a:solidFill>
                  <a:srgbClr val="ffffff"/>
                </a:solidFill>
                <a:latin typeface="Verdana"/>
              </a:rPr>
              <a:t>July 30, 2026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8" descr="nsf-white-576x576.png"/>
          <p:cNvPicPr/>
          <p:nvPr/>
        </p:nvPicPr>
        <p:blipFill>
          <a:blip r:embed="rId4"/>
          <a:stretch/>
        </p:blipFill>
        <p:spPr>
          <a:xfrm>
            <a:off x="7772400" y="502920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5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C7AD16F-0F72-4E69-BDAF-542AF0998CCC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Num" idx="6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663F59-F7A7-445A-9507-AF6855E962B8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sldNum" idx="7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DC7EBA-E04E-4ACE-B6FF-6489D300C493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8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C1B2B7-D615-4E4A-A12D-004FA61E37B8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sldNum" idx="9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F45FF8-18C5-48DE-A3E0-6E2D3F56E278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sldNum" idx="10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ACAFD2-1E1F-4182-8F7F-A9FC00530889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09120" y="2664000"/>
            <a:ext cx="8153640" cy="91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NS of Spatially Developing Turbulent Boundary Layer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609120" y="3657600"/>
            <a:ext cx="815364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PI: Antonino Ferrante, University of Washington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ECSS: Darren Adams, David Bock, NCSA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ay-traced, volume renderings using same colormap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ooking down chamber (left) and close-up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, wispy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15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7BCC051-ABEB-4ED0-B2CB-8B758C1D12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Picture 2" descr="C:\Home\NCSA\Ferrante\html\f17c1.jpg"/>
          <p:cNvPicPr/>
          <p:nvPr/>
        </p:nvPicPr>
        <p:blipFill>
          <a:blip r:embed="rId1"/>
          <a:stretch/>
        </p:blipFill>
        <p:spPr>
          <a:xfrm>
            <a:off x="1004760" y="3100320"/>
            <a:ext cx="3579840" cy="268452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4" descr="C:\Home\NCSA\Ferrante\html\t9a.jpg"/>
          <p:cNvPicPr/>
          <p:nvPr/>
        </p:nvPicPr>
        <p:blipFill>
          <a:blip r:embed="rId2"/>
          <a:stretch/>
        </p:blipFill>
        <p:spPr>
          <a:xfrm>
            <a:off x="468324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ing different visual representa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op-down view (left), three-quarter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dded data boundary grid for refer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701AAED-E9D5-4DE9-860C-7E9D3ABAC5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Picture 2" descr="C:\Home\NCSA\Ferrante\html\f26c_2.jpg"/>
          <p:cNvPicPr/>
          <p:nvPr/>
        </p:nvPicPr>
        <p:blipFill>
          <a:blip r:embed="rId1"/>
          <a:stretch/>
        </p:blipFill>
        <p:spPr>
          <a:xfrm>
            <a:off x="1009800" y="309564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4" descr="C:\Home\NCSA\Ferrante\html\f26a.jpg"/>
          <p:cNvPicPr/>
          <p:nvPr/>
        </p:nvPicPr>
        <p:blipFill>
          <a:blip r:embed="rId2"/>
          <a:stretch/>
        </p:blipFill>
        <p:spPr>
          <a:xfrm>
            <a:off x="4697280" y="3090960"/>
            <a:ext cx="3584880" cy="268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9D4D1DB-4A3F-43E8-A76D-A03AD8F66D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Picture 2" descr="C:\Home\NCSA\Ferrante\html\f27a.0001.jpg"/>
          <p:cNvPicPr/>
          <p:nvPr/>
        </p:nvPicPr>
        <p:blipFill>
          <a:blip r:embed="rId1"/>
          <a:stretch/>
        </p:blipFill>
        <p:spPr>
          <a:xfrm>
            <a:off x="102384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4" descr="C:\Home\NCSA\Ferrante\html\f27b.0001.jpg"/>
          <p:cNvPicPr/>
          <p:nvPr/>
        </p:nvPicPr>
        <p:blipFill>
          <a:blip r:embed="rId2"/>
          <a:stretch/>
        </p:blipFill>
        <p:spPr>
          <a:xfrm>
            <a:off x="4713120" y="3102120"/>
            <a:ext cx="358488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3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78D902-DDAE-417C-A61D-B837FDCC0D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Picture 2" descr="C:\Home\NCSA\Ferrante\html\f27c.0001.jpg"/>
          <p:cNvPicPr/>
          <p:nvPr/>
        </p:nvPicPr>
        <p:blipFill>
          <a:blip r:embed="rId1"/>
          <a:stretch/>
        </p:blipFill>
        <p:spPr>
          <a:xfrm>
            <a:off x="103176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2" descr="C:\Home\NCSA\Ferrante\html\f27d.0001.jpg"/>
          <p:cNvPicPr/>
          <p:nvPr/>
        </p:nvPicPr>
        <p:blipFill>
          <a:blip r:embed="rId2"/>
          <a:stretch/>
        </p:blipFill>
        <p:spPr>
          <a:xfrm>
            <a:off x="471960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53352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gration of particle flow visualizing veloc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xample of previous particle flow using custom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15DF1C-CC31-492B-ACE7-2C29387C50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Picture 2" descr=""/>
          <p:cNvPicPr/>
          <p:nvPr/>
        </p:nvPicPr>
        <p:blipFill>
          <a:blip r:embed="rId1"/>
          <a:stretch/>
        </p:blipFill>
        <p:spPr>
          <a:xfrm>
            <a:off x="990720" y="2684520"/>
            <a:ext cx="3886200" cy="2914560"/>
          </a:xfrm>
          <a:prstGeom prst="rect">
            <a:avLst/>
          </a:prstGeom>
          <a:ln w="0">
            <a:noFill/>
          </a:ln>
        </p:spPr>
      </p:pic>
      <p:sp>
        <p:nvSpPr>
          <p:cNvPr id="441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Science Overview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774CCE-10E0-475D-9A79-3A425BDE3D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72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mputational fluid flow at boundary layer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olution of 3D, unsteady Navier-Stokes (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Generate initial inflow conditions to D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elocity components must satisfy 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  <p:pic>
        <p:nvPicPr>
          <p:cNvPr id="381" name="Picture 2" descr="C:\Users\David\Desktop\1-s2.0-S0021999104000348-gr1.gif"/>
          <p:cNvPicPr/>
          <p:nvPr/>
        </p:nvPicPr>
        <p:blipFill>
          <a:blip r:embed="rId1"/>
          <a:stretch/>
        </p:blipFill>
        <p:spPr>
          <a:xfrm>
            <a:off x="1219320" y="2895480"/>
            <a:ext cx="4711680" cy="2833920"/>
          </a:xfrm>
          <a:prstGeom prst="rect">
            <a:avLst/>
          </a:prstGeom>
          <a:ln w="0">
            <a:noFill/>
          </a:ln>
        </p:spPr>
      </p:pic>
      <p:sp>
        <p:nvSpPr>
          <p:cNvPr id="382" name="Rectangle 5"/>
          <p:cNvSpPr/>
          <p:nvPr/>
        </p:nvSpPr>
        <p:spPr>
          <a:xfrm>
            <a:off x="1219320" y="572940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Reference: http://dx.doi.org/10.1016/j.jcp.2004.01.0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XSEDE projec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93FB12-10E9-4887-8F89-07D1B6DF64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U hrs and TB on Kraken, Ranger, tape stora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ulation using largest Reynolds number ever report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hare generated DNS database with scientific commun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rform first DNS of fully-resolved droplet-laden turbul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CSS consultants: Darren Adams, David Bock (NCSA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ECSS goal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506235-D21E-4A1A-865D-4A9BB162C6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tascale scaling and deployment on XSEDE resourc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igh-level HDF5 parallel IO library layer (H5D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5DNS provid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creation via petascale simulation run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analysi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implified I/O data conversion (e.g. visualization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isualization tests per simulation ru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roduction visualization imagery (e.g. journals, conference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57200" y="973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O library written in C on top of HDF5 library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ncapsulates HDF5 File structure and metadata particular to the DNS simulation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For simulation code, H5DNS provides: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Large data dumps of field variable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Restart capability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Particle IO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Metadata (run vars., input parameters etc.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EB0BF84-91B7-43AD-B11C-EA28E2028B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457200" y="993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nalysis and visualizatio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VisIt Reader (C++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Other direct HDF5 access (Matlab,TecPlot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wig interfaces ??? (Perl , Python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D9CF4CE-7AF2-45F7-9B43-F9DEEB0D82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533520" y="1676520"/>
            <a:ext cx="82296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Before H5DNS, data generation cumbersome, error-pron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equired editing and executing Fortran post-processor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ple H5DNS reader now used to read and extract data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nverted to format used by custom visualization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rested in scalar Lambda2 (vortices using velocity tensor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1FA3973-7E2B-42C4-B3D6-D72C4F4F52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Data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s verifying data conversion using slice plan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ambda2 (left) and velocity magnitude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 structures in lambda2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47FD08F-5C58-4E57-9E5B-AD9EC0AF79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nitial re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Picture 2" descr="C:\Home\NCSA\Ferrante\html\f16a.jpg"/>
          <p:cNvPicPr/>
          <p:nvPr/>
        </p:nvPicPr>
        <p:blipFill>
          <a:blip r:embed="rId1"/>
          <a:stretch/>
        </p:blipFill>
        <p:spPr>
          <a:xfrm>
            <a:off x="10018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4" descr="C:\Home\NCSA\Ferrante\html\f16e_4.jpg"/>
          <p:cNvPicPr/>
          <p:nvPr/>
        </p:nvPicPr>
        <p:blipFill>
          <a:blip r:embed="rId2"/>
          <a:stretch/>
        </p:blipFill>
        <p:spPr>
          <a:xfrm>
            <a:off x="43894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5" descr="C:\Users\David\Desktop\livingstone.jpg"/>
          <p:cNvPicPr/>
          <p:nvPr/>
        </p:nvPicPr>
        <p:blipFill>
          <a:blip r:embed="rId3"/>
          <a:stretch/>
        </p:blipFill>
        <p:spPr>
          <a:xfrm>
            <a:off x="1006560" y="5589720"/>
            <a:ext cx="2647800" cy="15372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5" descr="C:\Users\David\Desktop\livingstone.jpg"/>
          <p:cNvPicPr/>
          <p:nvPr/>
        </p:nvPicPr>
        <p:blipFill>
          <a:blip r:embed="rId4"/>
          <a:stretch/>
        </p:blipFill>
        <p:spPr>
          <a:xfrm>
            <a:off x="4390920" y="5587920"/>
            <a:ext cx="2648160" cy="1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ransfer function to isolate narrow Lambda2 ran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vident are very small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lormap with gaussian hue and alpha func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DA65798-96A0-480B-9983-CB757053D5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solating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Picture 2" descr="C:\Home\NCSA\Ferrante\html\f17b1.jpg"/>
          <p:cNvPicPr/>
          <p:nvPr/>
        </p:nvPicPr>
        <p:blipFill>
          <a:blip r:embed="rId1"/>
          <a:stretch/>
        </p:blipFill>
        <p:spPr>
          <a:xfrm>
            <a:off x="1009800" y="3103560"/>
            <a:ext cx="3516120" cy="263844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4" descr="C:\Home\NCSA\Ferrante\html\f17b_cmap.jpg"/>
          <p:cNvPicPr/>
          <p:nvPr/>
        </p:nvPicPr>
        <p:blipFill>
          <a:blip r:embed="rId2"/>
          <a:stretch/>
        </p:blipFill>
        <p:spPr>
          <a:xfrm>
            <a:off x="4637160" y="4032360"/>
            <a:ext cx="3336840" cy="17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7T14:06:46Z</dcterms:created>
  <dc:creator>David Bock;Darren Adams</dc:creator>
  <dc:description/>
  <dc:language>en-US</dc:language>
  <cp:lastModifiedBy>David</cp:lastModifiedBy>
  <dcterms:modified xsi:type="dcterms:W3CDTF">2012-09-18T14:33:21Z</dcterms:modified>
  <cp:revision>132</cp:revision>
  <dc:subject/>
  <dc:title>Visualizing Large Eddy Simulations</dc:title>
</cp:coreProperties>
</file>