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png" ContentType="image/pn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dt" idx="1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B2B5D2-285D-4243-A37D-B1721DD758A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ftr" idx="1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 type="sldNum" idx="1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FA524F-9616-439B-BBC4-09B727B748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3DAE79-F2AF-4570-9782-D2116C6D98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BC8489-ED79-4980-8CDF-E3E8B7F664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BCFEAE3-5681-464F-8266-4940D2E395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4E4A98-7ABF-44FD-ACC2-7892827098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0486542-EA92-4039-8589-B60AA27D5F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64BE943-D564-4025-9134-B37388D7B8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60B10A-D668-4DBB-B16F-47A143EF19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49AB40-CE03-4511-BE21-3074F2AFA8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F0B86E1-5EA2-489A-8337-360BB2A41F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DFB3B0B-DBFF-4402-9C55-BCC9BD8AE9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3EAB91-27FA-4B84-94BD-FBEC7C8271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F4252E-10BB-4053-BE15-394F5B873971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8026513-B3A2-4A91-A51D-A812944D6028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398D2E3-0668-4BA6-9A4C-61354E22012D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E7FF1F4-244F-450E-AF40-4AD06CDF0F81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34E206C-D874-4C04-AD0C-AC6E1DB8B520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299C54F-DB8E-4391-8F6A-5F727FABA393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5B4769D-2742-4C1C-907B-6D132D3EEC47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B109B8A-90DD-4107-A532-9796F66A6382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F057474-69DB-4EF3-A0D1-D166E84AC417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C1AC835-F500-4C93-B5FE-A4A5CAC5D5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3CDA96-8C36-4A2A-8694-BF06831EA0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C2C581-03BD-4265-9E0C-22012C847F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864858-AB4B-4746-A8E4-DFE3E6E35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FE2B4B-1DA0-45AF-BB2F-C21DF5B16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1383E6-8CAA-4802-94C3-09A3AEAAD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7CD6E6-BCCD-41C1-BF37-F1E61747A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84D495-EF2A-473F-9A0F-4F0DFF1A4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3D4EE0-5F46-4A0C-8AB0-2CA2D7B73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B4F484-9898-499B-A503-DAC0E515C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4A01E0-C6D5-4093-98E1-3CD3CB062B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E20C8C-D47F-4524-B558-5F389597B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C23BB4-9E05-4586-8816-233466549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9BAD4D-960E-4910-9C45-AF366F7F9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3C607D-F8CC-42C0-BAA3-A7C2FEC5D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CC631B-D4E3-49D0-92D3-230502C8E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D3504F-FFB9-4D3C-9821-6D017A75468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C71C29-FD0D-4CEA-8785-B63C1EFDA964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12AE39-DEE0-424B-943D-2A6C985C8042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3EA5AD-83CA-475A-80BE-2F27E98601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1D52AC-82D2-4C5D-995C-7EB35BAE7413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5E34A5-6BDC-4521-9413-72AA2764E3EE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31CD2D-8C45-41D8-A5E6-EED004D4DDE5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41B760-A68B-4669-8FA8-6913F1511BDD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7B6D1D-7D54-4E45-8766-5F5BE314FB58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89527C-BDAF-433F-8130-1B2D1C8B309F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DABF52-94E8-4297-AAC9-C114346BAA8C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2A4E14-B0C7-420F-B397-535FF2F66A20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4CD198-81EF-4D10-A350-4CD75B6B4DAD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D3CEA6-D27B-42B3-9BF6-ECBFD26FF79B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19E14-2C18-4416-9EED-78D1FA2D96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314E61-2947-45E9-819D-25FA9502F40F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27850-F4F3-443F-A22D-434F03EA35D9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F4D53-31F4-4863-9280-74F1EBC06BB4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77AD0-9204-4738-8821-B59DAAFDB4B1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C8813-01C6-4A2F-B5D8-5E46D0031D7E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5B1E6-02B4-409E-B4E3-0F64CDBD6401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7BCE6-DBD8-46FB-AFDE-F23146F69C82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E29F5-6F89-4289-A607-34C64E71CF05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67B36-AA22-46A2-8880-3E918402EBFF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29DDA-9A5C-4B8F-9AAD-47511A561B75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FFE4E-6AEE-493E-B912-38C3B45E59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3E416B-9DCE-4059-B66B-49DA56F9A26B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A4027-6FF5-4943-AD36-D4D6ABC7FA83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E56063D-BB87-4312-8639-E9A625C560F8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CF21629-0497-431E-A513-6521EB3B0D54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BB555D2-7F06-4219-9B44-FF5302566F88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1E707A5-0392-43E3-B0F9-E595CC980FDA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BDD85E8-686F-448A-8D8F-350A33C69C96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6466F78-04CB-4499-A22D-6F447273978D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8E2DE36-83F6-405B-831A-196DB4FD1216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41659E5-68F1-40AC-B11F-0A7631974545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838949F-B9B0-4B46-AA31-16FB7CA945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51D889-B852-4AA4-8146-D840CB2824D4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6045C8E-0ED1-47E7-A962-8841E7F34E4A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D518566-7BAB-4C74-9031-B5C47A4BE21C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74DCF7B-7C26-4E5F-BD6E-57D7E8114F10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E0542B5-EE5D-4A16-930E-457406921D77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34E0063-D514-4B09-97B7-5E1DFBC6B5E8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3A95DF5-3AA6-475E-9458-087F6DD74CE8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CFC39EE-EB43-492A-AE52-12C04874466C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ECDDF4-6611-4432-B76C-6F7805FD1E9A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DC6406F-85DA-4248-B7EC-AD84AAAC7129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1D28353-AC8F-4903-A7CD-46D9A838B1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A01193-9DC3-4F51-959F-918405F9645C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5CEDE3C-8ACB-4123-8B5F-63E2E35FAC50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5F28D3F-BFBC-4743-AFEB-D0DF4D5E0261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800B60E-A051-4826-8466-000575C0965D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D25D798-1638-4DEA-85B5-51C2CFCBAEC2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B8D2A6C-D9D5-47D0-983F-DB2993C2DE2D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DB6038-824A-4F44-8034-DCCFD3A54244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9D1210-B55E-4DE7-8CFD-9B769B46847B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18C876-32AF-4577-BCA6-175760DF4C91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D9D317-5D79-4F7D-B6A9-B054F6D52DD4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EDCE72-A871-4DCD-8A6D-A5BE069DCE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23F31C-E89F-4B48-9298-731EBB093467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E371E8-BE85-4573-869D-F3BE9F21808C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8D4FBC-8B31-4F69-839D-57A02FC74C53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0D20D3-234F-4C33-B439-7270BFE58EAD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D48A21-C97E-4F65-A3DA-1A06E17195EB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8DC45F-2614-4ABA-B4D0-28594A0B2250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687091-4DF3-41C2-8527-119DBC60F569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8853DB-5BCA-4891-9A28-C9D04ADE5899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96B66A9-AA48-493A-B10E-A6A6013C224D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51A4A36-FE92-4B0D-833F-F5F0823261C0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C08FBB1-9F09-4D66-99C1-5C91CA2FA1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AD4FD8C-03C1-4E3E-8F7F-F2A523130DAD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C0D836-3DB8-45CE-A9F0-DC3CEB481AA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xsede-ppt-titl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Date Placeholder 3"/>
          <p:cNvSpPr/>
          <p:nvPr/>
        </p:nvSpPr>
        <p:spPr>
          <a:xfrm>
            <a:off x="6705720" y="3510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8A7E708-FE47-47E8-9027-2AFD284B6C8C}" type="datetime3">
              <a:rPr b="0" lang="en-US" sz="1500" spc="-1" strike="noStrike">
                <a:solidFill>
                  <a:srgbClr val="ffffff"/>
                </a:solidFill>
                <a:latin typeface="Verdana"/>
              </a:rPr>
              <a:t>July 28, 2026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8" descr="nsf-white-576x576.png"/>
          <p:cNvPicPr/>
          <p:nvPr/>
        </p:nvPicPr>
        <p:blipFill>
          <a:blip r:embed="rId4"/>
          <a:stretch/>
        </p:blipFill>
        <p:spPr>
          <a:xfrm>
            <a:off x="7772400" y="502920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5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9112513-3AC0-4D47-8B91-69FD8E7FC246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Num" idx="6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7C490C-E727-40D8-9456-D5BFFB055F0C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sldNum" idx="7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D029817-45ED-43C6-A2B7-7379E58D6FE7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8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3301A34-AB16-4709-B434-3E268D3EFDF0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sldNum" idx="9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14700F4-7377-4411-A613-94EE26E9FE76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sldNum" idx="10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DE72C1D-C571-4D5D-9AE7-8D9DCEFBD3A8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09120" y="2664000"/>
            <a:ext cx="8153640" cy="91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NS of Spatially Developing Turbulent Boundary Layer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609120" y="3657600"/>
            <a:ext cx="815364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PI: Antonino Ferrante, University of Washington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ECSS: Darren Adams, David Bock, NCSA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ay-traced, volume renderings using same colormap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ooking down chamber (left) and close-up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, wispy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15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ECD1B19-3A5E-4A2F-AC39-FBE1CDE301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Picture 2" descr="C:\Home\NCSA\Ferrante\html\f17c1.jpg"/>
          <p:cNvPicPr/>
          <p:nvPr/>
        </p:nvPicPr>
        <p:blipFill>
          <a:blip r:embed="rId1"/>
          <a:stretch/>
        </p:blipFill>
        <p:spPr>
          <a:xfrm>
            <a:off x="1004760" y="3100320"/>
            <a:ext cx="3579840" cy="268452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4" descr="C:\Home\NCSA\Ferrante\html\t9a.jpg"/>
          <p:cNvPicPr/>
          <p:nvPr/>
        </p:nvPicPr>
        <p:blipFill>
          <a:blip r:embed="rId2"/>
          <a:stretch/>
        </p:blipFill>
        <p:spPr>
          <a:xfrm>
            <a:off x="468324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ing different visual representa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op-down view (left), three-quarter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dded data boundary grid for refer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729A3F6-4BD3-49EC-B08A-2455363C95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Picture 2" descr="C:\Home\NCSA\Ferrante\html\f26c_2.jpg"/>
          <p:cNvPicPr/>
          <p:nvPr/>
        </p:nvPicPr>
        <p:blipFill>
          <a:blip r:embed="rId1"/>
          <a:stretch/>
        </p:blipFill>
        <p:spPr>
          <a:xfrm>
            <a:off x="1009800" y="309564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4" descr="C:\Home\NCSA\Ferrante\html\f26a.jpg"/>
          <p:cNvPicPr/>
          <p:nvPr/>
        </p:nvPicPr>
        <p:blipFill>
          <a:blip r:embed="rId2"/>
          <a:stretch/>
        </p:blipFill>
        <p:spPr>
          <a:xfrm>
            <a:off x="4697280" y="3090960"/>
            <a:ext cx="3584880" cy="268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478B7B6-F311-4D2E-BFB1-49AD3FA3A0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Picture 2" descr="C:\Home\NCSA\Ferrante\html\f27a.0001.jpg"/>
          <p:cNvPicPr/>
          <p:nvPr/>
        </p:nvPicPr>
        <p:blipFill>
          <a:blip r:embed="rId1"/>
          <a:stretch/>
        </p:blipFill>
        <p:spPr>
          <a:xfrm>
            <a:off x="102384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4" descr="C:\Home\NCSA\Ferrante\html\f27b.0001.jpg"/>
          <p:cNvPicPr/>
          <p:nvPr/>
        </p:nvPicPr>
        <p:blipFill>
          <a:blip r:embed="rId2"/>
          <a:stretch/>
        </p:blipFill>
        <p:spPr>
          <a:xfrm>
            <a:off x="4713120" y="3102120"/>
            <a:ext cx="358488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3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D7F88F-F92E-4CC7-B150-8745EE1856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Picture 2" descr="C:\Home\NCSA\Ferrante\html\f27c.0001.jpg"/>
          <p:cNvPicPr/>
          <p:nvPr/>
        </p:nvPicPr>
        <p:blipFill>
          <a:blip r:embed="rId1"/>
          <a:stretch/>
        </p:blipFill>
        <p:spPr>
          <a:xfrm>
            <a:off x="103176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2" descr="C:\Home\NCSA\Ferrante\html\f27d.0001.jpg"/>
          <p:cNvPicPr/>
          <p:nvPr/>
        </p:nvPicPr>
        <p:blipFill>
          <a:blip r:embed="rId2"/>
          <a:stretch/>
        </p:blipFill>
        <p:spPr>
          <a:xfrm>
            <a:off x="471960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53352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gration of particle flow visualizing veloc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xample of previous particle flow using custom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3CF1BF7-C839-4872-BD72-FC5978362D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Picture 2" descr=""/>
          <p:cNvPicPr/>
          <p:nvPr/>
        </p:nvPicPr>
        <p:blipFill>
          <a:blip r:embed="rId1"/>
          <a:stretch/>
        </p:blipFill>
        <p:spPr>
          <a:xfrm>
            <a:off x="990720" y="2684520"/>
            <a:ext cx="3886200" cy="2914560"/>
          </a:xfrm>
          <a:prstGeom prst="rect">
            <a:avLst/>
          </a:prstGeom>
          <a:ln w="0">
            <a:noFill/>
          </a:ln>
        </p:spPr>
      </p:pic>
      <p:sp>
        <p:nvSpPr>
          <p:cNvPr id="441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Science Overview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C5206D6-1CC3-4841-8005-CC41BA5238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72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mputational fluid flow at boundary layer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olution of 3D, unsteady Navier-Stokes (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Generate initial inflow conditions to D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elocity components must satisfy 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  <p:pic>
        <p:nvPicPr>
          <p:cNvPr id="381" name="Picture 2" descr="C:\Users\David\Desktop\1-s2.0-S0021999104000348-gr1.gif"/>
          <p:cNvPicPr/>
          <p:nvPr/>
        </p:nvPicPr>
        <p:blipFill>
          <a:blip r:embed="rId1"/>
          <a:stretch/>
        </p:blipFill>
        <p:spPr>
          <a:xfrm>
            <a:off x="1219320" y="2895480"/>
            <a:ext cx="4711680" cy="2833920"/>
          </a:xfrm>
          <a:prstGeom prst="rect">
            <a:avLst/>
          </a:prstGeom>
          <a:ln w="0">
            <a:noFill/>
          </a:ln>
        </p:spPr>
      </p:pic>
      <p:sp>
        <p:nvSpPr>
          <p:cNvPr id="382" name="Rectangle 5"/>
          <p:cNvSpPr/>
          <p:nvPr/>
        </p:nvSpPr>
        <p:spPr>
          <a:xfrm>
            <a:off x="1219320" y="572940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Reference: http://dx.doi.org/10.1016/j.jcp.2004.01.0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XSEDE projec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59496A-4568-4813-A5D4-FD61F04BBB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U hrs and TB on Kraken, Ranger, tape stora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ulation using largest Reynolds number ever report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hare generated DNS database with scientific commun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rform first DNS of fully-resolved droplet-laden turbul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CSS consultants: Darren Adams, David Bock (NCSA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ECSS goal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C91B9E-E586-4720-BC9C-9268E88854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tascale scaling and deployment on XSEDE resourc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igh-level HDF5 parallel IO library layer (H5D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5DNS provid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creation via petascale simulation run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analysi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implified I/O data conversion (e.g. visualization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isualization tests per simulation ru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roduction visualization imagery (e.g. journals, conference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57200" y="973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O library written in C on top of HDF5 library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ncapsulates HDF5 File structure and metadata particular to the DNS simulation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For simulation code, H5DNS provides: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Large data dumps of field variable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Restart capability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Particle IO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Metadata (run vars., input parameters etc.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DEB350-6EE5-4C9A-A0F8-0856C4D63C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457200" y="993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nalysis and visualizatio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VisIt Reader (C++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Other direct HDF5 access (Matlab,TecPlot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wig interfaces ??? (Perl , Python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93EB134-7233-4F7B-9231-5C6E91DD75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533520" y="1676520"/>
            <a:ext cx="82296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Before H5DNS, data generation cumbersome, error-pron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equired editing and executing Fortran post-processor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ple H5DNS reader now used to read and extract data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nverted to format used by custom visualization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rested in scalar Lambda2 (vortices using velocity tensor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8C4218-3AB3-454E-8526-1C054946CB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Data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s verifying data conversion using slice plan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ambda2 (left) and velocity magnitude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 structures in lambda2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772AC6C-4D57-49CE-BDEA-C046C015A8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nitial re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Picture 2" descr="C:\Home\NCSA\Ferrante\html\f16a.jpg"/>
          <p:cNvPicPr/>
          <p:nvPr/>
        </p:nvPicPr>
        <p:blipFill>
          <a:blip r:embed="rId1"/>
          <a:stretch/>
        </p:blipFill>
        <p:spPr>
          <a:xfrm>
            <a:off x="10018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4" descr="C:\Home\NCSA\Ferrante\html\f16e_4.jpg"/>
          <p:cNvPicPr/>
          <p:nvPr/>
        </p:nvPicPr>
        <p:blipFill>
          <a:blip r:embed="rId2"/>
          <a:stretch/>
        </p:blipFill>
        <p:spPr>
          <a:xfrm>
            <a:off x="43894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5" descr="C:\Users\David\Desktop\livingstone.jpg"/>
          <p:cNvPicPr/>
          <p:nvPr/>
        </p:nvPicPr>
        <p:blipFill>
          <a:blip r:embed="rId3"/>
          <a:stretch/>
        </p:blipFill>
        <p:spPr>
          <a:xfrm>
            <a:off x="1006560" y="5589720"/>
            <a:ext cx="2647800" cy="15372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5" descr="C:\Users\David\Desktop\livingstone.jpg"/>
          <p:cNvPicPr/>
          <p:nvPr/>
        </p:nvPicPr>
        <p:blipFill>
          <a:blip r:embed="rId4"/>
          <a:stretch/>
        </p:blipFill>
        <p:spPr>
          <a:xfrm>
            <a:off x="4390920" y="5587920"/>
            <a:ext cx="2648160" cy="1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ransfer function to isolate narrow Lambda2 ran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vident are very small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lormap with gaussian hue and alpha func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460D41-9403-4B1A-A06D-B44109D625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solating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Picture 2" descr="C:\Home\NCSA\Ferrante\html\f17b1.jpg"/>
          <p:cNvPicPr/>
          <p:nvPr/>
        </p:nvPicPr>
        <p:blipFill>
          <a:blip r:embed="rId1"/>
          <a:stretch/>
        </p:blipFill>
        <p:spPr>
          <a:xfrm>
            <a:off x="1009800" y="3103560"/>
            <a:ext cx="3516120" cy="263844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4" descr="C:\Home\NCSA\Ferrante\html\f17b_cmap.jpg"/>
          <p:cNvPicPr/>
          <p:nvPr/>
        </p:nvPicPr>
        <p:blipFill>
          <a:blip r:embed="rId2"/>
          <a:stretch/>
        </p:blipFill>
        <p:spPr>
          <a:xfrm>
            <a:off x="4637160" y="4032360"/>
            <a:ext cx="3336840" cy="17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7T14:06:46Z</dcterms:created>
  <dc:creator>David Bock;Darren Adams</dc:creator>
  <dc:description/>
  <dc:language>en-US</dc:language>
  <cp:lastModifiedBy>David</cp:lastModifiedBy>
  <dcterms:modified xsi:type="dcterms:W3CDTF">2012-09-18T14:33:21Z</dcterms:modified>
  <cp:revision>132</cp:revision>
  <dc:subject/>
  <dc:title>Visualizing Large Eddy Simulations</dc:title>
</cp:coreProperties>
</file>