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png" ContentType="image/pn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dt" idx="1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7A85A83-5DD1-4CF5-BBC8-B13EFC35970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ftr" idx="1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 type="sldNum" idx="1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6A87DF0-7D47-412C-81AC-9985546493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14BE2B4-E250-4687-9F15-F6AE2AA85E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40687FF-E2AF-4874-BDA6-38DDA2BFCA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1817650-BCFD-4627-B522-D78BFC368D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83F0E38-465A-4B76-9DFC-69054DD972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FE1463-6997-4ADD-805E-F293057C83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8B054A-CE8F-421A-BDCC-0D4186D85D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45AE672-580F-4D91-936D-927D832521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3C4B625-87E9-4BB5-9FBB-D61287424F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4A140F-8EB2-4464-8FD6-7564A49C8D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A7B618D-E888-45AF-B543-1404AF3CC3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B89EED-4CD1-4027-9FA6-B46D6D79CA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0C4057-C1E8-4754-A365-CDD3B5A7109E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39E8E99-052D-4790-894F-7FFAF756969B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3EA45C6-F15D-41BF-8DA0-9328AB86FADF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14180A9-454E-4A6D-9E75-14B7592E1D05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E8E13EC-18DA-4DEE-B59E-5012169D3FF2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923942C-6F6A-4D91-BAF0-69A8D990AC73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FFA601C-8E71-4CF2-A5BA-4E2B8CD6D863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1DCF723-58AA-4341-A404-442084045A8B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CA8010D-9992-4041-B9D5-94A422D98E91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48A827E-F217-4086-9781-847178078E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77EB4F-5BB8-493B-896E-6BE6EA3A9E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21A3A5-C036-43CB-B3DE-2E8B858DD27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69AC71-875E-45E2-ACAC-6C185B702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898B28-4C5D-41B9-88FE-261B82CCC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B43585-DF7B-4BF1-A9EB-BC17A0AFC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466CB2-E9B0-4F55-8FA0-B35389E69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F460BD-AB42-4E2C-85D9-9B86ABF27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D435CB-B21C-4176-A167-1AB47F183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F9C328-CC1D-434E-A0D7-3BDE0FF33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34FDAF-CD7E-4F5B-B1DC-BA7DDA3781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E64958-4866-4FCD-9402-6C3013ABB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A5EB01-E0AF-439D-877B-E5ACB38C3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C736AD-A442-4BA5-8600-1771CE5B3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F3BCDD-73B6-41FF-84F0-704E3B41A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081182-B052-4496-A093-82E020642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3221DB-4939-47FC-9EE6-EC8EEE07B8D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0B927F-D6D5-471E-B79A-1E43A8E86FC0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A0BCD4-AC57-4C41-B48C-E01BF25876E2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72EC53-F2A5-41D4-9F4A-86BF1020D4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8D397A-1A92-45C0-8CA5-052A30AC0CE6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B5EA74-9C57-4D6B-BE79-C3DDFF75B9EC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5FFE08-2151-4100-A4D1-781264711FA1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D67F52-17B0-473D-9AC2-1890E0D86CA8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993C43-4B02-4092-9581-D7E6E90B4BF5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C2F556-1695-47C9-8648-5BCA9ADF9317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52327A-33C4-4F6D-AD19-63CD50A90DEE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F4E8B7-B74B-4722-A913-80D0A033BEC3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9ABE91-02D5-4DF2-A197-81F08D2CDBAA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06396A-0B97-4F2E-8D4E-960ACD680326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534E9-1A5F-4BEC-A29C-8814BEEC2F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D25EA1-990E-437B-8D04-811648F30B47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A7B6B-F36A-4AE7-B343-479076C392DE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25919-C257-4063-9C8C-2C9158682854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13529-A73D-481B-AC5E-298629B75464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F17DF-5C50-48B7-906A-F269A94BEB6C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6915C-9E06-484E-903F-A638C0851635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74B0F-959B-4F07-B875-A1D7EB38D2DE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C0225-AD7C-4110-AA35-CB4BB76E4E37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07ECF-951A-4D8E-8C63-65767E46FC6F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26F79-1E29-413D-8429-C6539E06E379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A85D6-9842-4B63-8AB9-47ADD13B47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AB5CC9-4F75-4A75-89D7-0AC286E0706C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DB6AC-7639-4437-81F7-79DF25FA90DE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A166682-E81C-4CF4-B7D9-EB0DDB9A6A65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3B03E62-B24F-4814-832F-FB9971FF1386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85906D5-BB81-44A8-8D46-C96FD982C68E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7D9CA94-020D-42E8-B3DC-4DE3232E00CD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03880AE-FF23-40BC-8822-44C3358C49B4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0843B26-BADD-489D-BBB8-14CF8B458E1F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56A5274-ED07-4B8B-AD2F-A003B9C6C29F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2FCB0C7-924C-4030-9744-1CF88C05B775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F4FC0EF-C45E-440F-8F3F-A4229FBE11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87A248-E8E0-43D6-8CC0-C64EF3C4146B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25F5B95-63E6-454B-8F1E-319C06B1360F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1AF5F66-ACEB-4773-BC12-8BC2EEC13E6F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C2DD4D1-E417-4CE7-A9DA-E4543FEC10C2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2DE4AC-7594-4205-B139-EA9CDC2354FD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E9EACDE-F14B-4BE8-AB6D-DAC431E32BC8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7EFE38E-A061-4FC4-81EF-2F7B94E53EEA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4D68ED-8446-4A65-9279-990DCD991C26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2A950B-1893-453D-B0F7-36F4595DBA52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059D8C0-BADF-4DC7-892D-9E6066BD5971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B7082E6-BC2B-4F80-B9A1-7E2B7DF1AA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2F2440-FF8D-441B-A189-E8A316E59639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EBA1108-FB49-4A70-B2E3-397EEA382DEB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76E8FE-B050-4CFD-9670-6560075211A3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63C64BA-C390-431C-8816-26F000A51E43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B630DD0-2AFB-4D82-912F-1821F46BDD27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E8A3C46-E016-4A84-8119-EE63F19A659A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751609-AF45-4034-838B-B962ABC003F5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A12F2D-1545-4948-96B9-107B0A33AF21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B3A5BC-F8D6-473A-ABC8-F9215B631511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985EDF-0823-4FF6-9AA3-0F144B2DA368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0DC2CD-8F12-4C02-81A5-3F3E6749FC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18AD59-4E84-4CAA-8AFB-490A39AE4F09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574894-DA6D-464C-A968-DFC16A75757E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8C5E4B-446F-4B50-A4C5-E8BEF85D69F6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F8C616-6407-4CF9-B350-1AA6449A4590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B6BBAE-D5EA-4387-9607-8D3E523006DF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4162D9-42C4-4E46-9B26-E60C5D7F5FB0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BEF3F4-FAAA-422F-8856-59C86F9B5B06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97236E-324F-4EA0-91C4-36C5D12C31B3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6AD376B-B8C9-487F-8EFB-E24F0141F604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7DE0E8C-5FBF-4DFC-B597-534E30733DA2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F41CA8D-9F9F-4275-AD5C-8CD3B87CCA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9CCEF6-EE64-4847-A1F4-648B9CE963AD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A3D59D1-51CD-4C7F-9172-30649ADDC30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xsede-ppt-titl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Date Placeholder 3"/>
          <p:cNvSpPr/>
          <p:nvPr/>
        </p:nvSpPr>
        <p:spPr>
          <a:xfrm>
            <a:off x="6705720" y="3510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BC2A6E-04B5-4243-8E18-274101EB2B28}" type="datetime3">
              <a:rPr b="0" lang="en-US" sz="1500" spc="-1" strike="noStrike">
                <a:solidFill>
                  <a:srgbClr val="ffffff"/>
                </a:solidFill>
                <a:latin typeface="Verdana"/>
              </a:rPr>
              <a:t>July 30, 2026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8" descr="nsf-white-576x576.png"/>
          <p:cNvPicPr/>
          <p:nvPr/>
        </p:nvPicPr>
        <p:blipFill>
          <a:blip r:embed="rId4"/>
          <a:stretch/>
        </p:blipFill>
        <p:spPr>
          <a:xfrm>
            <a:off x="7772400" y="502920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5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DB9258-1690-4665-980C-C3FF5CE6F819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Num" idx="6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00E040-3B79-476D-B227-135F3A4966FD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sldNum" idx="7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DFD9B5-3872-4A95-A411-1CBE24FAB68D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8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177A5CB-6247-43C7-8A18-6236ADDB24B6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sldNum" idx="9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834EEBC-ED06-4456-AC71-C0B7263FC082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sldNum" idx="10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BF32C4B-6B34-40AF-B3BE-D5D723D730D9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09120" y="2664000"/>
            <a:ext cx="8153640" cy="91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NS of Spatially Developing Turbulent Boundary Layer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609120" y="3657600"/>
            <a:ext cx="815364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PI: Antonino Ferrante, University of Washington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ECSS: Darren Adams, David Bock, NCSA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ay-traced, volume renderings using same colormap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ooking down chamber (left) and close-up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, wispy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15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09E28D-CF60-4F02-8558-F887A921E5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Picture 2" descr="C:\Home\NCSA\Ferrante\html\f17c1.jpg"/>
          <p:cNvPicPr/>
          <p:nvPr/>
        </p:nvPicPr>
        <p:blipFill>
          <a:blip r:embed="rId1"/>
          <a:stretch/>
        </p:blipFill>
        <p:spPr>
          <a:xfrm>
            <a:off x="1004760" y="3100320"/>
            <a:ext cx="3579840" cy="268452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4" descr="C:\Home\NCSA\Ferrante\html\t9a.jpg"/>
          <p:cNvPicPr/>
          <p:nvPr/>
        </p:nvPicPr>
        <p:blipFill>
          <a:blip r:embed="rId2"/>
          <a:stretch/>
        </p:blipFill>
        <p:spPr>
          <a:xfrm>
            <a:off x="468324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ing different visual representa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op-down view (left), three-quarter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dded data boundary grid for refer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B5005F6-6A29-49D7-9FFA-83A11D8300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Picture 2" descr="C:\Home\NCSA\Ferrante\html\f26c_2.jpg"/>
          <p:cNvPicPr/>
          <p:nvPr/>
        </p:nvPicPr>
        <p:blipFill>
          <a:blip r:embed="rId1"/>
          <a:stretch/>
        </p:blipFill>
        <p:spPr>
          <a:xfrm>
            <a:off x="1009800" y="309564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4" descr="C:\Home\NCSA\Ferrante\html\f26a.jpg"/>
          <p:cNvPicPr/>
          <p:nvPr/>
        </p:nvPicPr>
        <p:blipFill>
          <a:blip r:embed="rId2"/>
          <a:stretch/>
        </p:blipFill>
        <p:spPr>
          <a:xfrm>
            <a:off x="4697280" y="3090960"/>
            <a:ext cx="3584880" cy="268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B26A4C1-FE87-41C0-9006-A535799881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Picture 2" descr="C:\Home\NCSA\Ferrante\html\f27a.0001.jpg"/>
          <p:cNvPicPr/>
          <p:nvPr/>
        </p:nvPicPr>
        <p:blipFill>
          <a:blip r:embed="rId1"/>
          <a:stretch/>
        </p:blipFill>
        <p:spPr>
          <a:xfrm>
            <a:off x="102384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4" descr="C:\Home\NCSA\Ferrante\html\f27b.0001.jpg"/>
          <p:cNvPicPr/>
          <p:nvPr/>
        </p:nvPicPr>
        <p:blipFill>
          <a:blip r:embed="rId2"/>
          <a:stretch/>
        </p:blipFill>
        <p:spPr>
          <a:xfrm>
            <a:off x="4713120" y="3102120"/>
            <a:ext cx="358488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3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DFA139-9865-4338-A2B0-D460316077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Picture 2" descr="C:\Home\NCSA\Ferrante\html\f27c.0001.jpg"/>
          <p:cNvPicPr/>
          <p:nvPr/>
        </p:nvPicPr>
        <p:blipFill>
          <a:blip r:embed="rId1"/>
          <a:stretch/>
        </p:blipFill>
        <p:spPr>
          <a:xfrm>
            <a:off x="103176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2" descr="C:\Home\NCSA\Ferrante\html\f27d.0001.jpg"/>
          <p:cNvPicPr/>
          <p:nvPr/>
        </p:nvPicPr>
        <p:blipFill>
          <a:blip r:embed="rId2"/>
          <a:stretch/>
        </p:blipFill>
        <p:spPr>
          <a:xfrm>
            <a:off x="471960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53352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gration of particle flow visualizing veloc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xample of previous particle flow using custom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15567FC-5EE2-411F-87EE-FFEAC206D3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Picture 2" descr=""/>
          <p:cNvPicPr/>
          <p:nvPr/>
        </p:nvPicPr>
        <p:blipFill>
          <a:blip r:embed="rId1"/>
          <a:stretch/>
        </p:blipFill>
        <p:spPr>
          <a:xfrm>
            <a:off x="990720" y="2684520"/>
            <a:ext cx="3886200" cy="2914560"/>
          </a:xfrm>
          <a:prstGeom prst="rect">
            <a:avLst/>
          </a:prstGeom>
          <a:ln w="0">
            <a:noFill/>
          </a:ln>
        </p:spPr>
      </p:pic>
      <p:sp>
        <p:nvSpPr>
          <p:cNvPr id="441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Science Overview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7C0ADD-6B90-4F25-9222-2451D4F701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72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mputational fluid flow at boundary layer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olution of 3D, unsteady Navier-Stokes (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Generate initial inflow conditions to D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elocity components must satisfy 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  <p:pic>
        <p:nvPicPr>
          <p:cNvPr id="381" name="Picture 2" descr="C:\Users\David\Desktop\1-s2.0-S0021999104000348-gr1.gif"/>
          <p:cNvPicPr/>
          <p:nvPr/>
        </p:nvPicPr>
        <p:blipFill>
          <a:blip r:embed="rId1"/>
          <a:stretch/>
        </p:blipFill>
        <p:spPr>
          <a:xfrm>
            <a:off x="1219320" y="2895480"/>
            <a:ext cx="4711680" cy="2833920"/>
          </a:xfrm>
          <a:prstGeom prst="rect">
            <a:avLst/>
          </a:prstGeom>
          <a:ln w="0">
            <a:noFill/>
          </a:ln>
        </p:spPr>
      </p:pic>
      <p:sp>
        <p:nvSpPr>
          <p:cNvPr id="382" name="Rectangle 5"/>
          <p:cNvSpPr/>
          <p:nvPr/>
        </p:nvSpPr>
        <p:spPr>
          <a:xfrm>
            <a:off x="1219320" y="572940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Reference: http://dx.doi.org/10.1016/j.jcp.2004.01.0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XSEDE projec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D6C036A-5F93-4F2D-BCCF-98995BA4F6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U hrs and TB on Kraken, Ranger, tape stora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ulation using largest Reynolds number ever report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hare generated DNS database with scientific commun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rform first DNS of fully-resolved droplet-laden turbul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CSS consultants: Darren Adams, David Bock (NCSA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ECSS goal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BD8A4C6-2607-4CDC-8BB9-58AC737493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tascale scaling and deployment on XSEDE resourc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igh-level HDF5 parallel IO library layer (H5D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5DNS provid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creation via petascale simulation run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analysi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implified I/O data conversion (e.g. visualization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isualization tests per simulation ru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roduction visualization imagery (e.g. journals, conference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57200" y="973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O library written in C on top of HDF5 library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ncapsulates HDF5 File structure and metadata particular to the DNS simulation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For simulation code, H5DNS provides: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Large data dumps of field variable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Restart capability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Particle IO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Metadata (run vars., input parameters etc.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87A322-BB72-45E8-A3F9-C25F4D4F15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457200" y="993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nalysis and visualizatio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VisIt Reader (C++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Other direct HDF5 access (Matlab,TecPlot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wig interfaces ??? (Perl , Python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CFBB8AB-F2A1-4A2B-B759-B768892268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533520" y="1676520"/>
            <a:ext cx="82296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Before H5DNS, data generation cumbersome, error-pron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equired editing and executing Fortran post-processor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ple H5DNS reader now used to read and extract data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nverted to format used by custom visualization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rested in scalar Lambda2 (vortices using velocity tensor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87AA325-25DB-46EA-8170-60DD3BA4D2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Data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s verifying data conversion using slice plan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ambda2 (left) and velocity magnitude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 structures in lambda2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A901A14-4C63-488A-A0B5-BCCDDF21EB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nitial re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Picture 2" descr="C:\Home\NCSA\Ferrante\html\f16a.jpg"/>
          <p:cNvPicPr/>
          <p:nvPr/>
        </p:nvPicPr>
        <p:blipFill>
          <a:blip r:embed="rId1"/>
          <a:stretch/>
        </p:blipFill>
        <p:spPr>
          <a:xfrm>
            <a:off x="10018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4" descr="C:\Home\NCSA\Ferrante\html\f16e_4.jpg"/>
          <p:cNvPicPr/>
          <p:nvPr/>
        </p:nvPicPr>
        <p:blipFill>
          <a:blip r:embed="rId2"/>
          <a:stretch/>
        </p:blipFill>
        <p:spPr>
          <a:xfrm>
            <a:off x="43894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5" descr="C:\Users\David\Desktop\livingstone.jpg"/>
          <p:cNvPicPr/>
          <p:nvPr/>
        </p:nvPicPr>
        <p:blipFill>
          <a:blip r:embed="rId3"/>
          <a:stretch/>
        </p:blipFill>
        <p:spPr>
          <a:xfrm>
            <a:off x="1006560" y="5589720"/>
            <a:ext cx="2647800" cy="15372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5" descr="C:\Users\David\Desktop\livingstone.jpg"/>
          <p:cNvPicPr/>
          <p:nvPr/>
        </p:nvPicPr>
        <p:blipFill>
          <a:blip r:embed="rId4"/>
          <a:stretch/>
        </p:blipFill>
        <p:spPr>
          <a:xfrm>
            <a:off x="4390920" y="5587920"/>
            <a:ext cx="2648160" cy="1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ransfer function to isolate narrow Lambda2 ran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vident are very small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lormap with gaussian hue and alpha func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6BD9ABC-2A3B-4D4A-ADC2-7CE2DF2B3C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solating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Picture 2" descr="C:\Home\NCSA\Ferrante\html\f17b1.jpg"/>
          <p:cNvPicPr/>
          <p:nvPr/>
        </p:nvPicPr>
        <p:blipFill>
          <a:blip r:embed="rId1"/>
          <a:stretch/>
        </p:blipFill>
        <p:spPr>
          <a:xfrm>
            <a:off x="1009800" y="3103560"/>
            <a:ext cx="3516120" cy="263844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4" descr="C:\Home\NCSA\Ferrante\html\f17b_cmap.jpg"/>
          <p:cNvPicPr/>
          <p:nvPr/>
        </p:nvPicPr>
        <p:blipFill>
          <a:blip r:embed="rId2"/>
          <a:stretch/>
        </p:blipFill>
        <p:spPr>
          <a:xfrm>
            <a:off x="4637160" y="4032360"/>
            <a:ext cx="3336840" cy="17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7T14:06:46Z</dcterms:created>
  <dc:creator>David Bock;Darren Adams</dc:creator>
  <dc:description/>
  <dc:language>en-US</dc:language>
  <cp:lastModifiedBy>David</cp:lastModifiedBy>
  <dcterms:modified xsi:type="dcterms:W3CDTF">2012-09-18T14:33:21Z</dcterms:modified>
  <cp:revision>132</cp:revision>
  <dc:subject/>
  <dc:title>Visualizing Large Eddy Simulations</dc:title>
</cp:coreProperties>
</file>