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png" ContentType="image/pn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dt" idx="1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2C23A63-2B89-4787-B34D-2DCA3C5EC2A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ftr" idx="1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 type="sldNum" idx="1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33980F-1427-4B99-857D-C6F17AD555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18CDA3D-6AE1-467A-AE29-09B07F205C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39AD4E5-3DE4-44CD-A305-7964BE545E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3001AD-18BD-43D1-863A-3B39DB9FC1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AFBF52A-9A0F-404C-8845-CF9A0C1F3B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047E61-7566-4F37-B91E-8042D03BF3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A2052A-5C42-4768-991B-4E6FB173CE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C9A624F-6BA0-4467-8481-7183EAADF1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666E369-1A3B-4E7B-B130-A797EA4925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96DD3B-8F2B-4EA8-A1C4-89664EF52A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6A4A944-304C-4FB8-A647-D2CF1B394C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3344BC-2EDB-4CD2-BE96-28AA5148C0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9C7DBD-70E5-4A55-8A72-0A514EE63299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C03CA1A-DB1C-485C-9E2A-B2E161798293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973BC91-09BB-4AAA-950B-24EB0F077D26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C59926A-8153-431E-8EEA-7F789B27E4B3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8044CA4-BAB6-4E11-8487-B67AC0405E2E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15432DB-02D8-46F7-BE69-35212FDA2B9A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5C5F9F4-8D9F-4F30-A0CF-51DA0E3950F3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B7E9636-CB9A-4955-8580-217BF537BAD1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FC4EC27-3269-43F8-A29F-4D8694F6CEFF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C288C14-438C-4757-B14C-F7E88EFC86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7C85B1-5B44-44D8-94FD-BED736AF73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84E8F4-B577-4257-A2F9-AE91286B3E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7CBA5C-26EF-4A9E-A1EA-9811E0497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86718D-7C03-4673-84F9-CF1D472ED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F3A6E0-9F46-4FD2-B295-6F3193466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04127E-A918-4AF2-87BE-25027DF7D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F1D1F3-AF68-4099-98A1-22F034EBD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F9A188-0C1D-4D35-9D50-82C4C0C8A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EA5501-F334-4B40-92F5-9FA4A3595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B22C56-14B4-4B2C-A863-B2604DB3D1E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4F4DCB-148E-44B4-BE57-661FDF061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F8B0C9-4FA3-4CBA-AFA3-66F6F2F47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12E543-075C-44D5-ABA1-14DF40870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0D9AC0-EAEF-446E-A446-7A5DF3093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27560F-F1B0-4067-AC05-A18F36209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EF76C1-2162-4D18-9ABB-31E8D22AE9C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DE7C0B-1314-44CB-BC2B-FC0A9D2CB0DC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FD80CD-9EDF-4F50-B880-2EC56EF6E4AE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1442F3-A7F7-443E-B3C5-948FAFB922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34EB43-2E19-433B-8EC3-757D43747651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C756AB-7F3F-4B8C-AB0F-E846ACCA4687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DB5418-1E87-473F-BCF4-E5DED75362ED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5D40AF-E227-4381-B36B-59984878365A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FCB073-5BF0-4B38-9941-3A28717FD3C4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94E612-681A-47C4-9174-CFFF9EF2C84E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7866FE-0B92-4C7A-A98B-1C788EB56318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262A7D-4039-47D0-9666-E9266BCE92BD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A6B4DC-DDBF-4FF1-9132-D6ACB86D9630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FBDE62-67D0-4E17-8DCC-B3D121C2DFAD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1598D-3E4C-4267-8B9D-B7514E817E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741E09-A2E3-4858-A9AD-3A4BF50E21A5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1F1A0-9187-44A7-A430-8D782364EED3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EEB7E-1E80-4031-8307-900BA8D1D4BE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1CB8E-5954-4A8F-AC60-96E826A655AD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A7FD2-CA6D-438C-AD63-D5616CDE8EDB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78C48-C97A-44DF-8E06-BD9434F9B096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62EF6-56D9-4E4A-B0E4-7221807D08ED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90249-CB26-498F-94BD-20CA274384AD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3AA36-B678-431C-AB8F-18569FEB414F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382AA-9B74-4FA9-9EC7-9050836917DC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4158B-B53E-49DC-8E78-76D6191F9D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F0D01D-FE66-4474-AE5F-ABE0A77D924F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CB075-21DD-436B-9B3B-710FDA1AB075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447AFF1-B047-452D-B995-1447BF29EF8B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9A8D52E-327A-460D-BFAA-F96820DE7FC0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8D3A00C-8FCB-45A1-80F2-160A5D91A3EA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727C66F-B9F6-4318-99A2-CF4BFE3B67CB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4C38820-7033-4013-B1AA-205CB1B7B140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13DCF34-18FD-49D6-A64E-483B2354AAAB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5208F02-8885-4E38-A54D-D5E199A8C535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C2614B6-517A-4B8B-BC05-1BF260799BAD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AC5606B-8714-46AF-B519-17FCD5EB97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621690-ECF6-40A4-8FD8-8E0B723F37A4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FDEDA12-5895-41AD-8EB3-3BF5B3C8F398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E791A19-12E2-4806-AA13-FCED472E229D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D019A09-3234-4F21-9016-D053550345A9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70B21FE-0DA3-4486-8B5A-5FE3A40F4D58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B1F431E-C1A7-487C-9FFF-F3005F4DA839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7419095-CBE8-4809-92C2-F3F77AC334ED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1F0E5AA-1E4E-46CC-BE4E-70FD0D5F19D3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7BED8FF-BE4E-4979-8D5D-86FCA7B5577C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18EEA8D-8560-43C4-B2E2-E90862CAFEEC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2B1AD4-CC22-419F-8507-6F23A20CFD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1CFDD2-D463-4065-94D2-D6E46FFCE642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A0FBEF0-5CA9-49BF-B2EB-4E052515937D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AE17568-7CA4-43AA-8D57-00F8FC2A51E8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CD15CAA-08B1-422D-85A8-826941B4BAF9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FAFAA05-5EC2-4631-80B5-588B862A5B5E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F93ACD4-7813-47D4-AE51-51481CF8296E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BF4BDC-EA89-4536-990E-9DCD02091A70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02087D-4862-48E0-A09D-796C24EDEE9B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5FD154-A9CF-42AB-BF9D-0908B4EBA011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0D1094-39E8-42DF-BA12-77BF3781D2D4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0FC3F5-5FA0-4EC5-B988-0D84A341F1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A0C28E-C66D-444F-8995-BE141D565E86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97F458-0ADB-4665-9163-397ABEE884A7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6D97CC-EA88-44EB-A8A6-1D07FFE47ECD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3CE6C7-D299-4A1F-9559-20F48675C579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2BEC7C-4029-45DB-B9A1-614177987D39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4198EB-9A91-4A58-817B-590C110FB27D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E4E5DC-2024-4A31-8F9C-EA8754D4B886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2B7CFE-2136-4EEB-9222-3F6ADDFFCDBA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772B265-948D-4043-9C02-59C66901B45F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FFC256E-4FD4-4780-BCAF-23A777CE81B9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65711B4-A9BF-4022-BCB8-3FAD313521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4F7F21-3AA5-4B49-AB1C-D4C1DE1C795F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3CCFBB-F812-41C4-A2ED-2033B0DEE8F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xsede-ppt-titl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Date Placeholder 3"/>
          <p:cNvSpPr/>
          <p:nvPr/>
        </p:nvSpPr>
        <p:spPr>
          <a:xfrm>
            <a:off x="6705720" y="3510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A2F419-4AEF-4E43-A2B8-2CE9E9D92ED3}" type="datetime3">
              <a:rPr b="0" lang="en-US" sz="1500" spc="-1" strike="noStrike">
                <a:solidFill>
                  <a:srgbClr val="ffffff"/>
                </a:solidFill>
                <a:latin typeface="Verdana"/>
              </a:rPr>
              <a:t>July 28, 2026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8" descr="nsf-white-576x576.png"/>
          <p:cNvPicPr/>
          <p:nvPr/>
        </p:nvPicPr>
        <p:blipFill>
          <a:blip r:embed="rId4"/>
          <a:stretch/>
        </p:blipFill>
        <p:spPr>
          <a:xfrm>
            <a:off x="7772400" y="502920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5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A251E87-E5C6-4009-82B7-3F85B1CABD31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Num" idx="6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943EE85-AAC7-4ACC-856B-E563A51E2FAC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sldNum" idx="7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E9D41F8-52C5-4311-8D60-3FE6D0109E67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8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39C90A-2B99-4EDA-92F8-2158CF0D05C1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sldNum" idx="9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56D7AD-A30B-4F56-9CEF-3ED18FB8D5F1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sldNum" idx="10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82D2B66-43F3-4033-885C-82128FBA041E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09120" y="2664000"/>
            <a:ext cx="8153640" cy="91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NS of Spatially Developing Turbulent Boundary Layer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609120" y="3657600"/>
            <a:ext cx="815364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PI: Antonino Ferrante, University of Washington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ECSS: Darren Adams, David Bock, NCSA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ay-traced, volume renderings using same colormap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ooking down chamber (left) and close-up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, wispy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15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9DED5F-1B55-4A3C-882C-C04133EF44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Picture 2" descr="C:\Home\NCSA\Ferrante\html\f17c1.jpg"/>
          <p:cNvPicPr/>
          <p:nvPr/>
        </p:nvPicPr>
        <p:blipFill>
          <a:blip r:embed="rId1"/>
          <a:stretch/>
        </p:blipFill>
        <p:spPr>
          <a:xfrm>
            <a:off x="1004760" y="3100320"/>
            <a:ext cx="3579840" cy="268452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4" descr="C:\Home\NCSA\Ferrante\html\t9a.jpg"/>
          <p:cNvPicPr/>
          <p:nvPr/>
        </p:nvPicPr>
        <p:blipFill>
          <a:blip r:embed="rId2"/>
          <a:stretch/>
        </p:blipFill>
        <p:spPr>
          <a:xfrm>
            <a:off x="468324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ing different visual representa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op-down view (left), three-quarter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dded data boundary grid for refer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178186E-9CF7-4781-BB14-C81756435C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Picture 2" descr="C:\Home\NCSA\Ferrante\html\f26c_2.jpg"/>
          <p:cNvPicPr/>
          <p:nvPr/>
        </p:nvPicPr>
        <p:blipFill>
          <a:blip r:embed="rId1"/>
          <a:stretch/>
        </p:blipFill>
        <p:spPr>
          <a:xfrm>
            <a:off x="1009800" y="309564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4" descr="C:\Home\NCSA\Ferrante\html\f26a.jpg"/>
          <p:cNvPicPr/>
          <p:nvPr/>
        </p:nvPicPr>
        <p:blipFill>
          <a:blip r:embed="rId2"/>
          <a:stretch/>
        </p:blipFill>
        <p:spPr>
          <a:xfrm>
            <a:off x="4697280" y="3090960"/>
            <a:ext cx="3584880" cy="268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FE9DB9-7647-402F-9B6B-98CC84CDBE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Picture 2" descr="C:\Home\NCSA\Ferrante\html\f27a.0001.jpg"/>
          <p:cNvPicPr/>
          <p:nvPr/>
        </p:nvPicPr>
        <p:blipFill>
          <a:blip r:embed="rId1"/>
          <a:stretch/>
        </p:blipFill>
        <p:spPr>
          <a:xfrm>
            <a:off x="102384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4" descr="C:\Home\NCSA\Ferrante\html\f27b.0001.jpg"/>
          <p:cNvPicPr/>
          <p:nvPr/>
        </p:nvPicPr>
        <p:blipFill>
          <a:blip r:embed="rId2"/>
          <a:stretch/>
        </p:blipFill>
        <p:spPr>
          <a:xfrm>
            <a:off x="4713120" y="3102120"/>
            <a:ext cx="358488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3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63F7E50-65DA-4F56-89DA-BEDEA6F04A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Picture 2" descr="C:\Home\NCSA\Ferrante\html\f27c.0001.jpg"/>
          <p:cNvPicPr/>
          <p:nvPr/>
        </p:nvPicPr>
        <p:blipFill>
          <a:blip r:embed="rId1"/>
          <a:stretch/>
        </p:blipFill>
        <p:spPr>
          <a:xfrm>
            <a:off x="103176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2" descr="C:\Home\NCSA\Ferrante\html\f27d.0001.jpg"/>
          <p:cNvPicPr/>
          <p:nvPr/>
        </p:nvPicPr>
        <p:blipFill>
          <a:blip r:embed="rId2"/>
          <a:stretch/>
        </p:blipFill>
        <p:spPr>
          <a:xfrm>
            <a:off x="471960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53352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gration of particle flow visualizing veloc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xample of previous particle flow using custom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470F92D-E172-4F8F-9DEE-A1B1C01243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Picture 2" descr=""/>
          <p:cNvPicPr/>
          <p:nvPr/>
        </p:nvPicPr>
        <p:blipFill>
          <a:blip r:embed="rId1"/>
          <a:stretch/>
        </p:blipFill>
        <p:spPr>
          <a:xfrm>
            <a:off x="990720" y="2684520"/>
            <a:ext cx="3886200" cy="2914560"/>
          </a:xfrm>
          <a:prstGeom prst="rect">
            <a:avLst/>
          </a:prstGeom>
          <a:ln w="0">
            <a:noFill/>
          </a:ln>
        </p:spPr>
      </p:pic>
      <p:sp>
        <p:nvSpPr>
          <p:cNvPr id="441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Science Overview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CE7A5F6-4EF0-47EC-B458-77CB799126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72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mputational fluid flow at boundary layer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olution of 3D, unsteady Navier-Stokes (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Generate initial inflow conditions to D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elocity components must satisfy 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  <p:pic>
        <p:nvPicPr>
          <p:cNvPr id="381" name="Picture 2" descr="C:\Users\David\Desktop\1-s2.0-S0021999104000348-gr1.gif"/>
          <p:cNvPicPr/>
          <p:nvPr/>
        </p:nvPicPr>
        <p:blipFill>
          <a:blip r:embed="rId1"/>
          <a:stretch/>
        </p:blipFill>
        <p:spPr>
          <a:xfrm>
            <a:off x="1219320" y="2895480"/>
            <a:ext cx="4711680" cy="2833920"/>
          </a:xfrm>
          <a:prstGeom prst="rect">
            <a:avLst/>
          </a:prstGeom>
          <a:ln w="0">
            <a:noFill/>
          </a:ln>
        </p:spPr>
      </p:pic>
      <p:sp>
        <p:nvSpPr>
          <p:cNvPr id="382" name="Rectangle 5"/>
          <p:cNvSpPr/>
          <p:nvPr/>
        </p:nvSpPr>
        <p:spPr>
          <a:xfrm>
            <a:off x="1219320" y="572940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Reference: http://dx.doi.org/10.1016/j.jcp.2004.01.0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XSEDE projec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A3FE5F-8A21-41DD-8EA0-A0AE69C034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U hrs and TB on Kraken, Ranger, tape stora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ulation using largest Reynolds number ever report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hare generated DNS database with scientific commun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rform first DNS of fully-resolved droplet-laden turbul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CSS consultants: Darren Adams, David Bock (NCSA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ECSS goal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5D06FE8-216D-4281-9755-D406D6DB97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tascale scaling and deployment on XSEDE resourc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igh-level HDF5 parallel IO library layer (H5D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5DNS provid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creation via petascale simulation run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analysi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implified I/O data conversion (e.g. visualization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isualization tests per simulation ru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roduction visualization imagery (e.g. journals, conference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57200" y="973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O library written in C on top of HDF5 library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ncapsulates HDF5 File structure and metadata particular to the DNS simulation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For simulation code, H5DNS provides: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Large data dumps of field variable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Restart capability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Particle IO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Metadata (run vars., input parameters etc.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A34007B-0F5B-4EBE-B045-EC54BC5183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457200" y="993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nalysis and visualizatio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VisIt Reader (C++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Other direct HDF5 access (Matlab,TecPlot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wig interfaces ??? (Perl , Python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B588791-019F-4113-8231-DBEE9C4CD6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533520" y="1676520"/>
            <a:ext cx="82296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Before H5DNS, data generation cumbersome, error-pron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equired editing and executing Fortran post-processor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ple H5DNS reader now used to read and extract data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nverted to format used by custom visualization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rested in scalar Lambda2 (vortices using velocity tensor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7B752B-05BC-4A8C-A078-844A1DD7ED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Data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s verifying data conversion using slice plan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ambda2 (left) and velocity magnitude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 structures in lambda2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B7E68A-AAB6-4626-8729-470F6D6931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nitial re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Picture 2" descr="C:\Home\NCSA\Ferrante\html\f16a.jpg"/>
          <p:cNvPicPr/>
          <p:nvPr/>
        </p:nvPicPr>
        <p:blipFill>
          <a:blip r:embed="rId1"/>
          <a:stretch/>
        </p:blipFill>
        <p:spPr>
          <a:xfrm>
            <a:off x="10018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4" descr="C:\Home\NCSA\Ferrante\html\f16e_4.jpg"/>
          <p:cNvPicPr/>
          <p:nvPr/>
        </p:nvPicPr>
        <p:blipFill>
          <a:blip r:embed="rId2"/>
          <a:stretch/>
        </p:blipFill>
        <p:spPr>
          <a:xfrm>
            <a:off x="43894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5" descr="C:\Users\David\Desktop\livingstone.jpg"/>
          <p:cNvPicPr/>
          <p:nvPr/>
        </p:nvPicPr>
        <p:blipFill>
          <a:blip r:embed="rId3"/>
          <a:stretch/>
        </p:blipFill>
        <p:spPr>
          <a:xfrm>
            <a:off x="1006560" y="5589720"/>
            <a:ext cx="2647800" cy="15372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5" descr="C:\Users\David\Desktop\livingstone.jpg"/>
          <p:cNvPicPr/>
          <p:nvPr/>
        </p:nvPicPr>
        <p:blipFill>
          <a:blip r:embed="rId4"/>
          <a:stretch/>
        </p:blipFill>
        <p:spPr>
          <a:xfrm>
            <a:off x="4390920" y="5587920"/>
            <a:ext cx="2648160" cy="1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ransfer function to isolate narrow Lambda2 ran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vident are very small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lormap with gaussian hue and alpha func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68C062B-3199-4702-8654-543FB5CC9C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solating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Picture 2" descr="C:\Home\NCSA\Ferrante\html\f17b1.jpg"/>
          <p:cNvPicPr/>
          <p:nvPr/>
        </p:nvPicPr>
        <p:blipFill>
          <a:blip r:embed="rId1"/>
          <a:stretch/>
        </p:blipFill>
        <p:spPr>
          <a:xfrm>
            <a:off x="1009800" y="3103560"/>
            <a:ext cx="3516120" cy="263844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4" descr="C:\Home\NCSA\Ferrante\html\f17b_cmap.jpg"/>
          <p:cNvPicPr/>
          <p:nvPr/>
        </p:nvPicPr>
        <p:blipFill>
          <a:blip r:embed="rId2"/>
          <a:stretch/>
        </p:blipFill>
        <p:spPr>
          <a:xfrm>
            <a:off x="4637160" y="4032360"/>
            <a:ext cx="3336840" cy="17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7T14:06:46Z</dcterms:created>
  <dc:creator>David Bock;Darren Adams</dc:creator>
  <dc:description/>
  <dc:language>en-US</dc:language>
  <cp:lastModifiedBy>David</cp:lastModifiedBy>
  <dcterms:modified xsi:type="dcterms:W3CDTF">2012-09-18T14:33:21Z</dcterms:modified>
  <cp:revision>132</cp:revision>
  <dc:subject/>
  <dc:title>Visualizing Large Eddy Simulations</dc:title>
</cp:coreProperties>
</file>