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55719E-91CF-4595-915B-6C755180F8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6A552596-0C5E-4084-A2B5-BE0A8831C4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1EE89963-EB22-419B-92DE-D16F1E4537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C6E69C4C-7983-4974-90E6-6EAAF9239B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2D1E1872-4922-478F-89D1-EFEA12403B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B2132F6-39E6-4FB1-A8EE-91B94642F29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7B9F4ABA-B360-407F-81A2-B0257C6BB85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71891FA9-36C3-4558-A840-DC738848FEF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D077759B-562C-4DA9-B285-E0386BEB5CA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2A4E4E89-93AA-40A5-A760-FC563D74FE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9E493EAE-6DA8-4CF0-8BC5-B72F761155C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83EBAD20-272C-46DB-8BF1-9A7130D5EDC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DDB890A1-0DE2-4C29-89DD-226F4408C3C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55AA7339-1D3C-43FF-AF12-F96001F4D3D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3166EB75-7B33-403F-9F69-B616054B8B8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8E58001C-E3C1-4B22-A16A-2AC11C53481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7CD085D1-EB8B-4DD9-BC0B-0129FA777B5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71EC79C4-98FA-4581-A1EA-3F9A855C60C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B8FBCA2-1DD2-4DEE-950D-D83A4958CDF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D568666D-F617-4CCF-A25A-51F5F0725C7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3129F9CB-37AF-4D28-9E6A-43A72DDB99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5668A5E6-A267-417F-901F-A47CC5CBCF2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7EC4AB50-F9F5-4A9C-B2AB-CD8C0DA50DA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86386715-28F9-4D2C-BA4F-EA6B6F2B4F4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DEB0AE3E-536F-4C63-AC49-3F7F1E6FD41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CF152871-D736-4D1D-9030-5175D78FA12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4E7D8CD9-E813-4C4C-B009-FF9B930699E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A07E3A14-054C-4655-91F2-C73C584D817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F03A8584-1D3C-4F9E-A209-23F0D9C49CE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8E71311E-D54B-40F0-A29C-9B884C4724A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534513F8-2352-4874-A13F-49DF248216D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E9FFA89-E473-4604-9804-6F66EDA7B8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887089F1-51A7-4775-850F-AB1205E89AB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2D15A3BD-160D-462F-9C76-0839831E9CD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26927723-39EA-491E-B2D0-E59CBE838C1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6E4860A5-8F02-409A-A47D-E9FE2DBC715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86E14F58-36EB-48E8-A591-46E475FDF8E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3A8D34D1-1143-4386-BEAC-2F74CFC1DA6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35A34586-8AE4-4DE5-9FB2-99132B6F0B9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9AD546C0-ABFF-44BF-BD17-4065F9EEE13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50E2A1BF-0B4A-491A-9B62-2F9B93CC4C4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255597F5-FFDF-458A-85C2-A3609C6734C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DA6225AD-C701-4768-BA2D-498F18E951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561C51B8-8A65-4446-8D50-DC0B6116167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CEE9DFFF-0E5F-4B6A-A257-402C2DE0322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923147D-D6D6-4FEF-B3FA-0AE7C1516E4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33101E8C-0B82-4FF7-9C0C-9FF04509BBA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339E9E4B-3BA2-4985-9D7E-A605FBD349E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EB39FD61-19D8-42C4-A224-CB92C01A299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81AD4293-EFD3-476B-ADCB-AF698C8E36D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C1EABCC5-54FB-480A-9A0A-E2C7F64B94C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B76904DF-3B17-4905-95D0-53B2178447F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7F1D2DBB-7D33-4097-A9F9-83E2CDCA69D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CFF96FE8-6521-45C8-AA1B-01942CAC2C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B677466D-F7B2-4185-96D3-9EEB8A5C599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4A4204D9-95B1-4EF0-89FA-9A085855946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F1CA9D28-9444-4316-9EAC-8BE0AFCBC9B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9A06C9CB-BC44-4D7E-8137-452881C5FBE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994BF83-FCFC-472D-A2DE-1A036C52FF2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8DDFC49C-4E7C-44E7-8794-89A81BB77A6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08F5AED2-7604-4F3C-99FD-2F251919E52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B977229B-CD5E-4659-BA3D-1FB7B276B80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ABBFEF6C-A861-41EB-BC33-5BAE911B59C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15573130-197C-426A-BDE8-62B2DE7C189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02F57BE1-4C33-454C-A82A-2B794B9C9A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64CAC085-BBEE-4F60-8C2B-3CC04A93CA5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E4D09D8D-372F-406F-8D92-4EC92DA5F7B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92E56725-0D9C-4812-B09E-FBEBD2214C4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8E9A8930-7975-49C0-ABE4-5D3548AE4A1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D7EC9B54-FE7C-4124-B53D-3D6026B2133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0C3F40D2-7C20-4D96-A26A-C86C0A97A2A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2F6ED6EF-73D4-4F75-9287-0A2B653B305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1CBE7678-59F1-49FA-9728-E9656EA2132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AE9FBA1D-E8CE-40AF-99E5-37104BDCD54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B690B930-3E53-437A-A7F3-EFAEADBE7B3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3A0736BF-7F0A-4C92-8ED6-B19581FD83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0B387D41-0B53-4A51-9960-EDC96932246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961CCE7B-0492-4B16-BC4C-C37E8D2D665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90C81237-A1C4-43AB-8E8D-948D7191929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CA6D7983-EFB3-443E-859E-66DE9E98E9F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B733D60C-7E40-431D-9281-FBDC2B217AA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D96F7A3E-E543-462B-AAEE-44CE03E5591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EDC26571-31A3-4D75-8A40-668099437FC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509E7D66-EF9D-4F3A-8FCB-6B5E04DB85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7977DE-74E4-47BB-8EF5-AD203D866AA1}"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59BDD1-1EA4-4892-AC21-FA63E465B99E}" type="datetime3">
              <a:rPr b="0" lang="en-US" sz="1500" spc="-1" strike="noStrike">
                <a:solidFill>
                  <a:srgbClr val="ffffff"/>
                </a:solidFill>
                <a:latin typeface="Verdana"/>
              </a:rPr>
              <a:t>July 28,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590E27-887A-4305-AB82-9A3E2F41B6AD}"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C849EF-CE59-4BA8-96EB-52AD37750A0D}"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0D582E-8EF6-47B5-BC4F-2CC3D6255C04}"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26652D-6D46-4258-8431-0A404621690F}"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A6FB0D-D4A4-4D12-BAC3-1D863D198128}"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9C5781-90D6-417A-90D6-6BD207709994}"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