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33EC4B-4F44-4037-96D0-C3811D40B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B93C15D7-5CBB-4B49-93EC-7534041B6D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7F79DE22-C9AF-4481-BDA8-0843553A70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E9BD6C7C-9F27-48F5-92FD-3A265C961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99661E33-9BE4-4E9F-A2AB-C7D8AF048C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2B31DF-8EFF-4A52-9140-B5A55DEBF4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8C4E8394-A8B2-4A79-B5C0-9AE6001416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6771927-12B1-40B2-9B99-EF36796FCE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A89E72A5-3068-41C0-8CD7-ADE04AA4BD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BE40AF12-97D8-4A4F-9B5E-162D4EEEC3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8EFCB51-803E-4CB9-851D-CA76172A6D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3AEB5AF0-23D3-479A-9D5F-74247B67A4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D8B4DAA-87CB-435E-AB7F-4C5A69864E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73942A0-C3AF-4581-9A5C-3C5438F7F1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6B56677-565A-411A-8F65-5A29FB874F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70B2CF0-32D4-4525-8F1E-0E16B229FF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C84C4383-2DC7-4FA1-A962-E0F59A2353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BF42DE48-DC09-45A0-BFE2-F2F773729B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F6FC2A6-6AE6-441B-B8D1-02EE5FF5861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A3745B51-C493-4E6C-902A-C5292B68070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7F1E11C-FBE1-426F-8051-569E1CE726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F73343B-F52E-4CD6-9C0A-5B48C672C72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39A7F17-3A00-473F-B3AA-FFC7FDF7CFD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1859CAB0-30FE-42EC-AF98-C9613BAB13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4F03777F-D61E-4E2A-835C-BBDADF222AF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3144AC0-1B96-4F69-9121-63792E970F0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ED1459F-1F17-4D75-B0D5-96D30ECDE34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6CAE850-DB2E-4663-B1FB-D60A89408B7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81737C92-5A55-4F43-BA6A-DC2257C1DD8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866803C8-7FC9-437F-9A20-D06903E04A3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F5C536B0-0BB3-4876-A77E-712C4095EE4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29E9AE-95CA-4B59-A444-317ECABAF4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7EBDCE89-AB68-451E-AD01-D554FA487AE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A467722-688B-4E88-8065-2CF7FF55FA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835C4C4-3DE6-43A6-9ECA-2356E57D7D9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EC1D0D7-8BB2-4A79-8B78-0C77488EAA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B065CF56-42AB-412F-9EBB-2A46D6E05E5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03381750-9DF5-4B8A-8F86-A7E71D30250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B4E8DD7-29D8-4294-8CC1-414828682A2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7E77E6E-BCAD-4F77-95F0-CF049E13F96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1F4999A-0D32-4D91-B92F-2BF0E9AF10E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0E55B4F-71C4-418A-B5AB-16388A251E8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85D4C92D-ACB9-49BB-A174-166847DB8C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DF8551CD-3090-4623-8850-AFA5071729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085332A6-0D81-42BF-B2B6-56CF6399A1C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5AFB57E-0C19-4901-A1ED-47750D24F6D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0E6E2FA-A250-428F-B21E-47346CDBAB2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0EEE1274-8E32-4EE4-8B15-9D094C6F8B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84EE11A-EB6D-47AD-A946-97F8AC1C5F3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048A8A8D-AE66-49A7-A1FB-2FE7ED447A7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947AEB52-F89F-4483-A435-5016350B756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8367C92-6267-4654-9D44-3CE1F33D5A1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F12AB1E-D71A-4C4B-A4AF-36ECDBF35C5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8C6978D-94A5-4348-AD6E-E1BA9BAF6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C4C279D-8C24-4FEC-B150-4587FF4467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4946C65-303F-4F11-AE58-DD766562C75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F7F79366-B904-4072-A6AD-9F7F8267921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58B01B05-1796-4944-9C85-C3C39B5F448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BCE0DDD-4722-46FD-B62A-0084BFC954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DD67A04D-D9A6-4A0B-9BD0-BF63C92A703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1CDACAE-A8FE-4DA3-81F4-E3C416D6B47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4101636F-48A9-4532-B560-87A6FF5D18C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F763046E-C327-4476-99A4-0F602098538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2B1BF6BC-F60B-4D85-B320-C22EBDD4F11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A019C78-7F01-4FF3-AB8C-BB7472D8BD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55B5799-9A0B-48BD-BEFA-F6887512CAE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DBAD09A-BB41-4950-B2F1-84586FB084B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10DB3EF-6665-4B5A-85C1-BCBB57CFD7E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F9FA0D76-A0D0-42CE-992F-79229D23055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E69F70C4-AEB4-4A01-800F-E889AE6BC15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1F9D33E4-6BBB-435B-8188-AB8A32B34FB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01EE8F9-6015-4D60-8CB2-FC213C578F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D284A21E-B0C2-414D-ADDD-BCD834C1FF7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C149282-EFEC-4041-975D-D4B013C1994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DC2DF97-43E7-4246-972E-2C3DD5FB413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8312C35F-0F31-41DE-99B9-0532AED80E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9CAD18E-1B90-42B2-90FD-365415FE377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D9E3186D-A3C3-474D-AD7B-4B638BDC00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04E6407-F458-4BE9-BD02-0165DEE164C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869D96E-5FEC-41C7-B3D8-329615ACAD6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411C41B-7D6D-4309-A6C8-1307B21EB26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B6502F9C-2DD5-4586-B4C6-252D13BD278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D24F57AB-93F1-473D-95F2-5DAEA2118A0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F5044C75-2C34-468E-A073-9F58514104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A3A41-FF15-4D20-B9F7-3C4D5DC5782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423C9-11D6-47CF-BB2E-2AFE5CEFEA66}" type="datetime3">
              <a:rPr b="0" lang="en-US" sz="1500" spc="-1" strike="noStrike">
                <a:solidFill>
                  <a:srgbClr val="ffffff"/>
                </a:solidFill>
                <a:latin typeface="Verdana"/>
              </a:rPr>
              <a:t>July 30,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42750-A496-4853-8B62-93431417B15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E41B0-10B8-4D1D-95D1-19C2725E66C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15192-0EFB-46DB-9C15-FFBEF8CBA45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448F5-FF93-4044-8F1D-B720C2AD2FA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F700B-6E64-48E0-A4EA-69DBB1AECBF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FF162-ADDA-4411-9350-F574D703311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