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6C3C10-483C-41FB-99A3-7674C2A2C2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34EFA682-419D-41CF-BC75-555392347F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B373F6C7-BA62-43C1-90EC-4A5C391E2F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3177D495-A563-4691-95D1-F141540771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93BC80A6-D1A8-4F8C-985E-1A82A60327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6AAF9BE-7392-4661-959D-2C73AAF509E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0D427807-2677-49CE-BF32-500098D032C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22FEB47B-474C-45D0-8128-E6821D7DACD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163BE452-8190-4D30-AB64-2C8E27C6952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14EB3430-970F-4A6C-803D-5754AB7A2EB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0B42C6E4-09E6-44BB-BB4D-18737D8DAC0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0E12BE53-715C-491A-8F4C-9524A506EE3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25BED99D-A38B-420F-8911-19143AA6BCA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DAE528B6-7783-479A-938E-E6D3C9264A7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C2DFCE16-B6C6-4FC1-A5D0-46FFF56AC25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92E0B0D6-8BA6-48E3-91A8-6C578626DAD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CE36AE6A-E53C-48C3-AA83-4C603A9FED2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BF15D52B-18CF-4488-AD56-A46F806482E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C49E75F-66D9-43BF-9464-92A8E80A395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FC6E23E8-4CA8-4DBB-80C6-D28EDA2FB1E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F4C1EEA7-29B6-427D-B390-EE3226BC93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5B9378F1-416F-4728-8D0B-D3A6BADA3E3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09549EEE-B552-4399-ABC5-64920FC7C28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261BE17E-8DA7-42A5-B01E-37287C326B1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FC7F6B9E-AD14-473B-B68F-4D86AD97CB3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5F9FDE9A-8D82-424E-87F2-45C38C87EBF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B1FAD45C-346A-4F07-A34C-2FA20D4023D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089A9165-BA31-4641-9F22-2509C5865CD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54610CF4-55CA-44A1-84F8-42DDF2B39B9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6CD916EE-6923-4092-A0A8-F39BD764749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EF52C110-0B98-437D-B89C-A149C9EAB5E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6AF20DC-54B9-46D9-80E6-BCDFFCFB29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EDD0A356-4FA3-4456-A99A-DDCA98870E9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4F7B085D-3D50-4382-AC44-754538139C2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FC0B8397-4FEC-4DE4-8879-9B5A20868BD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6C75CA97-8A3A-47BE-9643-E53C6E55AD8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7C4B32F2-C786-4420-871E-D21C60ED74A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A9CBE1A1-EB88-4833-9A0A-278C5A60FD8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160320AF-25C6-4CA0-BE02-44009172B98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8FAEBEDA-21F8-490D-8F30-D30943D1478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100A3080-5997-4939-A2E2-F4555C74EE4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BB4E2388-495A-4750-B664-549E6BCFCBA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64848566-2998-4B09-9C21-2DBB04AF23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FEBE539B-4D78-4491-9ABE-E6ACE1F6D8C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EFCC997E-28ED-447F-A408-2CABE848DAD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75EE778-7EA3-4100-81D6-C27C21F6EFB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1AC70239-98A4-4779-8F19-5B96B6BC5AA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0CC6088D-CD14-4002-A903-35D4548611C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201AE622-E137-4D8B-ADAF-50D4CCF73F7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2D114FE3-6FDD-45C6-B8AB-DF4E32EFECC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EBE572FC-079B-4724-9E40-123E9B00C90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CC22747F-3090-4177-B0EF-05B795CE5B5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C1D6AD28-7C05-41D8-837E-8A79E07B307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4DCC61A9-E19D-401F-B4DB-9B68A74A99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79B4FDAA-633D-44A5-B187-AB0817B6452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0D1915D9-11FC-433A-90C3-7E12E7C8D4F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DBCF9BFD-9C2E-4673-97DE-618925AD832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3F03222F-8F4B-4540-B133-DEDE83842FB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6E3E39C-B9C9-4A71-9E5E-79642F0A4AE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EF5910F3-4D4C-4FC7-B3AB-2A56B4E93CD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58021917-C7AE-4542-A7C3-330E1859EF0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FA445921-B962-4A7B-8730-CA03754A6D9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EFEDE137-E63C-40D8-BFAA-57BE4AD3B94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7BDCE51E-C24C-4C36-B778-69625AAACD6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22361B2A-789A-4D64-A7A1-315A5E4374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2435E916-ABF1-4097-A5CB-68074A59EB6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1D2E115F-A75D-4AA3-B444-5A1E04DC448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C50DFE45-DC45-4C12-AFFF-FCD2A866AE3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3C273537-2836-450B-8220-68DA598ADE8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724E2C06-7767-4F52-917D-AFC933AD350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E7951569-4C3F-412E-8172-30D184EA457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A5503839-E9EE-4BA6-A014-932762F4481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D9E1A7D0-C8F4-49AD-B667-372118E4B88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02EF53E3-20C2-4707-8F00-D33901294EF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7B77417C-0A39-4BE0-ABC9-23B1EFAEF38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6DDD5DB1-88AF-445D-B689-9FB7B9AD87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5E2DAD1B-7F18-4142-85B0-3069466028F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93E6CDDD-8663-4FD5-9EDC-6286F2BA57E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386E9547-D6B0-4D90-8600-179539BC33E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EFD01E27-4480-4171-92B0-F2D550243F6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195AF99D-0048-4256-AE59-E56B103BE91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437B3149-D66E-4592-A101-1B4F8BDD864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844690F2-D690-4BEA-9B11-A67107C7434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506EA8CF-B8BD-4EAA-8AB9-13A0DBE522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665E1A-4FBC-46A9-8CA5-1ECC58DAD9D1}"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D7546F-A872-4F3E-8C86-231AF44F0BE2}" type="datetime3">
              <a:rPr b="0" lang="en-US" sz="1500" spc="-1" strike="noStrike">
                <a:solidFill>
                  <a:srgbClr val="ffffff"/>
                </a:solidFill>
                <a:latin typeface="Verdana"/>
              </a:rPr>
              <a:t>July 30,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12CC3A-CE80-4500-AF68-E75AE7A72570}"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CF0237-A7EC-47F2-9E3B-BD897E49BCDC}"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6E6029-9041-4AF9-99B4-7AB72D33742E}"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A3D122-D228-4965-A445-A7063B95E919}"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3605EA-6549-46C7-86F2-58162BAA5F54}"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BCCB69-5EFA-41AE-8DA3-20B2E8232C57}"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