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085FA6-E3D2-4081-ADD9-91AC0CC26D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C6AE3339-3A9E-492D-A672-D55989D61B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2017A309-801C-4ACC-9ACF-8D7673CB03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D3BD7D72-BABD-4025-AA52-D96FE64736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3F140A54-9E3D-4F72-AB02-1D4D1FE5F6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F4E30A9-3FCF-4E3B-B2A5-FC2A66A8732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C2F2ACD6-7A34-4270-B200-E34DBF84E15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ADAA36AB-A7F0-4440-A913-081A2D6A8F0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9B13454B-294A-4A69-B300-AC4151BC82C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59C934CD-052C-457D-9D11-BB3DD28826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B15DF9A1-6773-4D32-B566-07C49E85C27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7F2D82A3-5E32-4A2F-BFCF-0177AAE6FE8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15CB7489-18F2-4115-B58C-9D0CB77F001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D8EF85B0-E711-4DF4-A07D-F739F3EF2B6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6615FADB-C853-410B-8BC5-7029B3B9CD2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F324382A-E22A-427C-8081-E3DA0C0109D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9440C58E-C5BF-4625-99A4-A667F1A885A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F5CC0E4D-8550-4019-9E5E-8C5E82541E3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0F95F30-E83D-4942-8D5C-620A9E0BA84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33DEF088-4443-489A-A89D-DC3089535C2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F1F68D69-BC00-4771-98C8-9FCA73C7DF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CF366A22-495A-4930-A006-BBF09E49FF1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BEA35736-95DA-4AA8-97D3-87AB7D82CDD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02AE988C-479C-495B-A0A3-590A50194C7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4EE7881C-DF50-438E-910F-1921C60925B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786BF310-E3F9-4264-9090-59482DBE0B3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42BE78F7-83F8-48FA-8E55-CDB62FD778A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8E9FE164-402F-4CFD-B907-FD6C8C4F16E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F27EF250-6D45-489C-B738-D9DCE783DB6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6BB089CE-B69C-4594-B218-9CEC1F905E8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7573DD45-4D5D-41C5-95C4-B196B46A041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261FED4-5B77-4294-A22F-A7A62C1E98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0C8C798E-FC1B-445E-825D-1E2AD0E08E0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ECE3A008-8FC5-49CC-BE42-ED5A3241C27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5432F7E1-9AC5-4E6C-BDDE-97D6BE2CA06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7AF5CF0D-2B66-4CC7-AAD8-2DCD803DFF0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92ED09C7-A1D5-4364-BCBF-BA1E2567225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48671ACC-59A0-4928-934D-12A6ED53F1A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32F49EE9-FD5B-4966-9164-7421B41543C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98F1F5EF-2E1A-40B2-A6E1-C3853CC3E66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8E9A7A0C-88D8-425F-B54E-7A12EEFBFB7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DA2F3788-801A-4204-901D-B1608EDD7E3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A16BA6D8-3E08-47C8-8081-0B8922F3E5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77C5D84E-0BC9-4CD8-9C0C-039F73FE2AB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8C2E9170-B4A9-4DFA-A038-DED7AAD28E2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C9B5DE6-435E-4F9D-BA17-CA081CDDA8D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9E5128D7-E0B6-4525-A58D-2047AF0051B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2F3950CE-930C-4FAB-BE57-D2D4F86E9FD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ED9EC3F2-2823-42FF-B6A5-57B84780CE8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A744BD8E-6538-45D7-AEB4-1D652E49CEC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CF2C7BF8-AE8C-433C-BBF9-71863C891C1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638672B5-04AA-46A3-AA6C-2991895B6DF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32DC6CFA-9633-44E1-9FF2-99B94DEBD5E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C0BA2BD6-8474-453C-8D72-D90092F449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7E6353E9-1091-43BF-91C6-755EC896225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1BEBC895-3DEA-44F6-AC91-E20C42285F7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C16413B1-44F3-423C-853D-8CB81CBC915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00244908-81A4-42A8-AEA6-A6CE862E8B6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8D0551B-CE43-4DC1-8666-3EBE2461124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30BE37C5-DB4F-43FE-9F7C-873533E11F5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A913B915-F0F7-45D2-B0CA-4BF4D355283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21BB81AB-D193-44FD-BFC2-70E08764CB2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CADA3E9D-F270-4668-A520-947E5BE236B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A79712D3-A66A-4A1F-99FE-1C75599A222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56635DC6-F5CC-410D-AA36-461EAB0B13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DC5EE8A5-68C1-4411-B541-9EE7DEA1AAE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670DCE0E-E006-4539-B1A5-382880E14C4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5912EB36-5A67-4A39-98FC-FB7B8C3A55B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7AF9BA21-092C-4E54-811F-2E0EAA1CB9A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4A32FA6B-1C28-4DA6-99D1-5D1E06AFB7E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737546E3-F795-4A64-9A81-01EE45A79BC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8E6F630-B24D-46E4-AD39-A66FEFA3E8C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6C15974D-79D4-40B2-AE4E-449564D6C5B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B38930DB-EAB0-45CD-AD3A-F5767A7DA6C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3626B0DB-ACDF-4743-AF0B-E6BE52786CC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B9FB4CE0-FCCF-43D0-9DD7-8FEF730811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368C9574-604E-49C4-8EF4-0D1EE623A92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50267AFE-F1C9-4F40-8968-8C77CB85342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8213DF80-81B0-4317-A598-F77C555313E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1FD1B161-BD6E-44D3-8734-5629267C59F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24EEDC9C-1C0A-463E-A7C4-A5F8351D90B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1EB1E379-DB9D-4D96-8535-60D15DFF299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7CA7C1A3-E496-430D-B484-564E90F7ECF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CA28075C-5165-4892-9082-75FB528A64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47E1EE-5D54-41C4-B7FB-5BD2A8BFD6FD}"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7297CD-AEE6-41FE-BFB9-134C303DBCD5}" type="datetime3">
              <a:rPr b="0" lang="en-US" sz="1500" spc="-1" strike="noStrike">
                <a:solidFill>
                  <a:srgbClr val="ffffff"/>
                </a:solidFill>
                <a:latin typeface="Verdana"/>
              </a:rPr>
              <a:t>July 30,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AE831E-AE45-4DF4-9DD2-0B9BE617C3CE}"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AEC1EE-8FD8-4BA9-93B7-12783EF3A134}"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B3E3F0-4E08-4A5F-A4B2-97CD92E33BF4}"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4163D1-8826-4A15-B4CD-8E0D92B86262}"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75B730-B61D-4984-814D-6BB66B3755B5}"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9459F7-C347-46FD-9A2F-E0647BD5AE31}"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