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CF4552-D0AE-4B1B-9793-889FD20B41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055D995B-19A3-4DC5-8954-E5BB291132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E8509C45-5289-4166-B054-E0E7B6AA79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E0D97E8C-E307-4470-A141-F96E4226B7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416F8640-ADFC-425A-B661-80E5FB07F7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E431E7C-941F-4A21-8391-B83ED71B415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AB22F8A9-07BD-4D11-B194-C307F4C5056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9ADE369C-57AB-468E-B9E3-4114A587BB0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9635FEDB-8FEE-46B8-861C-ED6598060E2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669C7D6D-51BC-4C17-A595-8503A9A02D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A0ACCF9E-CB19-4C4A-8625-E21494E4D36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9FAE6F5B-B376-4D59-8913-9CC58644C74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26E7CEC7-83AC-42F8-A31B-86BDEE21BDB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41382F28-0DEB-4E1E-8285-04F3FBEB322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14E47A3F-EB81-4D80-9EC2-CEEC7E5ADEC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926A1B8A-4682-400C-BB80-65A61324745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0BCCD936-A84A-430A-98AE-CB483AE1B1F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7E1AD905-8AF4-41BF-8911-9D17CA54B16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84478C5-6EA5-4C60-9245-D2D2C21508C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30C57F22-796B-4972-95FA-7F2B1088EB9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7186ECB0-E2FA-416C-B790-3B8BB82BE4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0A88DA08-5B4F-49FD-BDBF-C262A0E732D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B3D14AE7-4194-4463-818E-8DE2B18CB2B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0D2474BF-8581-48F1-8F3E-595E9E8D94D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E3A2A658-0AE1-4C1F-9FDA-15A23F98CB1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42F6DAF1-7C52-4609-8A75-787A5172158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32C92A4B-4246-4320-A301-A22060BF293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5F4F7493-D72E-4501-80B9-A6D401897DF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D761AA89-A77E-4A50-8789-5B0C203885B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8D8B04F4-4F83-4AEF-8BCC-AAFA0069DB0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359BE5C2-AB9F-421F-8509-D347859F952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743C0D-0A89-4851-A5EA-3A9FF68BD5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D29A84AB-17E7-4973-B771-26E78E76B65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CBECC0CB-1220-4141-B0D0-5B1263AC854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0815D114-D287-4E39-8DB4-9BA36F55C31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F0F59EEE-B5CF-4CD5-88E9-DD81104C9E7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00A71A86-AF18-4CE0-962A-527B3A1CB37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FA4C0BF4-19ED-441C-BE66-140E89E0920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11E8426D-F415-4778-A6EE-96466F702E8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AF4290DE-BE6A-4341-9C2F-080F143B4D3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346783CF-A0C6-4148-85A2-193B48B8D8D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395FAE13-41AE-4419-8EDD-9880634FC29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58093AE3-DB8A-467E-BB41-89369B9844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AAB33C0D-C30F-4A5F-87D0-5914F4B60B6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B0D5CAA3-D135-4BE1-990D-901C1960D98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4D160BF-6B35-421B-B3C6-E8C3420555A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D5FE2F56-D6D4-418B-AE7D-3CB4B36CF8C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75B08C9E-1A44-4B00-8733-47317D8DDBE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7FAED337-8E57-4B8C-A439-CF4912979CA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3F09B8EE-4E77-46C2-BFEF-A1726536577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EDA3C01C-BE8D-4B45-9135-96FEEB42D54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E6B15D4B-BEC7-4177-BA19-A870E2B3FE2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E12238D7-5CC3-47BB-9C8C-0B9B9CB61E2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DBC28570-1966-47EF-9BF3-9ECB36768E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7BC24385-DF10-48D3-BA01-18DF20F8B13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53F9EEED-0851-4A85-973C-C63F3AF8BA0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558143FD-07AB-44CA-83CD-2A9498D981E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2295ABFC-54BB-48CD-9F1D-5DF43C902B6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5304F36-F49D-4289-A99B-5C8AB755CD0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06A2A8C6-7A40-4699-AEDB-72114C3374E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E0E4B004-29EE-4E3D-8B33-0C101F705D0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2711A89D-B31C-410A-BF39-6528AF347CA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6ACFF5AE-FB5B-4599-A2B5-7C78D3DA443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3C36A441-79E2-4750-AA8D-A542EB1414A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A8375DC1-1424-4853-BD59-130A9F1E37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BE941ACB-40B3-43E0-BDA6-4A0D07F7E53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A313C1AF-BFEA-440D-B3FE-0B5E5DF7F6B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F8F6601C-4C47-4E0F-B9E1-71E234CF4F6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F0B19155-030F-43A0-B7D8-E1955B90E5D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588B5AFB-D8E7-449D-A897-9C9C68712FD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E31C1774-1884-4CCA-9232-E6F223709BC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954CA9A-3769-4792-B822-7DA7AD4722A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614B6C4F-E36D-4706-A7AA-0EDC8518DFC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0215EC7B-6ADF-43F1-B5F1-D58679CB31B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A57F96A9-B467-4CBB-9364-60D882FD44C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5DC3AB9F-B7EF-4764-ACC7-EC411DD146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7978134C-DB64-414D-B748-E4FC3E3D8CE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A52C52B6-FF2B-46B2-9675-5E2CEA62906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72A3E36E-9025-4A4B-852A-037705258F6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6B5F16D8-8450-441C-B967-FDEB62AA946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7518A7C4-C9D0-4C54-938C-B599550F080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E6DF8B8D-F266-43FF-8A23-9497675FE1A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452E0CE4-2409-4FD0-8B23-E3B9ACD6EBD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2B83408A-BA45-4E3F-9096-33B330DBF7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322F79-EA26-4DC7-B8CF-43ACABE59AEF}"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D1B4A4-0F12-465D-9709-A0A11283CED9}" type="datetime3">
              <a:rPr b="0" lang="en-US" sz="1500" spc="-1" strike="noStrike">
                <a:solidFill>
                  <a:srgbClr val="ffffff"/>
                </a:solidFill>
                <a:latin typeface="Verdana"/>
              </a:rPr>
              <a:t>July 28,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BDC161-C1FF-4B5D-9AD0-82C48C8C5C2D}"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C7E100-2104-436E-8194-D05DDB5587CA}"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FC493C-F38D-4CCE-B983-3D09A8015505}"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FECAE8-8453-4575-BD2B-51FDF71194F0}"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3412BC-C805-4EC5-B0F4-D9A9DFD71D88}"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5E68EE-D057-49AF-B888-97E1E9243CCB}"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