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1.wmf" ContentType="image/x-wmf"/>
  <Override PartName="/ppt/media/image8.jpeg" ContentType="image/jpeg"/>
  <Override PartName="/ppt/media/image13.jpeg" ContentType="image/jpe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1"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4"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5"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602393-3BE4-4FC8-845B-BDD13E412F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95A59A-01B4-4870-AFC0-9417918F2147}"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18E56F-CFEB-4247-81C7-C4A63D23C91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000 Rice Genomes Project, a collaborative effort made up of the Chinese Academy of Agricultural Sciences (CAAS), the International Rice Research Institute (IRRI), and BGI, and is funded by the Bill and Melinda Gates Foundation and the Chinese Ministry of Science and Technology</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C10D0D-EC13-4150-8C97-660208E191F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ED3E2-9657-4D3F-95CE-CE3D5D20C8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8206F-617F-49D9-A91F-D97F0FB5C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816D842-5C52-4327-8D80-B028F009FF6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63FF898-D4D9-4654-882A-5849D0CF09F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211D0F1-7915-49B2-8933-A17C797529E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637DB56-0604-48EF-A0B0-252BE850965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9272924-708E-465C-88D6-462B7AD49BE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9BAA085-2107-4222-A4CA-A9488DF4671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EBD1B09-A154-48A6-9E26-8EFB0825636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E799B2E5-45B3-4402-A9CE-54D021AC17FF}"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5F798A7A-FF40-406A-873E-074E9E110841}"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07C3778-D552-4E84-AEDB-8DA5FAE2D10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2F779A-80AD-4427-9DFC-EFC34A7881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A4B8E10-BADF-4255-BCC9-62DF15FFF76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BC346C9-328C-4812-8A10-63F8D8F4582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CD433D1-3F07-4BF6-B8E0-AD2C754E262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7D9A728-280E-4D10-884A-D5B94708314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5FA2FC6-05B8-4AAC-BFB7-0E3D6C0F2B1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1EBD776-D15F-47DF-BF2F-EC472C0D99D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A5A89B8-1F43-4DA7-B9DB-427C7FB9F4E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391B2B0-F7D8-4CD2-8AEC-59E37274226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ADFFD4A-7BC4-4C0B-A533-22234C55F10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88650EB-3025-4EE2-9495-170EE31C12D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758F3C-B4D8-4D81-9AF9-73CCA29A49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C917D7C-6373-4E79-BE28-ED1A67D2F68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80EF08-F688-41DB-8DA8-A68649DE66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CACFF4-31DC-47D7-91E6-CFBE1A91CB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AA2632-25C0-4794-B6D6-CA3E0CCC50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4E85D4-3644-4EB4-8E93-A8C667A602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E7CDB5-6402-4E1D-BB66-D2E2B35C94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574C7E-8DB4-4A2A-BB47-A4EA943DE1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3F9BC2-1654-437F-B59A-E9394FECBB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1BBD9-AA11-4112-BF80-23609C191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1AF6C-3527-4D69-951E-A01DE68AD3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9A55D1-C636-4CDD-A027-2804831EB0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59C4C3-1579-4BC9-B524-7F58255637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60AFBA-8F32-4DFC-B9F2-BCC8854ADB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89C9FE-1965-4F26-9F37-1FFA172859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9C3824-EED1-49AE-8C21-5E41A6145B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C19725-A1BD-4214-9DF7-0C30E871FB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034632-2CF1-4D29-9D5C-D77EF7E00A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4BC291-A652-4118-B64D-D6F77ADC3C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6F6AC7-DB69-4153-856C-DF79BA643A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9151F-0DB2-43C8-972D-46B47880B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F60620-52B9-4256-8890-E3F0F289A6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EBDAEF-20FC-4EB2-A101-5340FE2D9F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07C9D6-0A43-4B10-8285-BFE220D91F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AB733E-CEB2-4541-861A-56188F1735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38B0C7-8371-4BF3-8F82-0C79BCC9CF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23C8A5-11D7-43A7-A4B9-9D9D2E9F18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A3FD87-0B59-459D-90DC-5E4F770C3D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D7AD77-599D-4EF2-BB67-6370505C93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89D515-9061-4D62-9575-0532AE4B3B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162C1E-DF35-4627-8C80-38C3A80317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C94ED-49F4-43D2-859F-4A0C6E0DD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308852-DCAF-48D2-9CC8-7564A8AE4C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EA8015-6E1E-40BB-9EF9-D6EE8BB145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255443-49AE-4D20-95A6-90B3594671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7738F4-F0F3-4547-9ED9-789850B146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4B79B4-2C62-4AAB-8622-E8B0EF091C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6CD651-3B28-4283-B318-FAB8390A68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E58D91-E468-4B3F-B4A0-1D54D9168E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0EBD2F-8893-4B06-9166-CEC71F63C1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14FBF0-0A30-4745-8618-5719A620A1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DB97B56-B570-44FC-9D3B-E0D6826D223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6F74E-6B50-4BF1-8537-9341E3DEC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E542A21-FE5F-43C5-B7F1-57CE9B3D290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70D84B9-2C4C-4EFD-B458-80E86BD3782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44C6D6E-B049-42A7-A795-A1CD55B4914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308DED9-A7D8-4013-9C36-5DD8DB9D7E1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F029E78-9CA4-474D-91CB-01C47C956B5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2424148-8EC8-4560-8D1A-66307F1D3BE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4D4A311-7E13-4B0A-B6D9-BB54ED17BE5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C41F064-0CF1-4138-A072-DA9FA29B41B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2970832-BFBE-4B4F-8A7C-2C3E43DC5C0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255822A-3FE2-4EE9-BB74-B81551956EAB}"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F78B03-6892-4803-916B-EC3EDFED4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B913156-5D20-4727-8240-9D25C86A91D7}"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2B866B5D-0CA6-4E88-9C4E-79E4633C994A}"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1450495-59F7-4090-B416-01539DC711E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31B79B2-FE4F-42E1-AAFB-871252846E1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321504F-9B70-4B2A-8302-43AF0BE6E79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E7E50D8-1360-4BAE-9E3E-8C0D5E912C3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5952EAF-68BC-447E-91D3-9DB54A2EEA5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93FF2F8-252A-40B1-A983-BBBBAF26A85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C5CC790-A5FF-4ADD-B5BA-C6DBB8EF48A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040E8E2-2293-4D58-A5B3-AF813D74AE1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7D276-B638-4114-8085-7A06F853D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BE63A4D-A0CE-43DE-A295-CEC4FDAC8B1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995E7198-D9B6-4201-A971-B13F9752392A}"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C00C4C6C-E270-4E23-9CD6-99E88C9BE5A0}"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730B619-90BD-48BD-85CD-F8DFF9AC5A6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EC64DA-03D4-40D9-A722-92D6534B94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555F8F-E7CC-4231-AC66-2F1B238AEE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5AE6A8-1540-4835-8014-646238E1DB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98B8C4-8D98-4D83-A7D5-41F90BA1DB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038012-DC8C-47E1-B374-1D61406E04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083F86-F983-4ED5-B3E9-CB32BE74DB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18C82-E248-4F89-98FB-50B958800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AC5385-B8AA-44E1-AE02-5394012665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AF8B35-24A3-4CF6-BEE3-3D1AA987BD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AEA202-5637-4C23-85DD-3009847421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0003FA8-AE1B-4D84-8FCA-024C523F287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C53A2F4-7185-46B6-A302-3C2EC4EA375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7D46B16-08BE-4A98-BA36-7A426CE1043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3D44A9-CB15-48B0-9843-659D395CEB9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18F5AE-4CC0-4D6C-80F9-390F43E73C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CAE744-309F-42B4-B5CB-5C681B292B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01FEA5-8D63-4667-A57F-AB6607DBC1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BE48B-9BDF-436F-BAE8-EBFA8588B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D1C3FD-A9F8-42D6-A084-2292A6D0F7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B757AD-8B38-4F0C-9410-2824B33A2C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3C5B8C-CE94-44BB-9933-1A0B45DE35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DC48DC-E6B1-4BE9-BE86-4C2A134B31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8A0F7A-0920-417B-B1F9-F36B552F12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42FA5AF-4CC7-46FD-8B41-96F2D1CF56B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ADAAE0C-F661-4D86-8137-FB78637D17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98C1882-9557-4297-B02E-8127833C1E4F}"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3C3699E-1615-48E8-B470-0C2A1A2A383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DE0B9D6-EDF4-440C-B69A-A56A3DCB7A7D}"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6A0EF7-3EB8-4E93-A4B1-4AEB44AEDC1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Picture 6" descr="Wrangler-Preview-4x3-footer.jpg"/>
          <p:cNvPicPr/>
          <p:nvPr/>
        </p:nvPicPr>
        <p:blipFill>
          <a:blip r:embed="rId2"/>
          <a:stretch/>
        </p:blipFill>
        <p:spPr>
          <a:xfrm>
            <a:off x="-1440" y="4535640"/>
            <a:ext cx="9159840" cy="2384280"/>
          </a:xfrm>
          <a:prstGeom prst="rect">
            <a:avLst/>
          </a:prstGeom>
          <a:ln w="0">
            <a:noFill/>
          </a:ln>
        </p:spPr>
      </p:pic>
      <p:pic>
        <p:nvPicPr>
          <p:cNvPr id="386" name="Picture 7" descr="TACC_logo_vector-thick.png"/>
          <p:cNvPicPr/>
          <p:nvPr/>
        </p:nvPicPr>
        <p:blipFill>
          <a:blip r:embed="rId3"/>
          <a:stretch/>
        </p:blipFill>
        <p:spPr>
          <a:xfrm>
            <a:off x="249120" y="208080"/>
            <a:ext cx="1482840" cy="387360"/>
          </a:xfrm>
          <a:prstGeom prst="rect">
            <a:avLst/>
          </a:prstGeom>
          <a:ln w="0">
            <a:noFill/>
          </a:ln>
        </p:spPr>
      </p:pic>
      <p:pic>
        <p:nvPicPr>
          <p:cNvPr id="387" name="Picture 8" descr="UTwordmark2012Stack_HEX.jpg"/>
          <p:cNvPicPr/>
          <p:nvPr/>
        </p:nvPicPr>
        <p:blipFill>
          <a:blip r:embed="rId4"/>
          <a:stretch/>
        </p:blipFill>
        <p:spPr>
          <a:xfrm>
            <a:off x="7772400" y="176040"/>
            <a:ext cx="1054080" cy="460440"/>
          </a:xfrm>
          <a:prstGeom prst="rect">
            <a:avLst/>
          </a:prstGeom>
          <a:ln w="0">
            <a:noFill/>
          </a:ln>
        </p:spPr>
      </p:pic>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3"/>
          <p:cNvSpPr>
            <a:spLocks noGrp="1"/>
          </p:cNvSpPr>
          <p:nvPr>
            <p:ph type="dt" idx="28"/>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91" name="PlaceHolder 4"/>
          <p:cNvSpPr>
            <a:spLocks noGrp="1"/>
          </p:cNvSpPr>
          <p:nvPr>
            <p:ph type="ftr" idx="29"/>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2" name="PlaceHolder 5"/>
          <p:cNvSpPr>
            <a:spLocks noGrp="1"/>
          </p:cNvSpPr>
          <p:nvPr>
            <p:ph type="sldNum" idx="30"/>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F7575F-A1EB-414F-B490-C0A91075B27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Wrangler-Preview-4x3-footer.jpg"/>
          <p:cNvPicPr/>
          <p:nvPr/>
        </p:nvPicPr>
        <p:blipFill>
          <a:blip r:embed="rId2"/>
          <a:stretch/>
        </p:blipFill>
        <p:spPr>
          <a:xfrm>
            <a:off x="-1440" y="4535640"/>
            <a:ext cx="9159840" cy="2384280"/>
          </a:xfrm>
          <a:prstGeom prst="rect">
            <a:avLst/>
          </a:prstGeom>
          <a:ln w="0">
            <a:noFill/>
          </a:ln>
        </p:spPr>
      </p:pic>
      <p:pic>
        <p:nvPicPr>
          <p:cNvPr id="42" name="Picture 7" descr="TACC_logo_vector-thick.png"/>
          <p:cNvPicPr/>
          <p:nvPr/>
        </p:nvPicPr>
        <p:blipFill>
          <a:blip r:embed="rId3"/>
          <a:stretch/>
        </p:blipFill>
        <p:spPr>
          <a:xfrm>
            <a:off x="249120" y="208080"/>
            <a:ext cx="1482840" cy="387360"/>
          </a:xfrm>
          <a:prstGeom prst="rect">
            <a:avLst/>
          </a:prstGeom>
          <a:ln w="0">
            <a:noFill/>
          </a:ln>
        </p:spPr>
      </p:pic>
      <p:pic>
        <p:nvPicPr>
          <p:cNvPr id="43" name="Picture 8" descr="UTwordmark2012Stack_HEX.jpg"/>
          <p:cNvPicPr/>
          <p:nvPr/>
        </p:nvPicPr>
        <p:blipFill>
          <a:blip r:embed="rId4"/>
          <a:stretch/>
        </p:blipFill>
        <p:spPr>
          <a:xfrm>
            <a:off x="7772400" y="176040"/>
            <a:ext cx="1054080" cy="4604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E39EB4-B9E3-4FF4-BCAC-098D3D94F80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Wrangler-Preview-Hat-alone.jpg"/>
          <p:cNvPicPr/>
          <p:nvPr/>
        </p:nvPicPr>
        <p:blipFill>
          <a:blip r:embed="rId2"/>
          <a:stretch/>
        </p:blipFill>
        <p:spPr>
          <a:xfrm>
            <a:off x="6375240" y="5124600"/>
            <a:ext cx="2768760" cy="1733400"/>
          </a:xfrm>
          <a:prstGeom prst="rect">
            <a:avLst/>
          </a:prstGeom>
          <a:ln w="0">
            <a:noFill/>
          </a:ln>
        </p:spPr>
      </p:pic>
      <p:pic>
        <p:nvPicPr>
          <p:cNvPr id="86" name="Picture 7" descr="TACC_logo_vector-thick.png"/>
          <p:cNvPicPr/>
          <p:nvPr/>
        </p:nvPicPr>
        <p:blipFill>
          <a:blip r:embed="rId3"/>
          <a:stretch/>
        </p:blipFill>
        <p:spPr>
          <a:xfrm>
            <a:off x="357120" y="6319800"/>
            <a:ext cx="1481040" cy="38592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PlaceHolder 5"/>
          <p:cNvSpPr>
            <a:spLocks noGrp="1"/>
          </p:cNvSpPr>
          <p:nvPr>
            <p:ph type="sldNum" idx="9"/>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3C3E54-AD59-46C5-87F2-CCA794D42F3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6" descr="Wrangler-Preview-4x3-footer.jpg"/>
          <p:cNvPicPr/>
          <p:nvPr/>
        </p:nvPicPr>
        <p:blipFill>
          <a:blip r:embed="rId2"/>
          <a:stretch/>
        </p:blipFill>
        <p:spPr>
          <a:xfrm>
            <a:off x="-1440" y="4535640"/>
            <a:ext cx="9159840" cy="2384280"/>
          </a:xfrm>
          <a:prstGeom prst="rect">
            <a:avLst/>
          </a:prstGeom>
          <a:ln w="0">
            <a:noFill/>
          </a:ln>
        </p:spPr>
      </p:pic>
      <p:pic>
        <p:nvPicPr>
          <p:cNvPr id="129" name="Picture 7" descr="TACC_logo_vector-thick.png"/>
          <p:cNvPicPr/>
          <p:nvPr/>
        </p:nvPicPr>
        <p:blipFill>
          <a:blip r:embed="rId3"/>
          <a:stretch/>
        </p:blipFill>
        <p:spPr>
          <a:xfrm>
            <a:off x="249120" y="208080"/>
            <a:ext cx="1482840" cy="387360"/>
          </a:xfrm>
          <a:prstGeom prst="rect">
            <a:avLst/>
          </a:prstGeom>
          <a:ln w="0">
            <a:noFill/>
          </a:ln>
        </p:spPr>
      </p:pic>
      <p:pic>
        <p:nvPicPr>
          <p:cNvPr id="130" name="Picture 8" descr="UTwordmark2012Stack_HEX.jpg"/>
          <p:cNvPicPr/>
          <p:nvPr/>
        </p:nvPicPr>
        <p:blipFill>
          <a:blip r:embed="rId4"/>
          <a:stretch/>
        </p:blipFill>
        <p:spPr>
          <a:xfrm>
            <a:off x="7772400" y="176040"/>
            <a:ext cx="1054080" cy="46044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5" name="PlaceHolder 5"/>
          <p:cNvSpPr>
            <a:spLocks noGrp="1"/>
          </p:cNvSpPr>
          <p:nvPr>
            <p:ph type="sldNum" idx="12"/>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59B477-2229-4DE5-8837-A27C5E991EB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6" descr="Wrangler-Preview-Hat-alone.jpg"/>
          <p:cNvPicPr/>
          <p:nvPr/>
        </p:nvPicPr>
        <p:blipFill>
          <a:blip r:embed="rId2"/>
          <a:stretch/>
        </p:blipFill>
        <p:spPr>
          <a:xfrm>
            <a:off x="6375240" y="5124600"/>
            <a:ext cx="2768760" cy="1733400"/>
          </a:xfrm>
          <a:prstGeom prst="rect">
            <a:avLst/>
          </a:prstGeom>
          <a:ln w="0">
            <a:noFill/>
          </a:ln>
        </p:spPr>
      </p:pic>
      <p:pic>
        <p:nvPicPr>
          <p:cNvPr id="173" name="Picture 7" descr="TACC_logo_vector-thick.png"/>
          <p:cNvPicPr/>
          <p:nvPr/>
        </p:nvPicPr>
        <p:blipFill>
          <a:blip r:embed="rId3"/>
          <a:stretch/>
        </p:blipFill>
        <p:spPr>
          <a:xfrm>
            <a:off x="357120" y="6319800"/>
            <a:ext cx="1481040" cy="38592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PlaceHolder 4"/>
          <p:cNvSpPr>
            <a:spLocks noGrp="1"/>
          </p:cNvSpPr>
          <p:nvPr>
            <p:ph type="sldNum" idx="14"/>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A7F51E-5419-425C-B5F8-6C52549AD57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78" name="PlaceHolder 5"/>
          <p:cNvSpPr>
            <a:spLocks noGrp="1"/>
          </p:cNvSpPr>
          <p:nvPr>
            <p:ph type="dt" idx="15"/>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6" descr="Wrangler-Preview-Hat-alone.jpg"/>
          <p:cNvPicPr/>
          <p:nvPr/>
        </p:nvPicPr>
        <p:blipFill>
          <a:blip r:embed="rId2"/>
          <a:stretch/>
        </p:blipFill>
        <p:spPr>
          <a:xfrm>
            <a:off x="6375240" y="5124600"/>
            <a:ext cx="2768760" cy="1733400"/>
          </a:xfrm>
          <a:prstGeom prst="rect">
            <a:avLst/>
          </a:prstGeom>
          <a:ln w="0">
            <a:noFill/>
          </a:ln>
        </p:spPr>
      </p:pic>
      <p:pic>
        <p:nvPicPr>
          <p:cNvPr id="216" name="Picture 7" descr="TACC_logo_vector-thick.png"/>
          <p:cNvPicPr/>
          <p:nvPr/>
        </p:nvPicPr>
        <p:blipFill>
          <a:blip r:embed="rId3"/>
          <a:stretch/>
        </p:blipFill>
        <p:spPr>
          <a:xfrm>
            <a:off x="357120" y="6319800"/>
            <a:ext cx="1481040" cy="38592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0" name="PlaceHolder 4"/>
          <p:cNvSpPr>
            <a:spLocks noGrp="1"/>
          </p:cNvSpPr>
          <p:nvPr>
            <p:ph type="sldNum" idx="17"/>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90A894-C9CF-485E-884F-F2C0B64EF72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21" name="PlaceHolder 5"/>
          <p:cNvSpPr>
            <a:spLocks noGrp="1"/>
          </p:cNvSpPr>
          <p:nvPr>
            <p:ph type="dt" idx="18"/>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6" descr="Wrangler-Preview-4x3-footer.jpg"/>
          <p:cNvPicPr/>
          <p:nvPr/>
        </p:nvPicPr>
        <p:blipFill>
          <a:blip r:embed="rId2"/>
          <a:stretch/>
        </p:blipFill>
        <p:spPr>
          <a:xfrm>
            <a:off x="-1440" y="4535640"/>
            <a:ext cx="9159840" cy="2384280"/>
          </a:xfrm>
          <a:prstGeom prst="rect">
            <a:avLst/>
          </a:prstGeom>
          <a:ln w="0">
            <a:noFill/>
          </a:ln>
        </p:spPr>
      </p:pic>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3"/>
          <p:cNvSpPr>
            <a:spLocks noGrp="1"/>
          </p:cNvSpPr>
          <p:nvPr>
            <p:ph type="dt" idx="19"/>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2" name="PlaceHolder 4"/>
          <p:cNvSpPr>
            <a:spLocks noGrp="1"/>
          </p:cNvSpPr>
          <p:nvPr>
            <p:ph type="ftr" idx="20"/>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3" name="PlaceHolder 5"/>
          <p:cNvSpPr>
            <a:spLocks noGrp="1"/>
          </p:cNvSpPr>
          <p:nvPr>
            <p:ph type="sldNum" idx="21"/>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7578E0-4D79-4895-8CA1-2EF830938BF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6" descr="Wrangler-Preview-4x3-footer.jpg"/>
          <p:cNvPicPr/>
          <p:nvPr/>
        </p:nvPicPr>
        <p:blipFill>
          <a:blip r:embed="rId2"/>
          <a:stretch/>
        </p:blipFill>
        <p:spPr>
          <a:xfrm>
            <a:off x="-1440" y="4535640"/>
            <a:ext cx="9159840" cy="2384280"/>
          </a:xfrm>
          <a:prstGeom prst="rect">
            <a:avLst/>
          </a:prstGeom>
          <a:ln w="0">
            <a:noFill/>
          </a:ln>
        </p:spPr>
      </p:pic>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3"/>
          <p:cNvSpPr>
            <a:spLocks noGrp="1"/>
          </p:cNvSpPr>
          <p:nvPr>
            <p:ph type="dt" idx="22"/>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5" name="PlaceHolder 5"/>
          <p:cNvSpPr>
            <a:spLocks noGrp="1"/>
          </p:cNvSpPr>
          <p:nvPr>
            <p:ph type="sldNum" idx="24"/>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6D852F-2269-45A2-B215-77E548159A7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Picture 6" descr="Wrangler-Preview-Hat-alone.jpg"/>
          <p:cNvPicPr/>
          <p:nvPr/>
        </p:nvPicPr>
        <p:blipFill>
          <a:blip r:embed="rId2"/>
          <a:stretch/>
        </p:blipFill>
        <p:spPr>
          <a:xfrm>
            <a:off x="6375240" y="5124600"/>
            <a:ext cx="2768760" cy="1733400"/>
          </a:xfrm>
          <a:prstGeom prst="rect">
            <a:avLst/>
          </a:prstGeom>
          <a:ln w="0">
            <a:noFill/>
          </a:ln>
        </p:spPr>
      </p:pic>
      <p:pic>
        <p:nvPicPr>
          <p:cNvPr id="343" name="Picture 7" descr="TACC_logo_vector-thick.png"/>
          <p:cNvPicPr/>
          <p:nvPr/>
        </p:nvPicPr>
        <p:blipFill>
          <a:blip r:embed="rId3"/>
          <a:stretch/>
        </p:blipFill>
        <p:spPr>
          <a:xfrm>
            <a:off x="357120" y="6319800"/>
            <a:ext cx="1481040" cy="385920"/>
          </a:xfrm>
          <a:prstGeom prst="rect">
            <a:avLst/>
          </a:prstGeom>
          <a:ln w="0">
            <a:noFill/>
          </a:ln>
        </p:spPr>
      </p:pic>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6" name="PlaceHolder 3"/>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PlaceHolder 4"/>
          <p:cNvSpPr>
            <a:spLocks noGrp="1"/>
          </p:cNvSpPr>
          <p:nvPr>
            <p:ph type="sldNum" idx="26"/>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23837C-CB32-4DB6-9044-320C4475300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48" name="PlaceHolder 5"/>
          <p:cNvSpPr>
            <a:spLocks noGrp="1"/>
          </p:cNvSpPr>
          <p:nvPr>
            <p:ph type="dt" idx="2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257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r</a:t>
            </a:r>
            <a:endParaRPr b="0" lang="en-US" sz="4400" spc="-1" strike="noStrike">
              <a:solidFill>
                <a:srgbClr val="000000"/>
              </a:solidFill>
              <a:latin typeface="Calibri"/>
            </a:endParaRPr>
          </a:p>
        </p:txBody>
      </p:sp>
      <p:sp>
        <p:nvSpPr>
          <p:cNvPr id="437" name="PlaceHolder 2"/>
          <p:cNvSpPr>
            <a:spLocks noGrp="1"/>
          </p:cNvSpPr>
          <p:nvPr>
            <p:ph type="subTitle"/>
          </p:nvPr>
        </p:nvSpPr>
        <p:spPr>
          <a:xfrm>
            <a:off x="990720" y="3886200"/>
            <a:ext cx="7315200" cy="1752480"/>
          </a:xfrm>
          <a:prstGeom prst="rect">
            <a:avLst/>
          </a:prstGeom>
          <a:noFill/>
          <a:ln w="0">
            <a:noFill/>
          </a:ln>
        </p:spPr>
        <p:txBody>
          <a:bodyPr anchor="t">
            <a:noAutofit/>
          </a:bodyPr>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Niall Gaffney (TACC Directory of Data Intensive Computing)</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Dan Stanzione, Christopher Jordan, Tommy Minyard (TACC)</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Craig Stewart (IU)</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Ian Foster (U. Chicag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SSD Storage</a:t>
            </a:r>
            <a:endParaRPr b="0" lang="en-US" sz="4400" spc="-1" strike="noStrike">
              <a:solidFill>
                <a:srgbClr val="000000"/>
              </a:solidFill>
              <a:latin typeface="Calibri"/>
            </a:endParaRPr>
          </a:p>
        </p:txBody>
      </p:sp>
      <p:sp>
        <p:nvSpPr>
          <p:cNvPr id="4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DSSD Storage is not SSD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Flash Storage system connected to hosts via PCI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720 TB of raw flash storage with RAID structure presenting 500 TB usable storage to entir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tal throughput of 1 TB/s and 250 million IOPS shared across 96 nodes (~64 x Stampede’s per node performanc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ree modes of Flash Storag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lock Device for POSIX file system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ve HDFS fil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ject Store (Keyword, Object pair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All nodes connected to all storag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Node level access controls</a:t>
            </a:r>
            <a:r>
              <a:rPr b="1" lang="en-US" sz="2700" spc="-1" strike="noStrike">
                <a:solidFill>
                  <a:srgbClr val="000000"/>
                </a:solidFill>
                <a:latin typeface="Calibri"/>
              </a:rPr>
              <a:t> </a:t>
            </a:r>
            <a:endParaRPr b="0" lang="en-US" sz="2700" spc="-1" strike="noStrike">
              <a:solidFill>
                <a:srgbClr val="000000"/>
              </a:solidFill>
              <a:latin typeface="Calibri"/>
            </a:endParaRPr>
          </a:p>
        </p:txBody>
      </p:sp>
      <p:pic>
        <p:nvPicPr>
          <p:cNvPr id="465" name="Picture 3" descr="IMG_0965.jpg"/>
          <p:cNvPicPr/>
          <p:nvPr/>
        </p:nvPicPr>
        <p:blipFill>
          <a:blip r:embed="rId1"/>
          <a:stretch/>
        </p:blipFill>
        <p:spPr>
          <a:xfrm>
            <a:off x="59436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A Flexible Environment</a:t>
            </a:r>
            <a:endParaRPr b="0" lang="en-US" sz="44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al-time data ingest/processing capabilities at two si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upport for MPI and HDFS based parallelism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Providing a real-time scalable Hadoop environ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ystem optimized R, Python with parallelis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ftware stack support for domain specific software (e.g. genomic tools, LIGO, LH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Workflows can easily leverage resources at TACC Maverick (interactive visualization) and Stampede via the shared global work file system at TAC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DBMS and noSQL based database storage for structured and semi-structured da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Services</a:t>
            </a:r>
            <a:endParaRPr b="0" lang="en-US" sz="4400" spc="-1" strike="noStrike">
              <a:solidFill>
                <a:srgbClr val="000000"/>
              </a:solidFill>
              <a:latin typeface="Calibri"/>
            </a:endParaRPr>
          </a:p>
        </p:txBody>
      </p:sp>
      <p:sp>
        <p:nvSpPr>
          <p:cNvPr id="4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loying many </a:t>
            </a:r>
            <a:r>
              <a:rPr b="1" lang="en-US" sz="2700" spc="-1" strike="noStrike">
                <a:solidFill>
                  <a:srgbClr val="000000"/>
                </a:solidFill>
                <a:latin typeface="Calibri"/>
              </a:rPr>
              <a:t>Day 1 services </a:t>
            </a:r>
            <a:r>
              <a:rPr b="0" lang="en-US" sz="2700" spc="-1" strike="noStrike">
                <a:solidFill>
                  <a:srgbClr val="000000"/>
                </a:solidFill>
                <a:latin typeface="Calibri"/>
              </a:rPr>
              <a:t>for what we already offer and expanding services as demand appear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abases (</a:t>
            </a:r>
            <a:r>
              <a:rPr b="1" lang="en-US" sz="2400" spc="-1" strike="noStrike">
                <a:solidFill>
                  <a:srgbClr val="000000"/>
                </a:solidFill>
                <a:latin typeface="Calibri"/>
              </a:rPr>
              <a:t>mySQL, postgreSQL, Mongo</a:t>
            </a:r>
            <a:r>
              <a:rPr b="0" lang="en-US" sz="2400" spc="-1" strike="noStrike">
                <a:solidFill>
                  <a:srgbClr val="000000"/>
                </a:solidFill>
                <a:latin typeface="Calibri"/>
              </a:rPr>
              <a:t>, Monet, Hive, Impal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adoop </a:t>
            </a:r>
            <a:r>
              <a:rPr b="1" lang="en-US" sz="2400" spc="-1" strike="noStrike">
                <a:solidFill>
                  <a:srgbClr val="000000"/>
                </a:solidFill>
                <a:latin typeface="Calibri"/>
              </a:rPr>
              <a:t>MapReduce</a:t>
            </a:r>
            <a:r>
              <a:rPr b="0" lang="en-US" sz="2400" spc="-1" strike="noStrike">
                <a:solidFill>
                  <a:srgbClr val="000000"/>
                </a:solidFill>
                <a:latin typeface="Calibri"/>
              </a:rPr>
              <a:t>, Spark, Mahoo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tainers, Docker.io, Meso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postGIS, Rstats, Python/iPyth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iRODS storage (tickets, iDrop interfac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utocurration in iRODS </a:t>
            </a:r>
            <a:r>
              <a:rPr b="0" lang="en-US" sz="2400" spc="-1" strike="noStrike">
                <a:solidFill>
                  <a:srgbClr val="000000"/>
                </a:solidFill>
                <a:latin typeface="Calibri"/>
              </a:rPr>
              <a:t>and for file system using audit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pache httpd and Tomc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Service</a:t>
            </a:r>
            <a:endParaRPr b="0" lang="en-US" sz="4400" spc="-1" strike="noStrike">
              <a:solidFill>
                <a:srgbClr val="000000"/>
              </a:solidFill>
              <a:latin typeface="Calibri"/>
            </a:endParaRPr>
          </a:p>
        </p:txBody>
      </p:sp>
      <p:sp>
        <p:nvSpPr>
          <p:cNvPr id="4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veraging Globus Online Dataset Services and iR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Organization tools to facilitate tracking of a projects data asse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Provenance leveraging emerging standards to ensure data accessibility and reusabil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Fixity by automating extraction of technical metadata for files in the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Usage by tracking overall size of a projects data and (internal and external) utilization inform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Moving Data Effectively</a:t>
            </a:r>
            <a:endParaRPr b="0" lang="en-US" sz="4400" spc="-1" strike="noStrike">
              <a:solidFill>
                <a:srgbClr val="000000"/>
              </a:solidFill>
              <a:latin typeface="Calibri"/>
            </a:endParaRPr>
          </a:p>
        </p:txBody>
      </p:sp>
      <p:sp>
        <p:nvSpPr>
          <p:cNvPr id="4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End to End Network Performance Tuning</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everaging I</a:t>
            </a:r>
            <a:r>
              <a:rPr b="0" lang="en-US" sz="2800" spc="-1" strike="noStrike" baseline="30000">
                <a:solidFill>
                  <a:srgbClr val="000000"/>
                </a:solidFill>
                <a:latin typeface="Arial"/>
              </a:rPr>
              <a:t>2</a:t>
            </a:r>
            <a:r>
              <a:rPr b="0" lang="en-US" sz="2800" spc="-1" strike="noStrike">
                <a:solidFill>
                  <a:srgbClr val="000000"/>
                </a:solidFill>
                <a:latin typeface="Arial"/>
              </a:rPr>
              <a:t> and Globus based Perfsonar</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XSP support to allocate bandwidth on demand</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Software Defined Networking support via I2’s AL2S</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Network Performance Tools to monitor for bottlenecks and react to congestion</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Data Dock capability for the “last mile problem” where limited by network capabilities outside of I</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Timelines</a:t>
            </a:r>
            <a:endParaRPr b="0" lang="en-US" sz="4400" spc="-1" strike="noStrike">
              <a:solidFill>
                <a:srgbClr val="000000"/>
              </a:solidFill>
              <a:latin typeface="Calibri"/>
            </a:endParaRPr>
          </a:p>
        </p:txBody>
      </p:sp>
      <p:sp>
        <p:nvSpPr>
          <p:cNvPr id="4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Wrangler is being integrated now and will be available for early friendly user access in Jan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Production on track for Febr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A 16 node prototype system with some of the DSSD technology is currently being tested at TACC.</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ea typeface="ＭＳ Ｐゴシック"/>
              </a:rPr>
              <a:t>Initial performance is promising (single node DSSD unit running in a debugging mode is more than 10X SSD random read performance in the same compute nod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llocation Model</a:t>
            </a:r>
            <a:endParaRPr b="0" lang="en-US" sz="44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ne processing allocation unit to be XRAC allocated and justified in proposal</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llocate each node based on storage/processing need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quarter there are ~197K node hou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node hour allocates 4 TB of flash storage, 24 processors, 128 GB of memory for one hou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lash usage with dedicated shared servers (e.g. mySQL) charged by storage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Users can request archival storage on disk based storage handled via standard quota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dicated servers using spinning disk use this stora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 Allocations</a:t>
            </a:r>
            <a:endParaRPr b="0" lang="en-US" sz="4400" spc="-1" strike="noStrike">
              <a:solidFill>
                <a:srgbClr val="000000"/>
              </a:solidFill>
              <a:latin typeface="Calibri"/>
            </a:endParaRPr>
          </a:p>
        </p:txBody>
      </p:sp>
      <p:sp>
        <p:nvSpPr>
          <p:cNvPr id="4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efinition of a Wrangler Service Uni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NODE* hou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24 CPU Cor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128GB RA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4TB allocation on flash filesystem during that time.</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standard storage allocation for long term disk based syst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36399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estions? </a:t>
            </a:r>
            <a:endParaRPr b="0" lang="en-US" sz="4000" spc="-1" strike="noStrike">
              <a:solidFill>
                <a:srgbClr val="000000"/>
              </a:solidFill>
              <a:latin typeface="Calibri"/>
            </a:endParaRPr>
          </a:p>
        </p:txBody>
      </p:sp>
      <p:sp>
        <p:nvSpPr>
          <p:cNvPr id="481" name="PlaceHolder 2"/>
          <p:cNvSpPr>
            <a:spLocks noGrp="1"/>
          </p:cNvSpPr>
          <p:nvPr>
            <p:ph/>
          </p:nvPr>
        </p:nvSpPr>
        <p:spPr>
          <a:xfrm>
            <a:off x="722160" y="2139480"/>
            <a:ext cx="7772400" cy="1500120"/>
          </a:xfrm>
          <a:prstGeom prst="rect">
            <a:avLst/>
          </a:prstGeom>
          <a:noFill/>
          <a:ln w="0">
            <a:noFill/>
          </a:ln>
        </p:spPr>
        <p:txBody>
          <a:bodyPr lIns="90000" rIns="90000" tIns="46800" bIns="46800" anchor="b">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Not Just Simulation Any More…</a:t>
            </a:r>
            <a:endParaRPr b="0" lang="en-US" sz="4400" spc="-1" strike="noStrike">
              <a:solidFill>
                <a:srgbClr val="000000"/>
              </a:solidFill>
              <a:latin typeface="Calibri"/>
            </a:endParaRPr>
          </a:p>
        </p:txBody>
      </p:sp>
      <p:sp>
        <p:nvSpPr>
          <p:cNvPr id="439" name=""/>
          <p:cNvSpPr txBox="1"/>
          <p:nvPr/>
        </p:nvSpPr>
        <p:spPr>
          <a:xfrm>
            <a:off x="304560" y="1294920"/>
            <a:ext cx="4190760" cy="4419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markable success with large scale computational simulation has led to an explosion of new dat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rn science and engineering therefore is about </a:t>
            </a:r>
            <a:r>
              <a:rPr b="1" lang="en-US" sz="2400" spc="-1" strike="noStrike">
                <a:solidFill>
                  <a:srgbClr val="000000"/>
                </a:solidFill>
                <a:latin typeface="Arial"/>
                <a:ea typeface="ＭＳ Ｐゴシック"/>
              </a:rPr>
              <a:t>managing</a:t>
            </a:r>
            <a:r>
              <a:rPr b="0" lang="en-US" sz="2400" spc="-1" strike="noStrike">
                <a:solidFill>
                  <a:srgbClr val="000000"/>
                </a:solidFill>
                <a:latin typeface="Arial"/>
                <a:ea typeface="ＭＳ Ｐゴシック"/>
              </a:rPr>
              <a:t> and </a:t>
            </a:r>
            <a:r>
              <a:rPr b="1" lang="en-US" sz="2400" spc="-1" strike="noStrike">
                <a:solidFill>
                  <a:srgbClr val="000000"/>
                </a:solidFill>
                <a:latin typeface="Arial"/>
                <a:ea typeface="ＭＳ Ｐゴシック"/>
              </a:rPr>
              <a:t>analyzing</a:t>
            </a:r>
            <a:r>
              <a:rPr b="0" lang="en-US" sz="2400" spc="-1" strike="noStrike">
                <a:solidFill>
                  <a:srgbClr val="000000"/>
                </a:solidFill>
                <a:latin typeface="Arial"/>
                <a:ea typeface="ＭＳ Ｐゴシック"/>
              </a:rPr>
              <a:t> this data as wel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 TACC</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trategy is about computation, data, and data analysis.</a:t>
            </a:r>
            <a:endParaRPr b="0" lang="en-US" sz="2400" spc="-1" strike="noStrike">
              <a:solidFill>
                <a:srgbClr val="000000"/>
              </a:solidFill>
              <a:latin typeface="Calibri"/>
            </a:endParaRPr>
          </a:p>
        </p:txBody>
      </p:sp>
      <p:sp>
        <p:nvSpPr>
          <p:cNvPr id="440" name="Rectangle 12"/>
          <p:cNvSpPr/>
          <p:nvPr/>
        </p:nvSpPr>
        <p:spPr>
          <a:xfrm>
            <a:off x="2286000" y="2828880"/>
            <a:ext cx="4572000" cy="646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441" name="Picture 2" descr="C:\Documents and Settings\biadmin\My Documents\Downloads\1607_home.jpg"/>
          <p:cNvPicPr/>
          <p:nvPr/>
        </p:nvPicPr>
        <p:blipFill>
          <a:blip r:embed="rId1"/>
          <a:stretch/>
        </p:blipFill>
        <p:spPr>
          <a:xfrm>
            <a:off x="4495680" y="1828800"/>
            <a:ext cx="4457880" cy="334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uston Methodist Research Institute</a:t>
            </a:r>
            <a:endParaRPr b="0" lang="en-US" sz="4000" spc="-1" strike="noStrike">
              <a:solidFill>
                <a:srgbClr val="000000"/>
              </a:solidFill>
              <a:latin typeface="Calibri"/>
            </a:endParaRPr>
          </a:p>
        </p:txBody>
      </p:sp>
      <p:sp>
        <p:nvSpPr>
          <p:cNvPr id="443" name=""/>
          <p:cNvSpPr txBox="1"/>
          <p:nvPr/>
        </p:nvSpPr>
        <p:spPr>
          <a:xfrm>
            <a:off x="2629080" y="1294920"/>
            <a:ext cx="6248160" cy="4775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ink between origins of brain cancer and Alzheimer’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proved data coverage by 1000 fol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equenced tumor genes from Cancer Genome Atlas (NIH) &amp; Alzheimer’s Disease Neuroimaging Initiativ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pplied a "systems biology" approach to uncover new understanding and connections in the development and management of cancer.</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Explore alternate uses of existing treatments for other diseases shortening time to treatment by up to 10 fold</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a:r>
            <a:r>
              <a:rPr b="0" lang="en-US" sz="2000" spc="-1" strike="noStrike">
                <a:solidFill>
                  <a:srgbClr val="000000"/>
                </a:solidFill>
                <a:latin typeface="Calibri"/>
              </a:rPr>
              <a:t>This work of Dr. Wong's is quite exciting in that it shows connections between two of the most intractable diseases in modern society. And while our focus is on cancer, the great hope is that as we make these connections we can leverage that knowledge to find new targets and opportunities that can provide meaningful intervention for either disease.” -  Dan Gallahan, NIH Deputy Directo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444" name="Picture 3" descr="diagram-alzheimers.png"/>
          <p:cNvPicPr/>
          <p:nvPr/>
        </p:nvPicPr>
        <p:blipFill>
          <a:blip r:embed="rId1"/>
          <a:srcRect l="26707" t="0" r="16759" b="0"/>
          <a:stretch/>
        </p:blipFill>
        <p:spPr>
          <a:xfrm>
            <a:off x="237960" y="1417680"/>
            <a:ext cx="2086200" cy="2766960"/>
          </a:xfrm>
          <a:prstGeom prst="rect">
            <a:avLst/>
          </a:prstGeom>
          <a:ln w="0">
            <a:noFill/>
          </a:ln>
        </p:spPr>
      </p:pic>
      <p:pic>
        <p:nvPicPr>
          <p:cNvPr id="445" name="Picture 4" descr="stephen-wong-headshot2.png"/>
          <p:cNvPicPr/>
          <p:nvPr/>
        </p:nvPicPr>
        <p:blipFill>
          <a:blip r:embed="rId2"/>
          <a:stretch/>
        </p:blipFill>
        <p:spPr>
          <a:xfrm>
            <a:off x="812880" y="2948040"/>
            <a:ext cx="1662120" cy="249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portation Evaluations</a:t>
            </a:r>
            <a:endParaRPr b="0" lang="en-US" sz="4400" spc="-1" strike="noStrike">
              <a:solidFill>
                <a:srgbClr val="000000"/>
              </a:solidFill>
              <a:latin typeface="Calibri"/>
            </a:endParaRPr>
          </a:p>
        </p:txBody>
      </p:sp>
      <p:sp>
        <p:nvSpPr>
          <p:cNvPr id="447" name=""/>
          <p:cNvSpPr txBox="1"/>
          <p:nvPr/>
        </p:nvSpPr>
        <p:spPr>
          <a:xfrm>
            <a:off x="2514240" y="1752480"/>
            <a:ext cx="66294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enter for Transportation Research Dynamic Traffic Assignment computations allow to explore improvements to traffic flow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riven by road maps with flow capacities, local population densities, and time based demand for travel endpoi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Limited by I/O rate for optimization of the shortest path among millions of discovered paths in the network</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Used Stampede’s large memory nodes </a:t>
            </a:r>
            <a:br>
              <a:rPr sz="2500"/>
            </a:br>
            <a:r>
              <a:rPr b="0" lang="en-US" sz="2500" spc="-1" strike="noStrike">
                <a:solidFill>
                  <a:srgbClr val="000000"/>
                </a:solidFill>
                <a:latin typeface="Calibri"/>
              </a:rPr>
              <a:t>as RAM Disks to circumvent the I/O </a:t>
            </a:r>
            <a:br>
              <a:rPr sz="2500"/>
            </a:br>
            <a:r>
              <a:rPr b="0" lang="en-US" sz="2500" spc="-1" strike="noStrike">
                <a:solidFill>
                  <a:srgbClr val="000000"/>
                </a:solidFill>
                <a:latin typeface="Calibri"/>
              </a:rPr>
              <a:t>limitations in this computation and </a:t>
            </a:r>
            <a:br>
              <a:rPr sz="2500"/>
            </a:br>
            <a:r>
              <a:rPr b="0" lang="en-US" sz="2500" spc="-1" strike="noStrike">
                <a:solidFill>
                  <a:srgbClr val="000000"/>
                </a:solidFill>
                <a:latin typeface="Calibri"/>
              </a:rPr>
              <a:t>MPI based Parallelism</a:t>
            </a:r>
            <a:endParaRPr b="0" lang="en-US" sz="2500" spc="-1" strike="noStrike">
              <a:solidFill>
                <a:srgbClr val="000000"/>
              </a:solidFill>
              <a:latin typeface="Calibri"/>
            </a:endParaRPr>
          </a:p>
        </p:txBody>
      </p:sp>
      <p:pic>
        <p:nvPicPr>
          <p:cNvPr id="448" name="Picture 3" descr="conSid.jpg"/>
          <p:cNvPicPr/>
          <p:nvPr/>
        </p:nvPicPr>
        <p:blipFill>
          <a:blip r:embed="rId1"/>
          <a:stretch/>
        </p:blipFill>
        <p:spPr>
          <a:xfrm>
            <a:off x="228600" y="152712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3K Rice Genomes</a:t>
            </a:r>
            <a:endParaRPr b="0" lang="en-US" sz="4400" spc="-1" strike="noStrike">
              <a:solidFill>
                <a:srgbClr val="000000"/>
              </a:solidFill>
              <a:latin typeface="Calibri"/>
            </a:endParaRPr>
          </a:p>
        </p:txBody>
      </p:sp>
      <p:sp>
        <p:nvSpPr>
          <p:cNvPr id="450" name=""/>
          <p:cNvSpPr txBox="1"/>
          <p:nvPr/>
        </p:nvSpPr>
        <p:spPr>
          <a:xfrm>
            <a:off x="4088880" y="1417680"/>
            <a:ext cx="487692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y 2030, the production of rice must increase by at least 25% in order to keep up with global population growth and deman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May, 3K Rice Genomes made public in project from Chinese Ministry of Science and Technolog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13.4 TB of raw data</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Plant is hosting these data to further research on this important dataset</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llow linkages between the genetic information (genotype) and the physical traits (phenotype) of different strain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nalytics to improve crop production in most difficult conditions in the more impoverished regions of the world</a:t>
            </a:r>
            <a:endParaRPr b="0" lang="en-US" sz="1800" spc="-1" strike="noStrike">
              <a:solidFill>
                <a:srgbClr val="000000"/>
              </a:solidFill>
              <a:latin typeface="Calibri"/>
            </a:endParaRPr>
          </a:p>
        </p:txBody>
      </p:sp>
      <p:pic>
        <p:nvPicPr>
          <p:cNvPr id="451" name="Picture 3" descr="IMG_0967.jpg"/>
          <p:cNvPicPr/>
          <p:nvPr/>
        </p:nvPicPr>
        <p:blipFill>
          <a:blip r:embed="rId1"/>
          <a:stretch/>
        </p:blipFill>
        <p:spPr>
          <a:xfrm>
            <a:off x="457200" y="1295280"/>
            <a:ext cx="2914560" cy="3886200"/>
          </a:xfrm>
          <a:prstGeom prst="rect">
            <a:avLst/>
          </a:prstGeom>
          <a:ln w="0">
            <a:noFill/>
          </a:ln>
        </p:spPr>
      </p:pic>
      <p:pic>
        <p:nvPicPr>
          <p:cNvPr id="452" name="Picture 4" descr="y4347e05.jpg"/>
          <p:cNvPicPr/>
          <p:nvPr/>
        </p:nvPicPr>
        <p:blipFill>
          <a:blip r:embed="rId2"/>
          <a:stretch/>
        </p:blipFill>
        <p:spPr>
          <a:xfrm>
            <a:off x="792000" y="4267080"/>
            <a:ext cx="3160800" cy="17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ＭＳ Ｐゴシック"/>
              </a:rPr>
              <a:t>Goals of the Wrangler Project</a:t>
            </a:r>
            <a:endParaRPr b="0" lang="en-US" sz="4000" spc="-1" strike="noStrike">
              <a:solidFill>
                <a:srgbClr val="000000"/>
              </a:solidFill>
              <a:latin typeface="Calibri"/>
            </a:endParaRPr>
          </a:p>
        </p:txBody>
      </p:sp>
      <p:sp>
        <p:nvSpPr>
          <p:cNvPr id="454" name=""/>
          <p:cNvSpPr txBox="1"/>
          <p:nvPr/>
        </p:nvSpPr>
        <p:spPr>
          <a:xfrm>
            <a:off x="228600" y="1142640"/>
            <a:ext cx="8610480" cy="4876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ＭＳ Ｐゴシック"/>
              </a:rPr>
              <a:t>Our analysis of needs indicated we needed: </a:t>
            </a:r>
            <a:endParaRPr b="0" lang="en-US" sz="26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address the data problem in multiple dimension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Big (and small), reliable, secur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Lots of data types: Structured and unstructur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Fast, but not just for large files and sequential access.  Need high transaction rates and random access too.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a wide range of applications and interfac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Hadoop, but not  *just* Hadoop.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Traditional languages, but also R, GIS, DB, and other, perhaps less scalable things.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the full data lifecycl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ore than scratch</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etadata and collection management support</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ＭＳ Ｐゴシック"/>
              </a:rPr>
              <a:t>Wrangler is designed with these goals in mind.</a:t>
            </a:r>
            <a:endParaRPr b="0" lang="en-US" sz="27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Project Partners</a:t>
            </a:r>
            <a:endParaRPr b="0" lang="en-US" sz="4400" spc="-1" strike="noStrike">
              <a:solidFill>
                <a:srgbClr val="000000"/>
              </a:solidFill>
              <a:latin typeface="Calibri"/>
            </a:endParaRPr>
          </a:p>
        </p:txBody>
      </p:sp>
      <p:sp>
        <p:nvSpPr>
          <p:cNvPr id="456"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ree Academic partne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ACC – Primary system design, deployment, and oper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ndiana U. ; Hosting/Operating replicated system and end-to-end network tun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 of Chicago: Globus Online integration, high speed data transfer from user and XSEDE sit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Vendors:  Dell, DSSD (subsidiary of EMC</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Hardware</a:t>
            </a:r>
            <a:endParaRPr b="0" lang="en-US" sz="4400" spc="-1" strike="noStrike">
              <a:solidFill>
                <a:srgbClr val="000000"/>
              </a:solidFill>
              <a:latin typeface="Calibri"/>
            </a:endParaRPr>
          </a:p>
        </p:txBody>
      </p:sp>
      <p:sp>
        <p:nvSpPr>
          <p:cNvPr id="458" name=""/>
          <p:cNvSpPr txBox="1"/>
          <p:nvPr/>
        </p:nvSpPr>
        <p:spPr>
          <a:xfrm>
            <a:off x="457200" y="1600200"/>
            <a:ext cx="495288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ree primary subsystems:</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10PB disk storage system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Lustre based – (2 R720 dual E5-2680 MD servers, 45 C8000 OSF servers with 6 TB drives)</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n embedded analytics capability of several thousand cores.</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96 Dell R620 Haswell E5-2680-v3 nodes with dual IB FDR/40 Gb/s Ethernet</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high speed global object store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500 TB usable Flash via PCI (not SSD) to all 96 analytics node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1TB/s IO rate &amp;250M+ IOP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pic>
        <p:nvPicPr>
          <p:cNvPr id="459" name="Picture 4" descr="Wrangler 2.pdf"/>
          <p:cNvPicPr/>
          <p:nvPr/>
        </p:nvPicPr>
        <p:blipFill>
          <a:blip r:embed="rId1"/>
          <a:stretch/>
        </p:blipFill>
        <p:spPr>
          <a:xfrm>
            <a:off x="5486400" y="1752480"/>
            <a:ext cx="351792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At Large</a:t>
            </a:r>
            <a:endParaRPr b="0" lang="en-US" sz="4400" spc="-1" strike="noStrike">
              <a:solidFill>
                <a:srgbClr val="000000"/>
              </a:solidFill>
              <a:latin typeface="Calibri"/>
            </a:endParaRPr>
          </a:p>
        </p:txBody>
      </p:sp>
      <p:sp>
        <p:nvSpPr>
          <p:cNvPr id="461" name=""/>
          <p:cNvSpPr txBox="1"/>
          <p:nvPr/>
        </p:nvSpPr>
        <p:spPr>
          <a:xfrm>
            <a:off x="456840" y="1600200"/>
            <a:ext cx="8077320" cy="1447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torage replicated to I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00 Gb/s capacity to systems for data ingest and retriev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4 dedicated analytics nodes for servers and non-flash analysi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igher Availability of data and non-flash based analytics</a:t>
            </a:r>
            <a:endParaRPr b="0" lang="en-US" sz="2200" spc="-1" strike="noStrike">
              <a:solidFill>
                <a:srgbClr val="000000"/>
              </a:solidFill>
              <a:latin typeface="Calibri"/>
            </a:endParaRPr>
          </a:p>
        </p:txBody>
      </p:sp>
      <p:pic>
        <p:nvPicPr>
          <p:cNvPr id="462" name="Content Placeholder 3" descr="Wrangler 2 NSF Details.pdf"/>
          <p:cNvPicPr/>
          <p:nvPr/>
        </p:nvPicPr>
        <p:blipFill>
          <a:blip r:embed="rId1"/>
          <a:srcRect l="0" t="-2722" r="0" b="-2722"/>
          <a:stretch/>
        </p:blipFill>
        <p:spPr>
          <a:xfrm>
            <a:off x="1600200" y="3048120"/>
            <a:ext cx="5715000" cy="314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3T00:38:33Z</dcterms:created>
  <dc:creator>Matt Stelmaszek</dc:creator>
  <dc:description/>
  <dc:language>en-US</dc:language>
  <cp:lastModifiedBy>Niall Gaffney</cp:lastModifiedBy>
  <dcterms:modified xsi:type="dcterms:W3CDTF">2014-12-15T21:11:11Z</dcterms:modified>
  <cp:revision>35</cp:revision>
  <dc:subject/>
  <dc:title>PowerPoint Presentation</dc:title>
</cp:coreProperties>
</file>