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280" y="37998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180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4100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3008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28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4100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3008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180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280" y="37998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8180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4100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30080" y="13716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28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4100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30080" y="3799800"/>
            <a:ext cx="284616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839440" cy="48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1800" y="37998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800" y="1371600"/>
            <a:ext cx="431352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280" y="3799800"/>
            <a:ext cx="8839440" cy="221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3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4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45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46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56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 th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59" descr="_x000f_UCSDa3-blue.jpg                                                00001911_x0008_G4-80gig                       B7D6C102:"/>
          <p:cNvPicPr/>
          <p:nvPr/>
        </p:nvPicPr>
        <p:blipFill>
          <a:blip r:embed="rId2"/>
          <a:stretch/>
        </p:blipFill>
        <p:spPr>
          <a:xfrm>
            <a:off x="8077320" y="6095880"/>
            <a:ext cx="852480" cy="639720"/>
          </a:xfrm>
          <a:prstGeom prst="rect">
            <a:avLst/>
          </a:prstGeom>
          <a:ln w="0">
            <a:noFill/>
          </a:ln>
        </p:spPr>
      </p:pic>
      <p:pic>
        <p:nvPicPr>
          <p:cNvPr id="8" name="Picture 60" descr="&#9;SDSC2.gif                                                      00000E67&#9;Documents                      B3BA47DD:"/>
          <p:cNvPicPr/>
          <p:nvPr/>
        </p:nvPicPr>
        <p:blipFill>
          <a:blip r:embed="rId3"/>
          <a:stretch/>
        </p:blipFill>
        <p:spPr>
          <a:xfrm>
            <a:off x="152280" y="6248520"/>
            <a:ext cx="1338480" cy="36504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75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152280" y="228600"/>
            <a:ext cx="8839440" cy="763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 flipV="1">
            <a:off x="1677960" y="6440400"/>
            <a:ext cx="6170760" cy="7488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676520" y="62485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AN DIEGO SUPERCOMPUTER CENTER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133720" y="655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t th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UNIVERSITY OF CALIFORNIA, SAN DIEGO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_x000f_UCSDa3-blue.jpg                                                00001911_x0008_G4-80gig                       B7D6C102:"/>
          <p:cNvPicPr/>
          <p:nvPr/>
        </p:nvPicPr>
        <p:blipFill>
          <a:blip r:embed="rId2"/>
          <a:stretch/>
        </p:blipFill>
        <p:spPr>
          <a:xfrm>
            <a:off x="8077320" y="6095880"/>
            <a:ext cx="852480" cy="639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&#9;SDSC2.gif                                                      00000E67&#9;Documents                      B3BA47DD:"/>
          <p:cNvPicPr/>
          <p:nvPr/>
        </p:nvPicPr>
        <p:blipFill>
          <a:blip r:embed="rId3"/>
          <a:stretch/>
        </p:blipFill>
        <p:spPr>
          <a:xfrm>
            <a:off x="152280" y="6248520"/>
            <a:ext cx="1338480" cy="365040"/>
          </a:xfrm>
          <a:prstGeom prst="rect">
            <a:avLst/>
          </a:prstGeom>
          <a:ln w="0">
            <a:noFill/>
          </a:ln>
          <a:effectLst>
            <a:outerShdw dist="40186" dir="4303641" blurRad="0" rotWithShape="0">
              <a:srgbClr val="808080">
                <a:alpha val="75000"/>
              </a:srgbClr>
            </a:outerShdw>
          </a:effectLst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5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Enabling Phylogenetic Research via the CIPRES Science Gateway</a:t>
            </a:r>
            <a:endParaRPr b="1" i="1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95280" y="2438280"/>
            <a:ext cx="655344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yne Pfeiff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DSC/UCS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ly 24, 201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737360" y="4114800"/>
            <a:ext cx="565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collaboration wi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 A. Miller &amp; Terri Schwartz (SDSC/UCS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ed by NS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The CIPRES gateway has been extremely popular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410080" y="609588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from M.A. Miller, SDS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228600" y="5029200"/>
            <a:ext cx="891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6,000 users have run on TeraGrid/XSEDE supercompu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173,000 jobs were run &amp; ~29M Trestles SUs were used thru Feb 2013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600 publications have been enabled by CIPRES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0" t="2069" r="14249" b="12718"/>
          <a:stretch/>
        </p:blipFill>
        <p:spPr>
          <a:xfrm>
            <a:off x="2133720" y="1143000"/>
            <a:ext cx="525780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ost CIPRES gateway jobs are submitted from US,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ut many come from elsewhere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228600" y="5029200"/>
            <a:ext cx="8763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reen shot shows locations of 1,000 consecutive user logons as  of April 20,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ed dots show users on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&#13;map_wayne.jpg                                                  0070B30E_x000c_Macintosh HD                   7C2602DA:"/>
          <p:cNvPicPr/>
          <p:nvPr/>
        </p:nvPicPr>
        <p:blipFill>
          <a:blip r:embed="rId1"/>
          <a:stretch/>
        </p:blipFill>
        <p:spPr>
          <a:xfrm>
            <a:off x="914400" y="1371600"/>
            <a:ext cx="746748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rotected clover fern in Azores was shown to be an invasive species from Australia introduced from the U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xML &amp; MrBayes analyses were done via CIPRES gate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. Schaefer, M.A. Carine, &amp; F.J. Rumsey, “From European Priority Species to Invasive Weed: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rsilea azoric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arsileaceae) is a Misidentified Alien,”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ystematic Bi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v. 36, pp. 845-853 (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SchaeferScreenShot.png"/>
          <p:cNvPicPr/>
          <p:nvPr/>
        </p:nvPicPr>
        <p:blipFill>
          <a:blip r:embed="rId1"/>
          <a:stretch/>
        </p:blipFill>
        <p:spPr>
          <a:xfrm>
            <a:off x="3505320" y="2971800"/>
            <a:ext cx="5257800" cy="28940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" descr="Screen Shot 2012-11-09 at 4.18.22 PM.png"/>
          <p:cNvPicPr/>
          <p:nvPr/>
        </p:nvPicPr>
        <p:blipFill>
          <a:blip r:embed="rId2"/>
          <a:stretch/>
        </p:blipFill>
        <p:spPr>
          <a:xfrm>
            <a:off x="533520" y="2971800"/>
            <a:ext cx="296388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Most studies using CIPRES gateway involve basic research,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ut some have biomedical implication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mans are much more likely to infect apes with malaria than the reverse (J.C. Silva, et al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sitolog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ph-theory method allows viral variants to be ranked for effectiveness in vaccines (T.K. Anderson, et al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ioinforma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2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toviruses are in two major clades: rotovirus A/C/D/F and rotovirus B/G/H (E. Kindler, et al.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Infection, Genetics and Evo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2013)  –&gt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" descr="RotovirusTree.png"/>
          <p:cNvPicPr/>
          <p:nvPr/>
        </p:nvPicPr>
        <p:blipFill>
          <a:blip r:embed="rId1"/>
          <a:stretch/>
        </p:blipFill>
        <p:spPr>
          <a:xfrm>
            <a:off x="5308560" y="1523880"/>
            <a:ext cx="353052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Recently received NSF grant is supporting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enhancements to user interface &amp; code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ments in progr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ESTful web services interface in addition to browser interface is being developed (per lightning talk this afternoon by Mark Mil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codes are being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brid parallel version of MrBayes 3.2.1 is being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hancements plan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files will be checked before sub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rter rules will be devel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uide will be prepared to help users decide which code(s)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ummar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IPRES gateway has been extremely effective at providing access to HPC resources for phylogenetics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ned enhancements will improve the gateway’s accessibility and ut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Computational workflow for phylogenetic analyses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using genomic data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505320" y="1371600"/>
            <a:ext cx="205740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NA, RNA, or A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multiple tax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58000" y="2590920"/>
            <a:ext cx="190512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781680" y="2666880"/>
            <a:ext cx="213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ple sequence alignment: ClustalW, MAFFT, 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7010280" y="4038480"/>
            <a:ext cx="152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igned sequenc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6"/>
          <p:cNvSpPr/>
          <p:nvPr/>
        </p:nvSpPr>
        <p:spPr>
          <a:xfrm>
            <a:off x="7010280" y="3886200"/>
            <a:ext cx="1524240" cy="9144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28"/>
          <p:cNvSpPr/>
          <p:nvPr/>
        </p:nvSpPr>
        <p:spPr>
          <a:xfrm>
            <a:off x="6858000" y="5105520"/>
            <a:ext cx="1905120" cy="914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9"/>
          <p:cNvSpPr/>
          <p:nvPr/>
        </p:nvSpPr>
        <p:spPr>
          <a:xfrm>
            <a:off x="6858000" y="5181480"/>
            <a:ext cx="1905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logenetic tree inference: MrBayes, RAxML, …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2"/>
          <p:cNvSpPr/>
          <p:nvPr/>
        </p:nvSpPr>
        <p:spPr>
          <a:xfrm>
            <a:off x="777240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3"/>
          <p:cNvSpPr/>
          <p:nvPr/>
        </p:nvSpPr>
        <p:spPr>
          <a:xfrm>
            <a:off x="77724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4"/>
          <p:cNvSpPr/>
          <p:nvPr/>
        </p:nvSpPr>
        <p:spPr>
          <a:xfrm flipH="1">
            <a:off x="6248160" y="5562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5"/>
          <p:cNvSpPr/>
          <p:nvPr/>
        </p:nvSpPr>
        <p:spPr>
          <a:xfrm>
            <a:off x="5562720" y="18288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6"/>
          <p:cNvSpPr/>
          <p:nvPr/>
        </p:nvSpPr>
        <p:spPr>
          <a:xfrm>
            <a:off x="7772400" y="1828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7"/>
          <p:cNvSpPr/>
          <p:nvPr/>
        </p:nvSpPr>
        <p:spPr>
          <a:xfrm>
            <a:off x="527400" y="2743200"/>
            <a:ext cx="5301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  .  .   ......  .  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uman          AAGCTTCACCGGCGCAGTCATTCTCATAAT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impanzee     AAGCTTCACCGGCGCA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CATAAT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orilla        AAGCTTCACCGGCGCAG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T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TC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AAT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Orangutan      AAGCTTCACCGGCGCA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C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CA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T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ibbon         AAGCT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C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G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GCA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A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1400" spc="-1" strike="noStrike">
                <a:solidFill>
                  <a:srgbClr val="fc0128"/>
                </a:solidFill>
                <a:latin typeface="Courier New"/>
              </a:rPr>
              <a:t>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TCATAAT..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8"/>
          <p:cNvSpPr/>
          <p:nvPr/>
        </p:nvSpPr>
        <p:spPr>
          <a:xfrm>
            <a:off x="547200" y="2514600"/>
            <a:ext cx="591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ple sequence alignment is matrix of taxa vs charact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9"/>
          <p:cNvSpPr/>
          <p:nvPr/>
        </p:nvSpPr>
        <p:spPr>
          <a:xfrm>
            <a:off x="549720" y="4267080"/>
            <a:ext cx="51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output is phylogeny or tree with taxa at its t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0"/>
          <p:cNvSpPr/>
          <p:nvPr/>
        </p:nvSpPr>
        <p:spPr>
          <a:xfrm>
            <a:off x="152280" y="4648320"/>
            <a:ext cx="7848720" cy="14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/-------- Hum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                                          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---------- Chimpanzee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+                                             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/---------- Gorilla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|   |                                         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---+             /-------------------------------- Oranguta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-------------+                                                            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\----------------------------------------------- Gibbon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104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The CIPRES gateway lets biologists run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hylogenetics codes at SDSC via a browser interface;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http://www.phylo.org/index.php/portal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_x0014_CIPRESscreenshot.png                                           003B982E_x000c_Macintosh HD                   7C2602DA:"/>
          <p:cNvPicPr/>
          <p:nvPr/>
        </p:nvPicPr>
        <p:blipFill>
          <a:blip r:embed="rId1"/>
          <a:stretch/>
        </p:blipFill>
        <p:spPr>
          <a:xfrm>
            <a:off x="1407960" y="1676520"/>
            <a:ext cx="651672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83944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Browser interface simplifies access to community codes,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especially for users who only occasionally compute 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52280" y="1523520"/>
            <a:ext cx="883944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do not log onto HPC systems &amp; so do not need to learn about Linux, parallelization, or job schedul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s simply use browser interface 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load sequence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de options &amp; set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s of cores, processes, &amp; threads are selected automatically based 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options &amp;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eveloped from benchma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casionally we make special runs not allowed by r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ost cases, users do not need individual allo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Parallel versions of six phylogenetics codes</a:t>
            </a:r>
            <a:br>
              <a:rPr sz="2400"/>
            </a:b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are available via the CIPRES gateway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533520" y="1447920"/>
            <a:ext cx="838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 &amp; vers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z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FFT 7.03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ST 1.7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RLI 2.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≤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Bayes 3.1.2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/OpenMP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to 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Bayes 3.2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to 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xML 7.6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PI/P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, 30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 6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2690640"/>
                <a:tab algn="r" pos="5594400"/>
                <a:tab algn="l" pos="6168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xML-Light 1.0.9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sh/Pthread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≤1,00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80880" y="4114800"/>
            <a:ext cx="86108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45720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Run times for some analyses are substantial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609480" y="1295280"/>
            <a:ext cx="838224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e &amp; data s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(h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Bayes 3.1.2h, AA data, 73 taxa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.4k patterns*, 3M generations (H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rBayes 3.2.1, DNA data, 40 taxa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k patterns*, 100M generations (NJ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xML 7.2.7, AA data, 1.6k taxa,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est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.8k patterns*, 160 bootstraps+ (JG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201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Number of patterns = number of unique columns in multiple sequence align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r" pos="2971800"/>
                <a:tab algn="r" pos="5200560"/>
                <a:tab algn="r" pos="6173640"/>
                <a:tab algn="l" pos="66214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+ 20 thorough searches were also do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609480" y="4343400"/>
            <a:ext cx="83059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3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708200"/>
                <a:tab algn="r" pos="616896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res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mory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708200"/>
                <a:tab algn="r" pos="616896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o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de (GB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708200"/>
                <a:tab algn="r" pos="6168960"/>
                <a:tab algn="r" pos="75438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708200"/>
                <a:tab algn="r" pos="616896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rd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6-GHz Intel Sandy Bridg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4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1708200"/>
                <a:tab algn="r" pos="6168960"/>
                <a:tab algn="r" pos="75438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est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4-GHz AMD Magny-Cou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6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RAxML parallel efficiency is &gt;0.5 up to 60 cores for &gt;1,000 patterns*;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speedup is superlinear for comprehensive analysis at some core counts;</a:t>
            </a:r>
            <a:br>
              <a:rPr sz="2000"/>
            </a:br>
            <a:r>
              <a:rPr b="1" i="1" lang="en-US" sz="2000" spc="-1" strike="noStrike">
                <a:solidFill>
                  <a:srgbClr val="0033cc"/>
                </a:solidFill>
                <a:latin typeface="Arial"/>
              </a:rPr>
              <a:t>scalability generally improves with number of patterns</a:t>
            </a:r>
            <a:endParaRPr b="1" i="1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971640" y="5791320"/>
            <a:ext cx="71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 Number of patterns = number of unique columns in multiple sequence align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_x0011_TrestlesNauto.png                                              006017C9_x000c_Macintosh HD                   7C2602DA:"/>
          <p:cNvPicPr/>
          <p:nvPr/>
        </p:nvPicPr>
        <p:blipFill>
          <a:blip r:embed="rId1"/>
          <a:stretch/>
        </p:blipFill>
        <p:spPr>
          <a:xfrm>
            <a:off x="1600200" y="1332000"/>
            <a:ext cx="56386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Rules for running RAxML on Trestles were developed based on benchmarking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52280" y="1371600"/>
            <a:ext cx="883944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ck number of searches specified by -N o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-N is not specified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with 8 Pthreads on 8 cores of a single node in shared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-N n is specified with n &lt; 50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with 5 MPI processes &amp; 6 Pthreads on 30 cores of a single node in normal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-N n is specified with n ≥ 50 or n = auto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with 10 MPI processes &amp; 6 Pthreads on 60 cores of two nodes in normal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104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cc"/>
                </a:solidFill>
                <a:latin typeface="Arial"/>
              </a:rPr>
              <a:t>Some operational facts &amp; considerations</a:t>
            </a:r>
            <a:endParaRPr b="1" i="1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280" y="1218960"/>
            <a:ext cx="883944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150 jobs are usually running; a July 3 snapshot sh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6 MrBayes jobs using 920 cores on Gor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9 BEAST jobs using 632 cores on Tres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RAxML jobs using 896 cores on Tres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GARLI job using 32 cores on Tres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s are run on both systems to distribute lo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~15% of load on Trestles is from CIPRES gateway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obs can run a long time; allowable limits 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8 hours (1 week) on Gor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34 hours (2 weeks) on Trest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5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is done via ZFS (/projects), not Luster (/oasi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AST &amp; MrBayes output frequent, small updates to log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5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overwhelm the Lustre metada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38:03Z</dcterms:created>
  <dc:creator>Wayne Pfeiffer</dc:creator>
  <dc:description>The 2 blue colors should print out the same, even if they look different on screen.</dc:description>
  <cp:keywords/>
  <dc:language>en-US</dc:language>
  <cp:lastModifiedBy>Wayne Pfeiffer</cp:lastModifiedBy>
  <cp:lastPrinted>2012-10-16T00:56:36Z</cp:lastPrinted>
  <dcterms:modified xsi:type="dcterms:W3CDTF">2013-07-24T13:44:13Z</dcterms:modified>
  <cp:revision>1210</cp:revision>
  <dc:subject/>
  <dc:title>PowerPoint Presentation</dc:title>
</cp:coreProperties>
</file>