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9440" y="1623960"/>
            <a:ext cx="11704320" cy="1517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49440" y="1623960"/>
            <a:ext cx="11704320" cy="1517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49440" y="1623960"/>
            <a:ext cx="11704320" cy="1517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0692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564040" y="228204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5016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60692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8564040" y="5236560"/>
            <a:ext cx="37681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9440" y="1623960"/>
            <a:ext cx="11704320" cy="1517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49440" y="1623960"/>
            <a:ext cx="11704320" cy="1517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9440" y="1623960"/>
            <a:ext cx="11704320" cy="1517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49440" y="1623960"/>
            <a:ext cx="11704320" cy="1517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49440" y="1623960"/>
            <a:ext cx="11704320" cy="70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9440" y="1623960"/>
            <a:ext cx="11704320" cy="1517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9440" y="1623960"/>
            <a:ext cx="11704320" cy="1517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646680" y="523656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49440" y="1623960"/>
            <a:ext cx="11704320" cy="1517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016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646680" y="2282040"/>
            <a:ext cx="571068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0160" y="5236560"/>
            <a:ext cx="11702520" cy="269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0" y="520560"/>
            <a:ext cx="13004640" cy="120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0" y="0"/>
            <a:ext cx="13004640" cy="441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0" y="438120"/>
            <a:ext cx="13004640" cy="130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AutoShape 4"/>
          <p:cNvSpPr/>
          <p:nvPr/>
        </p:nvSpPr>
        <p:spPr>
          <a:xfrm flipV="1">
            <a:off x="7693200" y="510840"/>
            <a:ext cx="5311440" cy="130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AutoShape 5"/>
          <p:cNvSpPr/>
          <p:nvPr/>
        </p:nvSpPr>
        <p:spPr>
          <a:xfrm flipV="1">
            <a:off x="7693200" y="624960"/>
            <a:ext cx="5311440" cy="255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AutoShape 6"/>
          <p:cNvSpPr/>
          <p:nvPr/>
        </p:nvSpPr>
        <p:spPr>
          <a:xfrm>
            <a:off x="7689960" y="706320"/>
            <a:ext cx="4356000" cy="39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7"/>
          <p:cNvSpPr/>
          <p:nvPr/>
        </p:nvSpPr>
        <p:spPr>
          <a:xfrm>
            <a:off x="10485360" y="836640"/>
            <a:ext cx="2276640" cy="52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2480"/>
                <a:tab algn="l" pos="1165320"/>
                <a:tab algn="l" pos="1747800"/>
                <a:tab algn="l" pos="2330280"/>
                <a:tab algn="l" pos="2913120"/>
                <a:tab algn="l" pos="3495600"/>
                <a:tab algn="l" pos="4078440"/>
                <a:tab algn="l" pos="4660920"/>
                <a:tab algn="l" pos="5243400"/>
                <a:tab algn="l" pos="5826240"/>
                <a:tab algn="l" pos="6408720"/>
                <a:tab algn="l" pos="6991200"/>
                <a:tab algn="l" pos="7574040"/>
                <a:tab algn="l" pos="8156520"/>
                <a:tab algn="l" pos="8739360"/>
                <a:tab algn="l" pos="9321840"/>
                <a:tab algn="l" pos="9904320"/>
                <a:tab algn="l" pos="104871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AutoShape 8"/>
          <p:cNvSpPr/>
          <p:nvPr/>
        </p:nvSpPr>
        <p:spPr>
          <a:xfrm>
            <a:off x="12920760" y="-1440"/>
            <a:ext cx="81000" cy="88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AutoShape 9"/>
          <p:cNvSpPr/>
          <p:nvPr/>
        </p:nvSpPr>
        <p:spPr>
          <a:xfrm>
            <a:off x="12862080" y="-1440"/>
            <a:ext cx="39600" cy="88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AutoShape 10"/>
          <p:cNvSpPr/>
          <p:nvPr/>
        </p:nvSpPr>
        <p:spPr>
          <a:xfrm>
            <a:off x="12835080" y="-1440"/>
            <a:ext cx="12600" cy="88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AutoShape 11"/>
          <p:cNvSpPr/>
          <p:nvPr/>
        </p:nvSpPr>
        <p:spPr>
          <a:xfrm>
            <a:off x="12763440" y="-1440"/>
            <a:ext cx="39600" cy="88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AutoShape 12"/>
          <p:cNvSpPr/>
          <p:nvPr/>
        </p:nvSpPr>
        <p:spPr>
          <a:xfrm>
            <a:off x="12679200" y="0"/>
            <a:ext cx="78120" cy="83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AutoShape 13"/>
          <p:cNvSpPr/>
          <p:nvPr/>
        </p:nvSpPr>
        <p:spPr>
          <a:xfrm>
            <a:off x="12619080" y="0"/>
            <a:ext cx="12600" cy="83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9440" y="1623960"/>
            <a:ext cx="11704320" cy="1517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ondo-of-condos.org/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1"/>
          <p:cNvSpPr/>
          <p:nvPr/>
        </p:nvSpPr>
        <p:spPr>
          <a:xfrm>
            <a:off x="0" y="6632640"/>
            <a:ext cx="13014360" cy="360"/>
          </a:xfrm>
          <a:custGeom>
            <a:avLst/>
            <a:gdLst/>
            <a:ahLst/>
            <a:rect l="l" t="t" r="r" b="b"/>
            <a:pathLst>
              <a:path w="21600" h="0">
                <a:moveTo>
                  <a:pt x="0" y="0"/>
                </a:move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9960" y="1676160"/>
            <a:ext cx="11053440" cy="15937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b">
            <a:noAutofit/>
          </a:bodyPr>
          <a:p>
            <a:pPr indent="0" algn="ctr">
              <a:buNone/>
              <a:tabLst>
                <a:tab algn="l" pos="0"/>
                <a:tab algn="l" pos="1298520"/>
                <a:tab algn="l" pos="2597040"/>
                <a:tab algn="l" pos="3895560"/>
                <a:tab algn="l" pos="5194440"/>
                <a:tab algn="l" pos="6492960"/>
                <a:tab algn="l" pos="7791480"/>
                <a:tab algn="l" pos="9090000"/>
                <a:tab algn="l" pos="10388520"/>
              </a:tabLst>
            </a:pPr>
            <a:r>
              <a:rPr b="1" lang="en-US" sz="7200" spc="-1" strike="noStrike">
                <a:solidFill>
                  <a:srgbClr val="1f497d"/>
                </a:solidFill>
                <a:latin typeface="Arial"/>
              </a:rPr>
              <a:t>The Condo of Condo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15560" y="3428640"/>
            <a:ext cx="11053800" cy="52578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t">
            <a:norm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298520"/>
                <a:tab algn="l" pos="2597040"/>
                <a:tab algn="l" pos="3895560"/>
                <a:tab algn="l" pos="5194440"/>
                <a:tab algn="l" pos="6492960"/>
                <a:tab algn="l" pos="7791480"/>
                <a:tab algn="l" pos="9090000"/>
                <a:tab algn="l" pos="10388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im Bottum, Jim Pepin, Barr von Oehsen – Clemson University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298520"/>
                <a:tab algn="l" pos="2597040"/>
                <a:tab algn="l" pos="3895560"/>
                <a:tab algn="l" pos="5194440"/>
                <a:tab algn="l" pos="6492960"/>
                <a:tab algn="l" pos="7791480"/>
                <a:tab algn="l" pos="9090000"/>
                <a:tab algn="l" pos="10388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th Marinshaw – Stanford University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298520"/>
                <a:tab algn="l" pos="2597040"/>
                <a:tab algn="l" pos="3895560"/>
                <a:tab algn="l" pos="5194440"/>
                <a:tab algn="l" pos="6492960"/>
                <a:tab algn="l" pos="7791480"/>
                <a:tab algn="l" pos="9090000"/>
                <a:tab algn="l" pos="10388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an Wolf – University of Wisconsin – Madison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298520"/>
                <a:tab algn="l" pos="2597040"/>
                <a:tab algn="l" pos="3895560"/>
                <a:tab algn="l" pos="5194440"/>
                <a:tab algn="l" pos="6492960"/>
                <a:tab algn="l" pos="7791480"/>
                <a:tab algn="l" pos="9090000"/>
                <a:tab algn="l" pos="10388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im Wilgenbusch –Florida State University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298520"/>
                <a:tab algn="l" pos="2597040"/>
                <a:tab algn="l" pos="3895560"/>
                <a:tab algn="l" pos="5194440"/>
                <a:tab algn="l" pos="6492960"/>
                <a:tab algn="l" pos="7791480"/>
                <a:tab algn="l" pos="9090000"/>
                <a:tab algn="l" pos="10388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ureen Dougherty – University of Southern California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298520"/>
                <a:tab algn="l" pos="2597040"/>
                <a:tab algn="l" pos="3895560"/>
                <a:tab algn="l" pos="5194440"/>
                <a:tab algn="l" pos="6492960"/>
                <a:tab algn="l" pos="7791480"/>
                <a:tab algn="l" pos="9090000"/>
                <a:tab algn="l" pos="10388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ve Gordon, Dave Hudak - Ohio Supercomputing Center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298520"/>
                <a:tab algn="l" pos="2597040"/>
                <a:tab algn="l" pos="3895560"/>
                <a:tab algn="l" pos="5194440"/>
                <a:tab algn="l" pos="6492960"/>
                <a:tab algn="l" pos="7791480"/>
                <a:tab algn="l" pos="9090000"/>
                <a:tab algn="l" pos="10388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lia Harrison – University of Utah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298520"/>
                <a:tab algn="l" pos="2597040"/>
                <a:tab algn="l" pos="3895560"/>
                <a:tab algn="l" pos="5194440"/>
                <a:tab algn="l" pos="6492960"/>
                <a:tab algn="l" pos="7791480"/>
                <a:tab algn="l" pos="9090000"/>
                <a:tab algn="l" pos="10388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ve Wolff, Wendy Huntoon – Internet2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1298520"/>
                <a:tab algn="l" pos="2597040"/>
                <a:tab algn="l" pos="3895560"/>
                <a:tab algn="l" pos="5194440"/>
                <a:tab algn="l" pos="6492960"/>
                <a:tab algn="l" pos="7791480"/>
                <a:tab algn="l" pos="9090000"/>
                <a:tab algn="l" pos="103885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enry Neeman, Josh Alexander – University of Oklahoma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1298520"/>
                <a:tab algn="l" pos="2597040"/>
                <a:tab algn="l" pos="3895560"/>
                <a:tab algn="l" pos="5194440"/>
                <a:tab algn="l" pos="6492960"/>
                <a:tab algn="l" pos="7791480"/>
                <a:tab algn="l" pos="9090000"/>
                <a:tab algn="l" pos="10388520"/>
              </a:tabLst>
            </a:pP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AutoShape 4"/>
          <p:cNvSpPr/>
          <p:nvPr/>
        </p:nvSpPr>
        <p:spPr>
          <a:xfrm>
            <a:off x="12296880" y="9110520"/>
            <a:ext cx="520560" cy="520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76320" bIns="76320" anchor="b">
            <a:noAutofit/>
          </a:bodyPr>
          <a:p>
            <a:pPr algn="r">
              <a:tabLst>
                <a:tab algn="l" pos="0"/>
                <a:tab algn="l" pos="647640"/>
                <a:tab algn="l" pos="1295280"/>
                <a:tab algn="l" pos="1943280"/>
                <a:tab algn="l" pos="2590920"/>
                <a:tab algn="l" pos="3238560"/>
                <a:tab algn="l" pos="3886200"/>
                <a:tab algn="l" pos="4533840"/>
                <a:tab algn="l" pos="5181480"/>
                <a:tab algn="l" pos="5829480"/>
                <a:tab algn="l" pos="6477120"/>
                <a:tab algn="l" pos="7124760"/>
                <a:tab algn="l" pos="7772400"/>
                <a:tab algn="l" pos="8420040"/>
                <a:tab algn="l" pos="9067680"/>
                <a:tab algn="l" pos="9715680"/>
                <a:tab algn="l" pos="1036332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5"/>
          <p:cNvSpPr/>
          <p:nvPr/>
        </p:nvSpPr>
        <p:spPr>
          <a:xfrm>
            <a:off x="330120" y="-76320"/>
            <a:ext cx="1211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1f497d"/>
                </a:solidFill>
                <a:latin typeface="Arial"/>
                <a:ea typeface="Arial"/>
              </a:rPr>
              <a:t>Early Collaboration </a:t>
            </a:r>
            <a:r>
              <a:rPr b="1" lang="en-US" sz="6000" spc="-1" strike="noStrike">
                <a:solidFill>
                  <a:srgbClr val="1f497d"/>
                </a:solidFill>
                <a:latin typeface="Arial"/>
                <a:ea typeface="Arial"/>
              </a:rPr>
              <a:t>-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NSF13-528 HPC Acqui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InnovationPlatformV5.pdf"/>
          <p:cNvPicPr/>
          <p:nvPr/>
        </p:nvPicPr>
        <p:blipFill>
          <a:blip r:embed="rId1"/>
          <a:stretch/>
        </p:blipFill>
        <p:spPr>
          <a:xfrm>
            <a:off x="482760" y="976320"/>
            <a:ext cx="11353680" cy="877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58360" y="2590560"/>
            <a:ext cx="11704680" cy="15174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f497d"/>
                </a:solidFill>
                <a:latin typeface="Arial"/>
              </a:rPr>
              <a:t>Question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"/>
          <p:cNvSpPr/>
          <p:nvPr/>
        </p:nvSpPr>
        <p:spPr>
          <a:xfrm>
            <a:off x="787320" y="3962520"/>
            <a:ext cx="117046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http://www.condo-of-condos.or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f497d"/>
                </a:solidFill>
                <a:latin typeface="Arial"/>
                <a:ea typeface="Arial"/>
              </a:rPr>
              <a:t>Wednesday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f497d"/>
                </a:solidFill>
                <a:latin typeface="Arial"/>
                <a:ea typeface="Arial"/>
              </a:rPr>
              <a:t>Condo of Condos Q&amp;A Sess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f497d"/>
                </a:solidFill>
                <a:latin typeface="Arial"/>
                <a:ea typeface="Arial"/>
              </a:rPr>
              <a:t>Starting at 3:00 PM in La Cost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60000" y="379440"/>
            <a:ext cx="11704680" cy="1517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f497d"/>
                </a:solidFill>
                <a:latin typeface="Arial"/>
              </a:rPr>
              <a:t>Governan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rcRect l="1547" t="1997" r="1192" b="1578"/>
          <a:stretch/>
        </p:blipFill>
        <p:spPr>
          <a:xfrm>
            <a:off x="1473120" y="2057400"/>
            <a:ext cx="9601200" cy="65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60000" y="379440"/>
            <a:ext cx="11704680" cy="1517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f497d"/>
                </a:solidFill>
                <a:latin typeface="Arial"/>
              </a:rPr>
              <a:t>Research Overlap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1"/>
          <p:cNvGraphicFramePr/>
          <p:nvPr/>
        </p:nvGraphicFramePr>
        <p:xfrm>
          <a:off x="863640" y="2666880"/>
          <a:ext cx="11231640" cy="627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3640" y="2666880"/>
                    <a:ext cx="11231640" cy="627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8680" y="533160"/>
            <a:ext cx="12345840" cy="16254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1298520"/>
                <a:tab algn="l" pos="2597040"/>
                <a:tab algn="l" pos="3895560"/>
                <a:tab algn="l" pos="5194440"/>
                <a:tab algn="l" pos="6492960"/>
                <a:tab algn="l" pos="7791480"/>
                <a:tab algn="l" pos="9090000"/>
                <a:tab algn="l" pos="10388520"/>
              </a:tabLst>
            </a:pPr>
            <a:r>
              <a:rPr b="1" lang="en-US" sz="5800" spc="-1" strike="noStrike">
                <a:solidFill>
                  <a:srgbClr val="1f497d"/>
                </a:solidFill>
                <a:latin typeface="Arial"/>
              </a:rPr>
              <a:t>Condo of Condos </a:t>
            </a:r>
            <a:br>
              <a:rPr sz="5800"/>
            </a:br>
            <a:r>
              <a:rPr b="1" lang="en-US" sz="5800" spc="-1" strike="noStrike">
                <a:solidFill>
                  <a:srgbClr val="1f497d"/>
                </a:solidFill>
                <a:latin typeface="Arial"/>
              </a:rPr>
              <a:t>Founding Consortium Members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1168560" y="2362320"/>
            <a:ext cx="10312200" cy="67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8320" y="431640"/>
            <a:ext cx="11706120" cy="16257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1298520"/>
                <a:tab algn="l" pos="2597040"/>
                <a:tab algn="l" pos="3895560"/>
                <a:tab algn="l" pos="5194440"/>
                <a:tab algn="l" pos="6492960"/>
                <a:tab algn="l" pos="7791480"/>
                <a:tab algn="l" pos="9090000"/>
                <a:tab algn="l" pos="10388520"/>
              </a:tabLst>
            </a:pPr>
            <a:r>
              <a:rPr b="1" lang="en-US" sz="5800" spc="-1" strike="noStrike">
                <a:solidFill>
                  <a:srgbClr val="1f497d"/>
                </a:solidFill>
                <a:latin typeface="Arial"/>
              </a:rPr>
              <a:t>Vision</a:t>
            </a:r>
            <a:br>
              <a:rPr sz="5800"/>
            </a:b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343080" y="2057400"/>
            <a:ext cx="11704320" cy="73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76320" bIns="76320" anchor="t">
            <a:noAutofit/>
          </a:bodyPr>
          <a:p>
            <a:pPr marL="108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298520"/>
                <a:tab algn="l" pos="2597040"/>
                <a:tab algn="l" pos="3895560"/>
                <a:tab algn="l" pos="5194440"/>
                <a:tab algn="l" pos="6492960"/>
                <a:tab algn="l" pos="7791480"/>
                <a:tab algn="l" pos="9090000"/>
                <a:tab algn="l" pos="103885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vance our nation's research &amp; scholarly achievements through the transformation of campus computational capabilities and enhanced coupling to the national infra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298520"/>
                <a:tab algn="l" pos="2597040"/>
                <a:tab algn="l" pos="3895560"/>
                <a:tab algn="l" pos="5194440"/>
                <a:tab algn="l" pos="6492960"/>
                <a:tab algn="l" pos="7791480"/>
                <a:tab algn="l" pos="9090000"/>
                <a:tab algn="l" pos="10388520"/>
              </a:tabLst>
            </a:pPr>
            <a:r>
              <a:rPr b="1" lang="en-US" sz="5400" spc="-1" strike="noStrike">
                <a:solidFill>
                  <a:srgbClr val="1f497d"/>
                </a:solidFill>
                <a:latin typeface="Arial"/>
              </a:rPr>
              <a:t>CoC Tene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spcBef>
                <a:spcPts val="499"/>
              </a:spcBef>
              <a:buClr>
                <a:srgbClr val="000090"/>
              </a:buClr>
              <a:buFont typeface="Arial"/>
              <a:buChar char="•"/>
              <a:tabLst>
                <a:tab algn="l" pos="1298520"/>
                <a:tab algn="l" pos="2597040"/>
                <a:tab algn="l" pos="3895560"/>
                <a:tab algn="l" pos="5194440"/>
                <a:tab algn="l" pos="6492960"/>
                <a:tab algn="l" pos="7791480"/>
                <a:tab algn="l" pos="9090000"/>
                <a:tab algn="l" pos="103885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ggregation of resou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spcBef>
                <a:spcPts val="499"/>
              </a:spcBef>
              <a:buClr>
                <a:srgbClr val="000090"/>
              </a:buClr>
              <a:buFont typeface="Arial"/>
              <a:buChar char="•"/>
              <a:tabLst>
                <a:tab algn="l" pos="1298520"/>
                <a:tab algn="l" pos="2597040"/>
                <a:tab algn="l" pos="3895560"/>
                <a:tab algn="l" pos="5194440"/>
                <a:tab algn="l" pos="6492960"/>
                <a:tab algn="l" pos="7791480"/>
                <a:tab algn="l" pos="9090000"/>
                <a:tab algn="l" pos="103885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ilding a community through leveraging expert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spcBef>
                <a:spcPts val="499"/>
              </a:spcBef>
              <a:buClr>
                <a:srgbClr val="000090"/>
              </a:buClr>
              <a:buFont typeface="Arial"/>
              <a:buChar char="•"/>
              <a:tabLst>
                <a:tab algn="l" pos="1298520"/>
                <a:tab algn="l" pos="2597040"/>
                <a:tab algn="l" pos="3895560"/>
                <a:tab algn="l" pos="5194440"/>
                <a:tab algn="l" pos="6492960"/>
                <a:tab algn="l" pos="7791480"/>
                <a:tab algn="l" pos="9090000"/>
                <a:tab algn="l" pos="103885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ginal investments -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formational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spcBef>
                <a:spcPts val="499"/>
              </a:spcBef>
              <a:buClr>
                <a:srgbClr val="000090"/>
              </a:buClr>
              <a:buFont typeface="Arial"/>
              <a:buChar char="•"/>
              <a:tabLst>
                <a:tab algn="l" pos="1298520"/>
                <a:tab algn="l" pos="2597040"/>
                <a:tab algn="l" pos="3895560"/>
                <a:tab algn="l" pos="5194440"/>
                <a:tab algn="l" pos="6492960"/>
                <a:tab algn="l" pos="7791480"/>
                <a:tab algn="l" pos="9090000"/>
                <a:tab algn="l" pos="103885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novation Platform deploy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spcBef>
                <a:spcPts val="499"/>
              </a:spcBef>
              <a:buClr>
                <a:srgbClr val="000090"/>
              </a:buClr>
              <a:buFont typeface="Arial"/>
              <a:buChar char="•"/>
              <a:tabLst>
                <a:tab algn="l" pos="1298520"/>
                <a:tab algn="l" pos="2597040"/>
                <a:tab algn="l" pos="3895560"/>
                <a:tab algn="l" pos="5194440"/>
                <a:tab algn="l" pos="6492960"/>
                <a:tab algn="l" pos="7791480"/>
                <a:tab algn="l" pos="9090000"/>
                <a:tab algn="l" pos="1038852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iger Teams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SD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spcBef>
                <a:spcPts val="499"/>
              </a:spcBef>
              <a:buClr>
                <a:srgbClr val="000090"/>
              </a:buClr>
              <a:buFont typeface="Arial"/>
              <a:buChar char="•"/>
              <a:tabLst>
                <a:tab algn="l" pos="1298520"/>
                <a:tab algn="l" pos="2597040"/>
                <a:tab algn="l" pos="3895560"/>
                <a:tab algn="l" pos="5194440"/>
                <a:tab algn="l" pos="6492960"/>
                <a:tab algn="l" pos="7791480"/>
                <a:tab algn="l" pos="9090000"/>
                <a:tab algn="l" pos="103885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utational Science and Digital Schola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298520"/>
                <a:tab algn="l" pos="2597040"/>
                <a:tab algn="l" pos="3895560"/>
                <a:tab algn="l" pos="5194440"/>
                <a:tab algn="l" pos="6492960"/>
                <a:tab algn="l" pos="7791480"/>
                <a:tab algn="l" pos="9090000"/>
                <a:tab algn="l" pos="103885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298520"/>
                <a:tab algn="l" pos="2597040"/>
                <a:tab algn="l" pos="3895560"/>
                <a:tab algn="l" pos="5194440"/>
                <a:tab algn="l" pos="6492960"/>
                <a:tab algn="l" pos="7791480"/>
                <a:tab algn="l" pos="9090000"/>
                <a:tab algn="l" pos="103885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298520"/>
                <a:tab algn="l" pos="2597040"/>
                <a:tab algn="l" pos="3895560"/>
                <a:tab algn="l" pos="5194440"/>
                <a:tab algn="l" pos="6492960"/>
                <a:tab algn="l" pos="7791480"/>
                <a:tab algn="l" pos="9090000"/>
                <a:tab algn="l" pos="103885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298520"/>
                <a:tab algn="l" pos="2597040"/>
                <a:tab algn="l" pos="3895560"/>
                <a:tab algn="l" pos="5194440"/>
                <a:tab algn="l" pos="6492960"/>
                <a:tab algn="l" pos="7791480"/>
                <a:tab algn="l" pos="9090000"/>
                <a:tab algn="l" pos="103885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298520"/>
                <a:tab algn="l" pos="2597040"/>
                <a:tab algn="l" pos="3895560"/>
                <a:tab algn="l" pos="5194440"/>
                <a:tab algn="l" pos="6492960"/>
                <a:tab algn="l" pos="7791480"/>
                <a:tab algn="l" pos="9090000"/>
                <a:tab algn="l" pos="103885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08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298520"/>
                <a:tab algn="l" pos="2597040"/>
                <a:tab algn="l" pos="3895560"/>
                <a:tab algn="l" pos="5194440"/>
                <a:tab algn="l" pos="6492960"/>
                <a:tab algn="l" pos="7791480"/>
                <a:tab algn="l" pos="9090000"/>
                <a:tab algn="l" pos="1038852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8680" y="431640"/>
            <a:ext cx="12879360" cy="16257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1297080"/>
                <a:tab algn="l" pos="2593800"/>
                <a:tab algn="l" pos="3890880"/>
                <a:tab algn="l" pos="5187960"/>
                <a:tab algn="l" pos="6485040"/>
                <a:tab algn="l" pos="7781760"/>
                <a:tab algn="l" pos="9078840"/>
                <a:tab algn="l" pos="10375920"/>
              </a:tabLst>
            </a:pPr>
            <a:r>
              <a:rPr b="1" lang="en-US" sz="5800" spc="-1" strike="noStrike">
                <a:solidFill>
                  <a:srgbClr val="1f497d"/>
                </a:solidFill>
                <a:latin typeface="Arial"/>
              </a:rPr>
              <a:t>A Motivation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045120" y="8152920"/>
            <a:ext cx="4556160" cy="5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rce:  Educause Core Data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60" name="5da16e6c-cbdc-4f62-9307-6f5227009676" descr="050AD649-DACF-4E1D-AFF0-50330334003D@clemson"/>
          <p:cNvPicPr/>
          <p:nvPr/>
        </p:nvPicPr>
        <p:blipFill>
          <a:blip r:embed="rId1"/>
          <a:stretch/>
        </p:blipFill>
        <p:spPr>
          <a:xfrm>
            <a:off x="2540160" y="2286000"/>
            <a:ext cx="8096040" cy="5457960"/>
          </a:xfrm>
          <a:prstGeom prst="rect">
            <a:avLst/>
          </a:prstGeom>
          <a:ln w="0">
            <a:noFill/>
          </a:ln>
        </p:spPr>
      </p:pic>
      <p:sp>
        <p:nvSpPr>
          <p:cNvPr id="61" name="TextBox 5"/>
          <p:cNvSpPr/>
          <p:nvPr/>
        </p:nvSpPr>
        <p:spPr>
          <a:xfrm>
            <a:off x="6045120" y="792468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:  Educause Cor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peopleOnPalmetto2013.png"/>
          <p:cNvPicPr/>
          <p:nvPr/>
        </p:nvPicPr>
        <p:blipFill>
          <a:blip r:embed="rId1"/>
          <a:stretch/>
        </p:blipFill>
        <p:spPr>
          <a:xfrm>
            <a:off x="1015920" y="2971800"/>
            <a:ext cx="10753920" cy="63244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8680" y="431640"/>
            <a:ext cx="12879360" cy="16257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1297080"/>
                <a:tab algn="l" pos="2593800"/>
                <a:tab algn="l" pos="3890880"/>
                <a:tab algn="l" pos="5187960"/>
                <a:tab algn="l" pos="6485040"/>
                <a:tab algn="l" pos="7781760"/>
                <a:tab algn="l" pos="9078840"/>
                <a:tab algn="l" pos="10375920"/>
              </a:tabLst>
            </a:pPr>
            <a:r>
              <a:rPr b="1" lang="en-US" sz="5800" spc="-1" strike="noStrike">
                <a:solidFill>
                  <a:srgbClr val="1f497d"/>
                </a:solidFill>
                <a:latin typeface="Arial"/>
              </a:rPr>
              <a:t>Transformative Effect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8"/>
          <p:cNvSpPr/>
          <p:nvPr/>
        </p:nvSpPr>
        <p:spPr>
          <a:xfrm flipV="1">
            <a:off x="6273720" y="2971800"/>
            <a:ext cx="0" cy="6019920"/>
          </a:xfrm>
          <a:prstGeom prst="line">
            <a:avLst/>
          </a:prstGeom>
          <a:ln w="19080">
            <a:solidFill>
              <a:srgbClr val="5354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0"/>
          <p:cNvSpPr/>
          <p:nvPr/>
        </p:nvSpPr>
        <p:spPr>
          <a:xfrm>
            <a:off x="6443640" y="3733920"/>
            <a:ext cx="388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ffect of adding 1 FTE to the 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 of NSF stimulus 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541440" y="2057400"/>
            <a:ext cx="11958480" cy="2666880"/>
          </a:xfrm>
          <a:prstGeom prst="rect">
            <a:avLst/>
          </a:prstGeom>
          <a:noFill/>
          <a:ln w="0">
            <a:noFill/>
          </a:ln>
        </p:spPr>
        <p:txBody>
          <a:bodyPr lIns="129960" rIns="129960" tIns="65160" bIns="65160" anchor="t">
            <a:normAutofit/>
          </a:bodyPr>
          <a:p>
            <a:pPr marL="571680" indent="-571680">
              <a:buClr>
                <a:srgbClr val="000000"/>
              </a:buClr>
              <a:buFont typeface="Georgi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Reaching out to “long-tail” science researchers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 marL="571680" indent="-571680">
              <a:buClr>
                <a:srgbClr val="000000"/>
              </a:buClr>
              <a:buFont typeface="Georgi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Moving people from desktop to local/regional and to national advanced computing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 marL="571680" indent="-571680">
              <a:buClr>
                <a:srgbClr val="000000"/>
              </a:buClr>
              <a:buFont typeface="Georgia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eorgia"/>
              </a:rPr>
              <a:t>Success fostered by interpersonal support </a:t>
            </a:r>
            <a:r>
              <a:rPr b="0" lang="en-US" sz="3600" spc="-1" strike="noStrike">
                <a:solidFill>
                  <a:srgbClr val="ffffff"/>
                </a:solidFill>
                <a:latin typeface="Georgia"/>
              </a:rPr>
              <a:t>network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 marL="571680" indent="-571680"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67" name="Picture 3" descr="fy08.png"/>
          <p:cNvPicPr/>
          <p:nvPr/>
        </p:nvPicPr>
        <p:blipFill>
          <a:blip r:embed="rId1"/>
          <a:stretch/>
        </p:blipFill>
        <p:spPr>
          <a:xfrm>
            <a:off x="541440" y="4879800"/>
            <a:ext cx="5211720" cy="3948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68" name="Picture 4" descr="fy13.png"/>
          <p:cNvPicPr/>
          <p:nvPr/>
        </p:nvPicPr>
        <p:blipFill>
          <a:blip r:embed="rId2"/>
          <a:stretch/>
        </p:blipFill>
        <p:spPr>
          <a:xfrm>
            <a:off x="6659640" y="4879800"/>
            <a:ext cx="5387760" cy="396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9" name="TextBox 5"/>
          <p:cNvSpPr/>
          <p:nvPr/>
        </p:nvSpPr>
        <p:spPr>
          <a:xfrm>
            <a:off x="1032480" y="8915400"/>
            <a:ext cx="42613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8: 18 Research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7007760" y="8847000"/>
            <a:ext cx="42613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9960" rIns="129960" tIns="65160" bIns="6516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13: 36 Research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8680" y="431640"/>
            <a:ext cx="12879360" cy="16257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76320" bIns="76320" anchor="ctr">
            <a:noAutofit/>
          </a:bodyPr>
          <a:p>
            <a:pPr indent="0">
              <a:buNone/>
              <a:tabLst>
                <a:tab algn="l" pos="0"/>
                <a:tab algn="l" pos="1297080"/>
                <a:tab algn="l" pos="2593800"/>
                <a:tab algn="l" pos="3890880"/>
                <a:tab algn="l" pos="5187960"/>
                <a:tab algn="l" pos="6485040"/>
                <a:tab algn="l" pos="7781760"/>
                <a:tab algn="l" pos="9078840"/>
                <a:tab algn="l" pos="10375920"/>
              </a:tabLst>
            </a:pPr>
            <a:r>
              <a:rPr b="1" lang="en-US" sz="5800" spc="-1" strike="noStrike">
                <a:solidFill>
                  <a:srgbClr val="1f497d"/>
                </a:solidFill>
                <a:latin typeface="Arial"/>
              </a:rPr>
              <a:t>Community Growth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1f497d"/>
                </a:solidFill>
                <a:latin typeface="Arial"/>
              </a:rPr>
              <a:t>Partne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verage existing national programs dedicated to interoperability. Condo of Condos addresses the needs of the steadily increasing 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ng tail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of advanced cyberinfrastructure (ACI) users.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 lvl="1" marL="327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 lvl="1" marL="327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ternet2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 lvl="1" marL="327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SEDE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 lvl="1" marL="327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en Science Grid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 lvl="1" marL="327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tureGrid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 lvl="1" marL="327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I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 lvl="1" marL="327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lue Waters 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 lvl="1" marL="327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PSCoR Track II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0000" y="379440"/>
            <a:ext cx="11704680" cy="151776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63360" bIns="63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f497d"/>
                </a:solidFill>
                <a:latin typeface="Arial"/>
              </a:rPr>
              <a:t>Outcom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reate a community of practitioners that: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 lvl="1" marL="341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ares knowledge, experience, and expertise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 lvl="1" marL="341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s research communities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 lvl="1" marL="341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 extended local and national collaborations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 a model for 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am science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that can be extended and replicated nationwide for both IT staff and scholars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1015920" y="990720"/>
            <a:ext cx="10820520" cy="86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6T00:59:29Z</dcterms:created>
  <dc:creator>Jim</dc:creator>
  <dc:description/>
  <dc:language>en-US</dc:language>
  <cp:lastModifiedBy>James von Oehsen</cp:lastModifiedBy>
  <dcterms:modified xsi:type="dcterms:W3CDTF">2013-07-23T19:04:36Z</dcterms:modified>
  <cp:revision>34</cp:revision>
  <dc:subject/>
  <dc:title>The Condo of Condos</dc:title>
</cp:coreProperties>
</file>