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C5831-9DF4-4B68-B731-73F94D7B58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AC454-8EBA-47E1-87F3-5304C2D0B3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F29C-6519-4739-A8F7-7E25B2CB7E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63520-6273-4988-9031-5A1AE884B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DBB6C-27E3-402C-B8B2-E058026C91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4318-1C4D-46F6-AED0-A8D6B5DC5B1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AB26-74BC-4097-8FED-275C1C7F56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CA752-8F60-48EC-B520-80B715C4B75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308B-9E3D-4A7D-BA48-5CE99B2E8D0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3F687-3EC2-4885-B4A2-FA263AFFAD0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DA94-9DC6-44E5-9697-3C33A25DFF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EB05C-3137-46EB-85E7-4A802F134E3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FC72-D984-4AC4-B28E-F5FA3736F5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0694D-ECEE-4030-8A6F-FE207503500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210D1-C820-4A44-977D-DC2941C2AFD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5B7F-3845-48B0-A394-E884847AAE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A5F60-4369-45E4-A6F7-DBF2FEB0C5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3BE2A-2ACB-4FB0-A6DC-03DE77DE56C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F3E15-8A91-4F9E-BE36-D3670397817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20B80-CB29-4719-86D7-75F3C8A46EA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E181-A1A0-4B63-8F7B-D7C67E1EFAE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B742A-8894-4EA1-A88C-8E42A832DC8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F0005-1397-49FE-A373-DF2CE6081C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03217-A2C9-4886-B021-FCD0F2ECAD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A52-7A88-4645-BA5D-8C3CF39789A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08D-BF6C-4529-9E1D-B34AFC0A446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9010-C66E-4AC0-8CEF-443900248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F02-A36B-4CF1-A76A-1373188DAF6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9FE-E8CC-4425-B873-69D5D9AC4FB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942E-7A3D-4739-8925-6F84C63FCD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6BE-1F59-4DA1-9361-58839C72B3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68AA-BF28-451A-9EA1-0C17E413981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C55C-7A6D-4CB8-A463-16A12D19141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D742-7739-432E-A787-C7DC30B412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D3E6-6A96-4E5D-A147-5A56283AD1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9D5-000C-4A1D-BBEA-40476F92CA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C048A-19F9-4670-A6FA-8FD2AC8DF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E1AB1-CD4A-40F9-8632-14A9B1F5E1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7D3E2-2FBD-44DE-AF19-C74CC5A417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E486A-660B-49E7-933A-F079A437DB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90346-184F-4884-A23D-24D255247D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E1BE0-E90D-4F8A-A22F-D70EDB2EBC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02D298-F454-46EE-A478-4D0F6B7009E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C992E-F561-4150-A510-3F745CF6A3C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058D4E-C34F-4E9B-84DF-2B0EC9782C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DFDD9-FAD2-48A3-80D8-D130110DDA7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3043D5-81CA-4699-92F2-008A412A4A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3D7B62-0455-46DF-A2A3-886F7F1E5CD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B0C39-CF1E-43CE-8B4D-9E78EEBE91B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3F0740-83BB-4C5C-8F03-82D6DFB30B0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F57AF8-570A-48E9-9AA6-3F229DCEA33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EACD8E-B923-4F71-B7E7-13F9C64EBCB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5E1E6-8121-455C-A340-797CE838856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1E937E-BCF6-47B5-A662-B8A4E1DD8C3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5BC62B-7DD8-4474-B336-51F9236D09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38B1F2-BA35-4E0E-9A17-F4581429CFC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B8824-60ED-4710-831A-DFD0BB2AF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B47D-1184-4E3B-868C-14E7CACB01E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8D663-B157-4A48-83E5-945EEE5D7E2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227BC-2EDA-4FF6-AFE4-7E5A509B854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57A0-BFED-4CD1-A2E5-6431A1E91E2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4C17-40C3-4FF4-9DEA-BB2E0B860AC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19C0C-3B80-4EA9-8853-9E4AC1EB8A3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1C7-AE48-46FC-A448-7CF8B581D09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AE48-C073-459A-8B29-FF88A6666D5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33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C675-5D46-4B4F-8994-64EE0AD5913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4D11-1593-4DFD-9755-DF4F8EA8F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160C-5DBE-4B1A-A46C-8EF86ECA4A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E901-FF66-43D9-AD20-E26D3EA97BB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7DFB-CE89-4832-8F89-FE398556929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2440" y="36453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DE4CB-F20C-4E56-8EE5-57C17D1B748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820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19560" y="12189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684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820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19560" y="3645360"/>
            <a:ext cx="264852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CAD60-AC4F-4397-9EA2-F2DE9513B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218960"/>
            <a:ext cx="4014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645360"/>
            <a:ext cx="82263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705720" y="3510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F7EE9-4902-4CB2-9F70-D695C5D909AF}" type="datetime">
              <a:rPr b="0" lang="en-US" sz="1500" spc="-1" strike="noStrike">
                <a:solidFill>
                  <a:srgbClr val="ffffff"/>
                </a:solidFill>
                <a:latin typeface="Verdana"/>
                <a:ea typeface="Verdana"/>
              </a:rPr>
              <a:t>07/28/26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4"/>
          <a:stretch/>
        </p:blipFill>
        <p:spPr>
          <a:xfrm>
            <a:off x="7772400" y="50292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1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5A8B611A-119D-44E5-BBB4-4CF82FC30D3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8752940-B59A-49C9-B343-099C4FB946ED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3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AB545897-FEC9-48C7-8D6E-3971E3EF7FBA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4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3B011183-6BC9-4FBA-9BD4-80AFA982112C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5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429A1C30-0D78-4173-B736-3B18E4C6D2C9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66760" y="6248520"/>
            <a:ext cx="571320" cy="57132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6"/>
          </p:nvPr>
        </p:nvSpPr>
        <p:spPr>
          <a:xfrm>
            <a:off x="1219320" y="6349680"/>
            <a:ext cx="1216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fld id="{B357E24F-189A-43EE-A272-50A8C9DCAF10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609480" y="1914480"/>
            <a:ext cx="7848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velopment of Undergraduate and Graduate Programs in Computation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3657600"/>
            <a:ext cx="7848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b9cde5"/>
                </a:solidFill>
                <a:latin typeface="Arial"/>
                <a:ea typeface="Arial"/>
              </a:rPr>
              <a:t>Péter Molnár, David Toth, Rachel Vincent-Finle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outhern University and A &amp; M Colleg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Southern University and A &amp; M College (SUBR) is a historically black institution founded in 1880.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Calibri"/>
              </a:rPr>
              <a:t>Demographic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Average of 8,000 students per year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Degree Program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2 Associate degree program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42 Bachelor’s degree program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20 Master’s degree program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Calibri"/>
              </a:rPr>
              <a:t>5 Doctoral degree program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pic>
        <p:nvPicPr>
          <p:cNvPr id="362" name="Picture 3" descr=""/>
          <p:cNvPicPr/>
          <p:nvPr/>
        </p:nvPicPr>
        <p:blipFill>
          <a:blip r:embed="rId1"/>
          <a:stretch/>
        </p:blipFill>
        <p:spPr>
          <a:xfrm>
            <a:off x="5148360" y="2819520"/>
            <a:ext cx="35049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Academic Colleges &amp; School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Agricultural, Family &amp; Consumer Services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College of Arts &amp; Humanities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College of Business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College of Education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College of Engineering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3333ff"/>
                </a:solidFill>
                <a:latin typeface="Calibri"/>
              </a:rPr>
              <a:t>College of Sciences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School of Architecture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School of Nursing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  <a:p>
            <a:pPr marL="234000" indent="-234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254061"/>
                </a:solidFill>
                <a:latin typeface="Calibri"/>
              </a:rPr>
              <a:t>Nelson Mandela School of Public Policy and Urban Affairs</a:t>
            </a:r>
            <a:endParaRPr b="0" lang="en-US" sz="2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Stakeholder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1904760"/>
            <a:ext cx="4572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College of Scienc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iological Scienc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Chemistr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Computer Science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Mathematic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Physic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Rehabilitation and Disability Studie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Social Work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Sociolog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</a:rPr>
              <a:t>Speech-Language Pathology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5181480" y="1905120"/>
            <a:ext cx="36576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College of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Calibri"/>
                <a:ea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Civil &amp; Environmen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Electr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Mechanical Engine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Electronics Engineering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   </a:t>
            </a:r>
            <a:r>
              <a:rPr b="0" lang="en-US" sz="2000" spc="-1" strike="noStrike">
                <a:solidFill>
                  <a:srgbClr val="254061"/>
                </a:solidFill>
                <a:latin typeface="Arial"/>
                <a:ea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omputer Scienc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456840" y="18284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</a:rPr>
              <a:t>Scientific Option 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7 hours in Computer Science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hours in Natural Science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 hours in Mathematics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33 semester hours) </a:t>
            </a: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70" name="Content Placeholder 2"/>
          <p:cNvSpPr/>
          <p:nvPr/>
        </p:nvSpPr>
        <p:spPr>
          <a:xfrm>
            <a:off x="4724280" y="1828800"/>
            <a:ext cx="4114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Arial"/>
                <a:ea typeface="Arial"/>
              </a:rPr>
              <a:t>Information System O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8 hours in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5 hours in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8 hours in Natural Sci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7 hours in Mathema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tal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32 semeste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omputer Scienc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914400" y="1859040"/>
          <a:ext cx="7010280" cy="3475080"/>
        </p:xfrm>
        <a:graphic>
          <a:graphicData uri="http://schemas.openxmlformats.org/drawingml/2006/table">
            <a:tbl>
              <a:tblPr/>
              <a:tblGrid>
                <a:gridCol w="5410080"/>
                <a:gridCol w="16002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ateg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Arial"/>
                        </a:rPr>
                        <a:t>Credit Hou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mputer Science cour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8 – 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Mathematics/Statist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17 -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hys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8 -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Life Scienc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cience/Quantitative Sci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Written Commun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e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Other (Humanities, Social Science, et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37 – 4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PC University Graduate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639720" y="1189080"/>
            <a:ext cx="80470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HPC University Training Road Map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229600" cy="34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ommon Challenges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So many courses required unless they are specialized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Not enough faculty to create/run specialized course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Need enough students to run specialized course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ooperation between dept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Never enough funding from administration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b1b03"/>
                </a:solidFill>
                <a:latin typeface="Calibri"/>
              </a:rPr>
              <a:t>We’re trying anyway!!!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Discussi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Péter Molnár 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pmolnar@cau.edu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David Toth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dtoth@umw.edu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Rachel Vincent-Finley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254061"/>
                </a:solidFill>
                <a:latin typeface="Calibri"/>
              </a:rPr>
              <a:t>rachel_finley@subr.edu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lark Atlanta University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33320" y="930240"/>
            <a:ext cx="7753320" cy="50292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980480" y="204840"/>
            <a:ext cx="9144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7696080" y="3581280"/>
            <a:ext cx="731880" cy="1371600"/>
          </a:xfrm>
          <a:prstGeom prst="upArrow">
            <a:avLst>
              <a:gd name="adj1" fmla="val 50000"/>
              <a:gd name="adj2" fmla="val 46852"/>
            </a:avLst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Arial"/>
              </a:rPr>
              <a:t>Areas of Computational Science Degrees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 (I)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249200"/>
            <a:ext cx="18288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s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29080" y="1249200"/>
            <a:ext cx="1828800" cy="9144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46600" y="1249200"/>
            <a:ext cx="1828800" cy="9144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904080" y="1249200"/>
            <a:ext cx="1828800" cy="9144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334280" y="249084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249552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8640" y="2489040"/>
            <a:ext cx="1371600" cy="914400"/>
          </a:xfrm>
          <a:prstGeom prst="flowChartProcess">
            <a:avLst/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97360" y="248904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9800" y="2489040"/>
            <a:ext cx="137160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24560" y="2384280"/>
            <a:ext cx="3348000" cy="1548000"/>
          </a:xfrm>
          <a:prstGeom prst="flowChartProcess">
            <a:avLst/>
          </a:prstGeom>
          <a:noFill/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raditional “wet lab”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65040" y="2378160"/>
            <a:ext cx="5029200" cy="1554120"/>
          </a:xfrm>
          <a:prstGeom prst="flowChartProcess">
            <a:avLst/>
          </a:prstGeom>
          <a:noFill/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5029200"/>
            <a:ext cx="8321760" cy="731880"/>
          </a:xfrm>
          <a:prstGeom prst="flowChartProcess">
            <a:avLst/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Data Science (PhD, MS, ug mino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35440" y="3565440"/>
            <a:ext cx="1446120" cy="1371600"/>
          </a:xfrm>
          <a:custGeom>
            <a:avLst/>
            <a:gdLst/>
            <a:ahLst/>
            <a:rect l="l" t="t" r="r" b="b"/>
            <a:pathLst>
              <a:path w="787" h="799">
                <a:moveTo>
                  <a:pt x="439" y="12"/>
                </a:moveTo>
                <a:lnTo>
                  <a:pt x="535" y="102"/>
                </a:lnTo>
                <a:lnTo>
                  <a:pt x="391" y="246"/>
                </a:lnTo>
                <a:lnTo>
                  <a:pt x="252" y="108"/>
                </a:lnTo>
                <a:lnTo>
                  <a:pt x="349" y="12"/>
                </a:lnTo>
                <a:lnTo>
                  <a:pt x="0" y="0"/>
                </a:lnTo>
                <a:lnTo>
                  <a:pt x="12" y="348"/>
                </a:lnTo>
                <a:lnTo>
                  <a:pt x="108" y="258"/>
                </a:lnTo>
                <a:lnTo>
                  <a:pt x="282" y="433"/>
                </a:lnTo>
                <a:lnTo>
                  <a:pt x="282" y="799"/>
                </a:lnTo>
                <a:lnTo>
                  <a:pt x="511" y="799"/>
                </a:lnTo>
                <a:lnTo>
                  <a:pt x="511" y="427"/>
                </a:lnTo>
                <a:lnTo>
                  <a:pt x="685" y="252"/>
                </a:lnTo>
                <a:lnTo>
                  <a:pt x="781" y="348"/>
                </a:lnTo>
                <a:lnTo>
                  <a:pt x="787" y="0"/>
                </a:lnTo>
                <a:lnTo>
                  <a:pt x="439" y="12"/>
                </a:lnTo>
                <a:close/>
              </a:path>
            </a:pathLst>
          </a:cu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89040" y="3575160"/>
            <a:ext cx="822240" cy="1371600"/>
          </a:xfrm>
          <a:prstGeom prst="upDownArrow">
            <a:avLst>
              <a:gd name="adj1" fmla="val 50000"/>
              <a:gd name="adj2" fmla="val 33208"/>
            </a:avLst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32240" y="4114800"/>
            <a:ext cx="24354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erial Science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ul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315200" y="4086360"/>
            <a:ext cx="155412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omics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 Intens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65040" y="914400"/>
            <a:ext cx="8504280" cy="1371600"/>
          </a:xfrm>
          <a:prstGeom prst="flowChartProcess">
            <a:avLst/>
          </a:prstGeom>
          <a:noFill/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376092"/>
                </a:solidFill>
                <a:latin typeface="Arial"/>
              </a:rPr>
              <a:t>Areas of Computational Science Degrees</a:t>
            </a: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 (II)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57200" y="1249200"/>
            <a:ext cx="3932280" cy="9144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s &amp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i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rot="16200000">
            <a:off x="4617000" y="1416600"/>
            <a:ext cx="1828800" cy="1554120"/>
          </a:xfrm>
          <a:prstGeom prst="flowChartProcess">
            <a:avLst/>
          </a:prstGeom>
          <a:solidFill>
            <a:srgbClr val="aecf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6200000">
            <a:off x="6132600" y="1736640"/>
            <a:ext cx="1828800" cy="9144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7307280" y="1770120"/>
            <a:ext cx="1828800" cy="914400"/>
          </a:xfrm>
          <a:prstGeom prst="flowChartProcess">
            <a:avLst/>
          </a:pr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al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93840" y="4317840"/>
            <a:ext cx="768600" cy="5256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93840" y="3098880"/>
            <a:ext cx="768600" cy="52524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8640" y="2489040"/>
            <a:ext cx="1371600" cy="914400"/>
          </a:xfrm>
          <a:prstGeom prst="flowChartProcess">
            <a:avLst/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93840" y="3708360"/>
            <a:ext cx="768600" cy="5256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ysic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179800" y="2489040"/>
            <a:ext cx="768240" cy="525600"/>
          </a:xfrm>
          <a:prstGeom prst="flowChartProcess">
            <a:avLst/>
          </a:prstGeom>
          <a:solidFill>
            <a:srgbClr val="ffff99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thematic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5029200"/>
            <a:ext cx="8321760" cy="731880"/>
          </a:xfrm>
          <a:prstGeom prst="flowChartProcess">
            <a:avLst/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Data Sc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9040" y="3575160"/>
            <a:ext cx="822240" cy="1371600"/>
          </a:xfrm>
          <a:prstGeom prst="upDownArrow">
            <a:avLst>
              <a:gd name="adj1" fmla="val 50000"/>
              <a:gd name="adj2" fmla="val 33208"/>
            </a:avLst>
          </a:prstGeom>
          <a:solidFill>
            <a:srgbClr val="ff6633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92560" y="2468520"/>
            <a:ext cx="1096920" cy="1096920"/>
          </a:xfrm>
          <a:prstGeom prst="flowChartProcess">
            <a:avLst/>
          </a:prstGeom>
          <a:solidFill>
            <a:srgbClr val="e6e64c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umaniti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92560" y="3728880"/>
            <a:ext cx="1096920" cy="1097280"/>
          </a:xfrm>
          <a:prstGeom prst="flowChartProcess">
            <a:avLst/>
          </a:prstGeom>
          <a:solidFill>
            <a:srgbClr val="e6e64c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ocial &amp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litic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cien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230800" y="3292560"/>
            <a:ext cx="639720" cy="1646280"/>
          </a:xfrm>
          <a:prstGeom prst="upArrow">
            <a:avLst>
              <a:gd name="adj1" fmla="val 50000"/>
              <a:gd name="adj2" fmla="val 64336"/>
            </a:avLst>
          </a:prstGeom>
          <a:solidFill>
            <a:srgbClr val="e6e64c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010280" y="3352680"/>
            <a:ext cx="1371600" cy="1524240"/>
          </a:xfrm>
          <a:custGeom>
            <a:avLst/>
            <a:gdLst/>
            <a:ahLst/>
            <a:rect l="l" t="t" r="r" b="b"/>
            <a:pathLst>
              <a:path w="787" h="799">
                <a:moveTo>
                  <a:pt x="439" y="12"/>
                </a:moveTo>
                <a:lnTo>
                  <a:pt x="535" y="102"/>
                </a:lnTo>
                <a:lnTo>
                  <a:pt x="391" y="246"/>
                </a:lnTo>
                <a:lnTo>
                  <a:pt x="252" y="108"/>
                </a:lnTo>
                <a:lnTo>
                  <a:pt x="349" y="12"/>
                </a:lnTo>
                <a:lnTo>
                  <a:pt x="0" y="0"/>
                </a:lnTo>
                <a:lnTo>
                  <a:pt x="12" y="348"/>
                </a:lnTo>
                <a:lnTo>
                  <a:pt x="108" y="258"/>
                </a:lnTo>
                <a:lnTo>
                  <a:pt x="282" y="433"/>
                </a:lnTo>
                <a:lnTo>
                  <a:pt x="282" y="799"/>
                </a:lnTo>
                <a:lnTo>
                  <a:pt x="511" y="799"/>
                </a:lnTo>
                <a:lnTo>
                  <a:pt x="511" y="427"/>
                </a:lnTo>
                <a:lnTo>
                  <a:pt x="685" y="252"/>
                </a:lnTo>
                <a:lnTo>
                  <a:pt x="781" y="348"/>
                </a:lnTo>
                <a:lnTo>
                  <a:pt x="787" y="0"/>
                </a:lnTo>
                <a:lnTo>
                  <a:pt x="439" y="12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30120" y="914400"/>
            <a:ext cx="8504280" cy="5029200"/>
          </a:xfrm>
          <a:prstGeom prst="flowChartProcess">
            <a:avLst/>
          </a:prstGeom>
          <a:noFill/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U Sch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30320"/>
            <a:ext cx="822816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Arial"/>
              </a:rPr>
              <a:t>Programs: PhD (72), MS (30), BS/MS (4+1 yrs), Minor (18)</a:t>
            </a:r>
            <a:endParaRPr b="1" lang="en-US" sz="2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73040" y="2981160"/>
            <a:ext cx="1467000" cy="104328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chitecture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55680" y="2981160"/>
            <a:ext cx="1467000" cy="104328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u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Graph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36880" y="2981160"/>
            <a:ext cx="1467000" cy="104328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ic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18080" y="2981160"/>
            <a:ext cx="1467000" cy="104328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201080" y="2981160"/>
            <a:ext cx="1466640" cy="1043280"/>
          </a:xfrm>
          <a:prstGeom prst="flowChartProcess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237440" y="1847880"/>
            <a:ext cx="1467000" cy="857160"/>
          </a:xfrm>
          <a:prstGeom prst="flowChartProcess">
            <a:avLst/>
          </a:prstGeom>
          <a:solidFill>
            <a:srgbClr val="83ca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223040" y="914400"/>
            <a:ext cx="1467000" cy="839880"/>
          </a:xfrm>
          <a:prstGeom prst="flowChartProcess">
            <a:avLst/>
          </a:prstGeom>
          <a:solidFill>
            <a:srgbClr val="83ca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thema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cient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40120" y="914400"/>
            <a:ext cx="3168720" cy="1736640"/>
          </a:xfrm>
          <a:prstGeom prst="flowChartProcess">
            <a:avLst/>
          </a:prstGeom>
          <a:solidFill>
            <a:srgbClr val="aecf0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 +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utational Science Min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8 credit hou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92160" y="2813040"/>
            <a:ext cx="8961480" cy="3405240"/>
          </a:xfrm>
          <a:prstGeom prst="flowChartProcess">
            <a:avLst/>
          </a:prstGeom>
          <a:noFill/>
          <a:ln w="36720">
            <a:solidFill>
              <a:srgbClr val="c500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7200" y="4206960"/>
            <a:ext cx="8321760" cy="914400"/>
          </a:xfrm>
          <a:prstGeom prst="flowChartProcess">
            <a:avLst/>
          </a:prstGeom>
          <a:gradFill rotWithShape="0">
            <a:gsLst>
              <a:gs pos="0">
                <a:srgbClr val="0099ff"/>
              </a:gs>
              <a:gs pos="100000">
                <a:srgbClr val="ff420e"/>
              </a:gs>
            </a:gsLst>
            <a:lin ang="0"/>
          </a:gra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El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5273640"/>
            <a:ext cx="8321760" cy="731880"/>
          </a:xfrm>
          <a:prstGeom prst="flowChartProcess">
            <a:avLst/>
          </a:prstGeom>
          <a:solidFill>
            <a:srgbClr val="ffd320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2 Dissert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4240" y="4392720"/>
            <a:ext cx="604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43760" y="4284720"/>
            <a:ext cx="14857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ed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ip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57200" y="917640"/>
            <a:ext cx="3200400" cy="17542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 Computer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w/ Comp. Sci. electiv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4680" y="822240"/>
            <a:ext cx="1440" cy="330840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74680" y="4130640"/>
            <a:ext cx="8594640" cy="180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869320" y="2743200"/>
            <a:ext cx="1800" cy="138744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749760" y="2743200"/>
            <a:ext cx="5121360" cy="144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680" y="822240"/>
            <a:ext cx="3475080" cy="180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749760" y="822240"/>
            <a:ext cx="1440" cy="1920960"/>
          </a:xfrm>
          <a:prstGeom prst="line">
            <a:avLst/>
          </a:prstGeom>
          <a:ln w="367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82520" y="2889360"/>
            <a:ext cx="8778960" cy="2322360"/>
          </a:xfrm>
          <a:prstGeom prst="rect">
            <a:avLst/>
          </a:prstGeom>
          <a:noFill/>
          <a:ln w="36720">
            <a:solidFill>
              <a:srgbClr val="579d1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rot="10800000">
            <a:off x="8610120" y="2209320"/>
            <a:ext cx="14684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54000" bIns="54000" anchor="t" vert="eaVer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req. No Cr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University of Mary Washingt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Public (VA)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PUI – 4000 ugrad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Liberal arts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MS in Ed., Elementary Ed., MBA, 1 or 2 more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~20% minority student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Computational Science’s Start at UMW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Administration requested MS programs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Computer Sci, Math put heads together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Nat/Phys sciences not interested yet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Business wanted Data Analytics 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Minor first: “Data Science”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Hope to spawn 2 MS programs: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Computational Science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Data Analytics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S ½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Computer Science 1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iscrete </a:t>
            </a:r>
            <a:r>
              <a:rPr b="1" lang="en-US" sz="2400" spc="-1" strike="noStrike">
                <a:solidFill>
                  <a:srgbClr val="1de33e"/>
                </a:solidFill>
                <a:latin typeface="Calibri"/>
              </a:rPr>
              <a:t>Math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odeling &amp; Simulation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Mining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e33e"/>
                </a:solidFill>
                <a:latin typeface="Calibri"/>
              </a:rPr>
              <a:t>Intro Stats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e33e"/>
                </a:solidFill>
                <a:latin typeface="Calibri"/>
              </a:rPr>
              <a:t>Calc 1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e33e"/>
                </a:solidFill>
                <a:latin typeface="Calibri"/>
              </a:rPr>
              <a:t>Calc 2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e33e"/>
                </a:solidFill>
                <a:latin typeface="Calibri"/>
              </a:rPr>
              <a:t>Linear Algebra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Data Structures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Analytics Application Development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Parallel Computing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 OR </a:t>
            </a:r>
            <a:r>
              <a:rPr b="1" lang="en-US" sz="2400" spc="-1" strike="noStrike">
                <a:solidFill>
                  <a:srgbClr val="ff0066"/>
                </a:solidFill>
                <a:latin typeface="Calibri"/>
              </a:rPr>
              <a:t>Foundations and Applications of Data Analytics</a:t>
            </a:r>
            <a:r>
              <a:rPr b="0" lang="en-US" sz="2400" spc="-1" strike="noStrike">
                <a:solidFill>
                  <a:srgbClr val="254061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54061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The Data Science Minor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376092"/>
                </a:solidFill>
                <a:latin typeface="Arial"/>
              </a:rPr>
              <a:t>Future at University of Mary Washington</a:t>
            </a:r>
            <a:endParaRPr b="1" lang="en-US" sz="3200" spc="-1" strike="noStrike">
              <a:solidFill>
                <a:srgbClr val="376092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22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Minor begins this semester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Trying to bring scientists (and soc sci) on board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109: extension of NCSI workshop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wo-day workshop last Dec.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254061"/>
                </a:solidFill>
                <a:latin typeface="Calibri"/>
              </a:rPr>
              <a:t>Tried 2-day workshop in spring, but…</a:t>
            </a:r>
            <a:endParaRPr b="0" lang="en-US" sz="2800" spc="-1" strike="noStrike">
              <a:solidFill>
                <a:srgbClr val="254061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54061"/>
                </a:solidFill>
                <a:latin typeface="Calibri"/>
              </a:rPr>
              <a:t>VA’s governor pushing mod &amp; sim…</a:t>
            </a:r>
            <a:endParaRPr b="0" lang="en-US" sz="3200" spc="-1" strike="noStrike">
              <a:solidFill>
                <a:srgbClr val="25406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7T18:53:50Z</dcterms:created>
  <dc:creator>Paula Popowski</dc:creator>
  <dc:description/>
  <dc:language>en-US</dc:language>
  <cp:lastModifiedBy>dave</cp:lastModifiedBy>
  <dcterms:modified xsi:type="dcterms:W3CDTF">2013-07-23T16:55:43Z</dcterms:modified>
  <cp:revision>13</cp:revision>
  <dc:subject/>
  <dc:title>Presentation Title</dc:title>
</cp:coreProperties>
</file>