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1.jpeg" ContentType="image/jpeg"/>
  <Override PartName="/ppt/media/image16.png" ContentType="image/png"/>
  <Override PartName="/ppt/media/image15.jpeg" ContentType="image/jpeg"/>
  <Override PartName="/ppt/media/image10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2C0A7-ED62-4C15-BC12-C019785874C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9222-9057-49B0-89D8-54B3F50B39D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gest DELE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F3DC5-6B1E-4BEF-AF53-418F892DE3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A68F-CBFD-4D11-8F7B-8FC5A1485D4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escribe this as epsilon? Exposing finite errors, creating simple math relationships to discover things about computer. Is Epsilon the common not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09D5-D46D-4828-A98D-AC3B23048AF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escribe this as epsilon? Exposing finite errors, creating simple math relationships to discover things about computer. Is Epsilon the common not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032A-80BD-4A77-B232-74FAD52BB84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6D6-FF4F-4345-8F98-1E47C389F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2B79-8B43-4360-9DA8-845A30DE7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2253-A5D8-4EE6-A80C-E78B5C55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7E1-7692-4B4A-9F5F-4826E33B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B94C2-F85F-454B-8DB5-2C09B5E82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6EC6-EF69-40A7-89C4-D8EAF196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8CFA-3FCB-4283-B331-896A3A54B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7BB34-3E4C-480E-B87C-9005C718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23C8-44C4-4E2E-81F4-30686C174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B4CB-4194-4517-9C2D-4A76E13D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D0B1-4F8E-4D32-B8F1-57E309EF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F65-96C5-433F-8512-CE004B25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2309-83DF-4E0F-86E8-81B4F336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A58D3-9EB7-418D-BD6E-FA6592B9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5E63-820A-4C6E-889F-5A415172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DC34F-5567-4EB0-A9C3-72BC4825B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DB0DF-C032-4220-9FBF-10AAEA84C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C3D4-18A5-4E79-AA0E-605A2BED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C6CE-5E30-438C-9CEA-A1BBE3BF9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DE90-E3D5-4C3A-95B1-FDD5A927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6B21-00CF-43F7-A5A3-232BDED8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0445-A079-4C09-B3BD-BEB4186C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CC36-B018-407F-B154-BF4D89CA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336B-D89C-49E7-B57D-531DDE6B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F1FC-0601-4241-A6AC-FE2DB0466051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NSTANCES, XSEDE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C72E-69BF-44F4-A4FF-B4B92DF90CD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1303-8B3C-4A0D-B522-CDA5AA147E5E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NSTANCES, XSEDE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F060-456F-49F1-A020-A0FEB7A2215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4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7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Materials for Teacher Ed Classes</a:t>
            </a:r>
            <a:r>
              <a:rPr b="1" i="1" lang="en-US" sz="36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Instances Logo"/>
          <p:cNvPicPr/>
          <p:nvPr/>
        </p:nvPicPr>
        <p:blipFill>
          <a:blip r:embed="rId1"/>
          <a:stretch/>
        </p:blipFill>
        <p:spPr>
          <a:xfrm>
            <a:off x="1654200" y="190440"/>
            <a:ext cx="6108840" cy="3673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1905120" y="4594320"/>
            <a:ext cx="632448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Rubin Landau (PI),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regon State University Phys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Raquell Holmes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rov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c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NamHwa Kang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SU Science &amp; Math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Greg Mulder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n-Benton Community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Sofya Borinskaya, </a:t>
            </a:r>
            <a:r>
              <a:rPr b="1" lang="en-US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Conn Health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2209680" y="6461280"/>
            <a:ext cx="472464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6640" rIns="26640" tIns="13320" bIns="13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National Science Foundation TUES Award 1043298-D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Calibri"/>
              </a:rPr>
              <a:t>http://science.oregonstate.edu/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NSF"/>
          <p:cNvPicPr/>
          <p:nvPr/>
        </p:nvPicPr>
        <p:blipFill>
          <a:blip r:embed="rId2"/>
          <a:stretch/>
        </p:blipFill>
        <p:spPr>
          <a:xfrm>
            <a:off x="0" y="6095880"/>
            <a:ext cx="936720" cy="6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E.G.: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  Random Number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Content Placeholder 4" descr="Vensim"/>
          <p:cNvPicPr/>
          <p:nvPr/>
        </p:nvPicPr>
        <p:blipFill>
          <a:blip r:embed="rId1"/>
          <a:stretch/>
        </p:blipFill>
        <p:spPr>
          <a:xfrm>
            <a:off x="762120" y="800280"/>
            <a:ext cx="6705360" cy="3757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SilverBallsCrop.jpg"/>
          <p:cNvPicPr/>
          <p:nvPr/>
        </p:nvPicPr>
        <p:blipFill>
          <a:blip r:embed="rId2"/>
          <a:stretch/>
        </p:blipFill>
        <p:spPr>
          <a:xfrm>
            <a:off x="7610400" y="5943600"/>
            <a:ext cx="1533600" cy="771480"/>
          </a:xfrm>
          <a:prstGeom prst="rect">
            <a:avLst/>
          </a:prstGeom>
          <a:ln w="0">
            <a:noFill/>
          </a:ln>
        </p:spPr>
      </p:pic>
      <p:sp>
        <p:nvSpPr>
          <p:cNvPr id="149" name="Footer Placeholder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NSTANCES, XSEDE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647960" y="4724280"/>
            <a:ext cx="11430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16"/>
          <p:cNvSpPr/>
          <p:nvPr/>
        </p:nvSpPr>
        <p:spPr>
          <a:xfrm>
            <a:off x="533520" y="4826160"/>
            <a:ext cx="3809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C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seu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random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look, check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"/>
          <p:cNvSpPr/>
          <p:nvPr/>
        </p:nvSpPr>
        <p:spPr>
          <a:xfrm>
            <a:off x="4648320" y="4811760"/>
            <a:ext cx="4190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chance into comp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hastic natural proces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E.G.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: 3-D Random Walk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6" descr="WalkTwoAngles"/>
          <p:cNvPicPr/>
          <p:nvPr/>
        </p:nvPicPr>
        <p:blipFill>
          <a:blip r:embed="rId1"/>
          <a:stretch/>
        </p:blipFill>
        <p:spPr>
          <a:xfrm>
            <a:off x="457200" y="992160"/>
            <a:ext cx="8493120" cy="43419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SilverBallsCrop.jpg"/>
          <p:cNvPicPr/>
          <p:nvPr/>
        </p:nvPicPr>
        <p:blipFill>
          <a:blip r:embed="rId2"/>
          <a:stretch/>
        </p:blipFill>
        <p:spPr>
          <a:xfrm>
            <a:off x="7610400" y="5943600"/>
            <a:ext cx="1533600" cy="771480"/>
          </a:xfrm>
          <a:prstGeom prst="rect">
            <a:avLst/>
          </a:prstGeom>
          <a:ln w="0">
            <a:noFill/>
          </a:ln>
        </p:spPr>
      </p:pic>
      <p:sp>
        <p:nvSpPr>
          <p:cNvPr id="156" name="Footer Placeholder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NSTANCES, XSEDE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647960" y="4724280"/>
            <a:ext cx="11430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oup 14"/>
          <p:cNvGrpSpPr/>
          <p:nvPr/>
        </p:nvGrpSpPr>
        <p:grpSpPr>
          <a:xfrm>
            <a:off x="725400" y="5495760"/>
            <a:ext cx="2057400" cy="762120"/>
            <a:chOff x="725400" y="5495760"/>
            <a:chExt cx="2057400" cy="762120"/>
          </a:xfrm>
        </p:grpSpPr>
        <p:sp>
          <p:nvSpPr>
            <p:cNvPr id="159" name="Bevel 13"/>
            <p:cNvSpPr/>
            <p:nvPr/>
          </p:nvSpPr>
          <p:spPr>
            <a:xfrm>
              <a:off x="725400" y="5648040"/>
              <a:ext cx="2057400" cy="609840"/>
            </a:xfrm>
            <a:prstGeom prst="bevel">
              <a:avLst>
                <a:gd name="adj" fmla="val 12500"/>
              </a:avLst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Box 17"/>
            <p:cNvSpPr/>
            <p:nvPr/>
          </p:nvSpPr>
          <p:spPr>
            <a:xfrm>
              <a:off x="1067040" y="5495760"/>
              <a:ext cx="153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3D Walk.p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3"/>
          <p:cNvSpPr/>
          <p:nvPr/>
        </p:nvSpPr>
        <p:spPr>
          <a:xfrm>
            <a:off x="5334120" y="5495760"/>
            <a:ext cx="281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ume dif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wnian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NSTANCES, XSEDE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itle 1"/>
          <p:cNvSpPr/>
          <p:nvPr/>
        </p:nvSpPr>
        <p:spPr>
          <a:xfrm>
            <a:off x="457200" y="460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E.G.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: Spontaneous Decay Sim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1" descr="SilverBallsCrop.jpg"/>
          <p:cNvPicPr/>
          <p:nvPr/>
        </p:nvPicPr>
        <p:blipFill>
          <a:blip r:embed="rId1"/>
          <a:stretch/>
        </p:blipFill>
        <p:spPr>
          <a:xfrm>
            <a:off x="7610400" y="5943600"/>
            <a:ext cx="1533600" cy="771480"/>
          </a:xfrm>
          <a:prstGeom prst="rect">
            <a:avLst/>
          </a:prstGeom>
          <a:ln w="0">
            <a:noFill/>
          </a:ln>
        </p:spPr>
      </p:pic>
      <p:sp>
        <p:nvSpPr>
          <p:cNvPr id="165" name="Footer Placeholder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NSTANCES, XSEDE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ResultsCP.jpg"/>
          <p:cNvPicPr/>
          <p:nvPr/>
        </p:nvPicPr>
        <p:blipFill>
          <a:blip r:embed="rId2"/>
          <a:stretch/>
        </p:blipFill>
        <p:spPr>
          <a:xfrm>
            <a:off x="372960" y="1006560"/>
            <a:ext cx="3733920" cy="22874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13"/>
          <p:cNvSpPr/>
          <p:nvPr/>
        </p:nvSpPr>
        <p:spPr>
          <a:xfrm>
            <a:off x="762120" y="3294000"/>
            <a:ext cx="525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s like Geiger (real world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know what’s re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meaning of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 of exponential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Bevel 13"/>
          <p:cNvSpPr/>
          <p:nvPr/>
        </p:nvSpPr>
        <p:spPr>
          <a:xfrm>
            <a:off x="6350040" y="4419720"/>
            <a:ext cx="2057400" cy="533160"/>
          </a:xfrm>
          <a:prstGeom prst="bevel">
            <a:avLst>
              <a:gd name="adj" fmla="val 12500"/>
            </a:avLst>
          </a:prstGeom>
          <a:solidFill>
            <a:srgbClr val="7f7f7f"/>
          </a:soli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caySound.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6"/>
          <p:cNvSpPr/>
          <p:nvPr/>
        </p:nvSpPr>
        <p:spPr>
          <a:xfrm>
            <a:off x="4363920" y="1779480"/>
            <a:ext cx="44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lgorith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f random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dec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NSTANCES, XSEDE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itle 1"/>
          <p:cNvSpPr/>
          <p:nvPr/>
        </p:nvSpPr>
        <p:spPr>
          <a:xfrm>
            <a:off x="457200" y="460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300" spc="-1" strike="noStrike" u="sng">
                <a:solidFill>
                  <a:srgbClr val="c00000"/>
                </a:solidFill>
                <a:uFillTx/>
                <a:latin typeface="Calibri"/>
              </a:rPr>
              <a:t>E.G.: </a:t>
            </a:r>
            <a:r>
              <a:rPr b="1" lang="en-US" sz="4300" spc="-1" strike="noStrike" u="sng">
                <a:solidFill>
                  <a:srgbClr val="c00000"/>
                </a:solidFill>
                <a:uFillTx/>
                <a:latin typeface="Calibri"/>
              </a:rPr>
              <a:t>Stone Throwing Integration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Content Placeholder 8" descr="Figure64c"/>
          <p:cNvPicPr/>
          <p:nvPr/>
        </p:nvPicPr>
        <p:blipFill>
          <a:blip r:embed="rId1"/>
          <a:stretch/>
        </p:blipFill>
        <p:spPr>
          <a:xfrm>
            <a:off x="0" y="1168560"/>
            <a:ext cx="3886200" cy="3217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SilverBallsCrop.jpg"/>
          <p:cNvPicPr/>
          <p:nvPr/>
        </p:nvPicPr>
        <p:blipFill>
          <a:blip r:embed="rId2"/>
          <a:stretch/>
        </p:blipFill>
        <p:spPr>
          <a:xfrm>
            <a:off x="7610400" y="5943600"/>
            <a:ext cx="1533600" cy="771480"/>
          </a:xfrm>
          <a:prstGeom prst="rect">
            <a:avLst/>
          </a:prstGeom>
          <a:ln w="0">
            <a:noFill/>
          </a:ln>
        </p:spPr>
      </p:pic>
      <p:sp>
        <p:nvSpPr>
          <p:cNvPr id="174" name="Footer Placeholder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NSTANCES, XSEDE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3"/>
          <p:cNvSpPr/>
          <p:nvPr/>
        </p:nvSpPr>
        <p:spPr>
          <a:xfrm>
            <a:off x="685800" y="4386240"/>
            <a:ext cx="6086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ay to do math (stochast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us via experi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jection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Rectangle 21" descr=""/>
          <p:cNvPicPr/>
          <p:nvPr/>
        </p:nvPicPr>
        <p:blipFill>
          <a:blip r:embed="rId3"/>
          <a:stretch/>
        </p:blipFill>
        <p:spPr>
          <a:xfrm>
            <a:off x="4145040" y="2133720"/>
            <a:ext cx="525456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c00000"/>
                </a:solidFill>
                <a:uFillTx/>
                <a:latin typeface="Calibri"/>
              </a:rPr>
              <a:t>Conclusion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Group challenge: level of math, of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Early Assess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cientific process hel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balance: background </a:t>
            </a:r>
            <a:r>
              <a:rPr b="0" i="1" lang="en-US" sz="2800" spc="-1" strike="noStrike">
                <a:solidFill>
                  <a:srgbClr val="1f497d"/>
                </a:solidFill>
                <a:latin typeface="Calibri"/>
              </a:rPr>
              <a:t>vs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exerci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disparity computing backgrou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need literacy + programming too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ruer Effectiveness: need full cou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2060"/>
                </a:solidFill>
                <a:latin typeface="Calibri"/>
              </a:rPr>
              <a:t>Help!  -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Need science educator replacement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           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Biology exam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3" descr="SilverBallsCrop.jpg"/>
          <p:cNvPicPr/>
          <p:nvPr/>
        </p:nvPicPr>
        <p:blipFill>
          <a:blip r:embed="rId1"/>
          <a:stretch/>
        </p:blipFill>
        <p:spPr>
          <a:xfrm>
            <a:off x="380880" y="228600"/>
            <a:ext cx="2133720" cy="1071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ProblemSolving.jpg"/>
          <p:cNvPicPr/>
          <p:nvPr/>
        </p:nvPicPr>
        <p:blipFill>
          <a:blip r:embed="rId2"/>
          <a:stretch/>
        </p:blipFill>
        <p:spPr>
          <a:xfrm>
            <a:off x="6378480" y="2135160"/>
            <a:ext cx="2613240" cy="2806560"/>
          </a:xfrm>
          <a:prstGeom prst="rect">
            <a:avLst/>
          </a:prstGeom>
          <a:ln w="0">
            <a:noFill/>
          </a:ln>
        </p:spPr>
      </p:pic>
      <p:sp>
        <p:nvSpPr>
          <p:cNvPr id="18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NSTANCES, XSEDE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-12 Standar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NSTANCES, XSEDE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380880" y="1600200"/>
            <a:ext cx="853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erstand numbers, ways of representing numbers, relationships among numbers, and number systems; Understand patterns, relations, and functions; Use mathematical models to represent and understand quantitative relationships; Use visualization, spatial reasoning, and geometric modeling to solve problems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inciples and Standards for School Mathematics, National Council of Teachers of Mathematics, 2000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32767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Motiv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240" y="990720"/>
            <a:ext cx="57150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Computational Science view: </a:t>
            </a:r>
            <a:br>
              <a:rPr sz="3200"/>
            </a:b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S + math +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Computation is essential in scienc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Simulation part of scientific proces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8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8" descr="ProblemSolving.jpg"/>
          <p:cNvPicPr/>
          <p:nvPr/>
        </p:nvPicPr>
        <p:blipFill>
          <a:blip r:embed="rId1"/>
          <a:stretch/>
        </p:blipFill>
        <p:spPr>
          <a:xfrm>
            <a:off x="6248520" y="228600"/>
            <a:ext cx="2612880" cy="2806560"/>
          </a:xfrm>
          <a:prstGeom prst="rect">
            <a:avLst/>
          </a:prstGeom>
          <a:ln w="0">
            <a:noFill/>
          </a:ln>
        </p:spPr>
      </p:pic>
      <p:sp>
        <p:nvSpPr>
          <p:cNvPr id="97" name="Content Placeholder 2"/>
          <p:cNvSpPr/>
          <p:nvPr/>
        </p:nvSpPr>
        <p:spPr>
          <a:xfrm>
            <a:off x="228600" y="3200400"/>
            <a:ext cx="899172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o change K-16, change Teacher Edu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A single CS class not enoug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Need ability to look inside application black bo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Calibri"/>
                <a:ea typeface="ＭＳ Ｐゴシック"/>
              </a:rPr>
              <a:t>Improved pedagogy via problem-solving contex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2" descr="SilverBallsCrop.jpg"/>
          <p:cNvPicPr/>
          <p:nvPr/>
        </p:nvPicPr>
        <p:blipFill>
          <a:blip r:embed="rId2"/>
          <a:stretch/>
        </p:blipFill>
        <p:spPr>
          <a:xfrm>
            <a:off x="0" y="6086520"/>
            <a:ext cx="1533600" cy="771480"/>
          </a:xfrm>
          <a:prstGeom prst="rect">
            <a:avLst/>
          </a:prstGeom>
          <a:ln w="0">
            <a:noFill/>
          </a:ln>
        </p:spPr>
      </p:pic>
      <p:sp>
        <p:nvSpPr>
          <p:cNvPr id="99" name="Footer Placeholder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NSTANCES, XSEDE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228600"/>
            <a:ext cx="327672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Motiv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04560" y="990360"/>
            <a:ext cx="6095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>
              <a:spcBef>
                <a:spcPts val="13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or Pre- &amp; In-Service Teac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3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cience + scientific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Include simulation, data &amp; mat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omplexity via simpli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Numerical  &amp; analytic sol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Data via compu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Aim: teach computing use as part of sc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Disciplines: physics, biolo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3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8" descr="ProblemSolving.jpg"/>
          <p:cNvPicPr/>
          <p:nvPr/>
        </p:nvPicPr>
        <p:blipFill>
          <a:blip r:embed="rId1"/>
          <a:stretch/>
        </p:blipFill>
        <p:spPr>
          <a:xfrm>
            <a:off x="6248520" y="228600"/>
            <a:ext cx="2612880" cy="28065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SilverBallsCrop.jpg"/>
          <p:cNvPicPr/>
          <p:nvPr/>
        </p:nvPicPr>
        <p:blipFill>
          <a:blip r:embed="rId2"/>
          <a:stretch/>
        </p:blipFill>
        <p:spPr>
          <a:xfrm>
            <a:off x="0" y="6078600"/>
            <a:ext cx="1533600" cy="771480"/>
          </a:xfrm>
          <a:prstGeom prst="rect">
            <a:avLst/>
          </a:prstGeom>
          <a:ln w="0">
            <a:noFill/>
          </a:ln>
        </p:spPr>
      </p:pic>
      <p:sp>
        <p:nvSpPr>
          <p:cNvPr id="104" name="Footer Placeholder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NSTANCES, XSEDE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Module Cont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80520" y="1371240"/>
            <a:ext cx="4038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798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Teacher Materi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2798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Learning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2798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Model vali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2798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CST goals, objectiv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2798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Background readin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798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Student Reading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(cull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798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Exerci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798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Programming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798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Implemen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ts val="2798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Excel, Python, Vens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Content Placeholder 4" descr="ModuleShot"/>
          <p:cNvPicPr/>
          <p:nvPr/>
        </p:nvPicPr>
        <p:blipFill>
          <a:blip r:embed="rId1"/>
          <a:stretch/>
        </p:blipFill>
        <p:spPr>
          <a:xfrm>
            <a:off x="4419720" y="1219320"/>
            <a:ext cx="4724280" cy="5410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SilverBallsCrop.jpg"/>
          <p:cNvPicPr/>
          <p:nvPr/>
        </p:nvPicPr>
        <p:blipFill>
          <a:blip r:embed="rId2"/>
          <a:stretch/>
        </p:blipFill>
        <p:spPr>
          <a:xfrm>
            <a:off x="0" y="6086520"/>
            <a:ext cx="1533600" cy="771480"/>
          </a:xfrm>
          <a:prstGeom prst="rect">
            <a:avLst/>
          </a:prstGeom>
          <a:ln w="0">
            <a:noFill/>
          </a:ln>
        </p:spPr>
      </p:pic>
      <p:sp>
        <p:nvSpPr>
          <p:cNvPr id="10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NSTANCES, XSEDE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Classroom Contex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520" y="1371240"/>
            <a:ext cx="40388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f497d"/>
                </a:solidFill>
                <a:latin typeface="Calibri"/>
              </a:rPr>
              <a:t>Schools of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00"/>
              </a:lnSpc>
              <a:spcBef>
                <a:spcPts val="1276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1f497d"/>
                </a:solidFill>
                <a:latin typeface="Calibri"/>
              </a:rPr>
              <a:t>Science and Math Ed 412-41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6280" indent="-285840">
              <a:lnSpc>
                <a:spcPts val="29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Calibri"/>
              </a:rPr>
              <a:t>Pre-service teach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6280" indent="-285840">
              <a:lnSpc>
                <a:spcPts val="29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Calibri"/>
              </a:rPr>
              <a:t>Technology-Inquiry in Math and Sci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6280" indent="-285840">
              <a:lnSpc>
                <a:spcPts val="29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Calibri"/>
              </a:rPr>
              <a:t>1 week instr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6280" indent="-285840">
              <a:lnSpc>
                <a:spcPts val="29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Calibri"/>
              </a:rPr>
              <a:t>Post surve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2900"/>
              </a:lnSpc>
              <a:spcBef>
                <a:spcPts val="1276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Computational Phys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5" descr="SilverBallsCrop.jpg"/>
          <p:cNvPicPr/>
          <p:nvPr/>
        </p:nvPicPr>
        <p:blipFill>
          <a:blip r:embed="rId1"/>
          <a:stretch/>
        </p:blipFill>
        <p:spPr>
          <a:xfrm>
            <a:off x="-9360" y="6091200"/>
            <a:ext cx="1533240" cy="771480"/>
          </a:xfrm>
          <a:prstGeom prst="rect">
            <a:avLst/>
          </a:prstGeom>
          <a:ln w="0">
            <a:noFill/>
          </a:ln>
        </p:spPr>
      </p:pic>
      <p:sp>
        <p:nvSpPr>
          <p:cNvPr id="11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NSTANCES, XSEDE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ules taugh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ontaneous Decay &amp; Bugs (exponential growt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cel, VenSim, Pyth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 Read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erci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D 412-4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 PTs, 14 respond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 previous CS cour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exc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 python or vensi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ditional com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ngth of time to learn applic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tensive background material provid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NSTANCES, XSEDE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Content Placeholder 5" descr=""/>
          <p:cNvPicPr/>
          <p:nvPr/>
        </p:nvPicPr>
        <p:blipFill>
          <a:blip r:embed="rId1"/>
          <a:stretch/>
        </p:blipFill>
        <p:spPr>
          <a:xfrm>
            <a:off x="4651200" y="1603440"/>
            <a:ext cx="4187880" cy="45226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6"/>
          <p:cNvSpPr/>
          <p:nvPr/>
        </p:nvSpPr>
        <p:spPr>
          <a:xfrm>
            <a:off x="4876920" y="1600200"/>
            <a:ext cx="4114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edback from 20 PTs on their perceptions of th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51920" y="1066680"/>
            <a:ext cx="403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7680" indent="-514440">
              <a:lnSpc>
                <a:spcPts val="2900"/>
              </a:lnSpc>
              <a:spcBef>
                <a:spcPts val="1276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Calibri"/>
              </a:rPr>
              <a:t>Computer Prec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4440">
              <a:lnSpc>
                <a:spcPts val="2900"/>
              </a:lnSpc>
              <a:spcBef>
                <a:spcPts val="1276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Calibri"/>
              </a:rPr>
              <a:t>Spontaneous Deca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4440">
              <a:lnSpc>
                <a:spcPts val="2900"/>
              </a:lnSpc>
              <a:spcBef>
                <a:spcPts val="1276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Calibri"/>
              </a:rPr>
              <a:t>Biological Grow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4440">
              <a:lnSpc>
                <a:spcPts val="2900"/>
              </a:lnSpc>
              <a:spcBef>
                <a:spcPts val="1276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Calibri"/>
              </a:rPr>
              <a:t>Bug Population Dynam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4440">
              <a:lnSpc>
                <a:spcPts val="2900"/>
              </a:lnSpc>
              <a:spcBef>
                <a:spcPts val="1276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Calibri"/>
              </a:rPr>
              <a:t>Random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4440">
              <a:lnSpc>
                <a:spcPts val="2900"/>
              </a:lnSpc>
              <a:spcBef>
                <a:spcPts val="1276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Calibri"/>
              </a:rPr>
              <a:t>Random Wal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4440">
              <a:lnSpc>
                <a:spcPts val="2900"/>
              </a:lnSpc>
              <a:spcBef>
                <a:spcPts val="1276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Calibri"/>
              </a:rPr>
              <a:t>Projectiles + Dra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4440">
              <a:lnSpc>
                <a:spcPts val="2900"/>
              </a:lnSpc>
              <a:spcBef>
                <a:spcPts val="1276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Calibri"/>
              </a:rPr>
              <a:t>Trial &amp; Error 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Content Placeholder 4" descr="ModuleShot"/>
          <p:cNvPicPr/>
          <p:nvPr/>
        </p:nvPicPr>
        <p:blipFill>
          <a:blip r:embed="rId1"/>
          <a:stretch/>
        </p:blipFill>
        <p:spPr>
          <a:xfrm>
            <a:off x="4114800" y="76320"/>
            <a:ext cx="5029200" cy="67863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SilverBallsCrop.jpg"/>
          <p:cNvPicPr/>
          <p:nvPr/>
        </p:nvPicPr>
        <p:blipFill>
          <a:blip r:embed="rId2"/>
          <a:stretch/>
        </p:blipFill>
        <p:spPr>
          <a:xfrm>
            <a:off x="-9360" y="6091200"/>
            <a:ext cx="1533240" cy="771480"/>
          </a:xfrm>
          <a:prstGeom prst="rect">
            <a:avLst/>
          </a:prstGeom>
          <a:ln w="0">
            <a:noFill/>
          </a:ln>
        </p:spPr>
      </p:pic>
      <p:sp>
        <p:nvSpPr>
          <p:cNvPr id="123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NSTANCES, XSEDE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47005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c00000"/>
                </a:solidFill>
                <a:uFillTx/>
                <a:latin typeface="Calibri"/>
              </a:rPr>
              <a:t>Module 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E.G.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: Limits and Preci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Content Placeholder 4" descr="Figure17cDoubles"/>
          <p:cNvPicPr/>
          <p:nvPr/>
        </p:nvPicPr>
        <p:blipFill>
          <a:blip r:embed="rId1"/>
          <a:stretch/>
        </p:blipFill>
        <p:spPr>
          <a:xfrm>
            <a:off x="609480" y="1219320"/>
            <a:ext cx="3429000" cy="1904760"/>
          </a:xfrm>
          <a:prstGeom prst="rect">
            <a:avLst/>
          </a:prstGeom>
          <a:ln w="0">
            <a:noFill/>
          </a:ln>
        </p:spPr>
      </p:pic>
      <p:sp>
        <p:nvSpPr>
          <p:cNvPr id="127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NSTANCES, XSEDE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0"/>
          <p:cNvSpPr/>
          <p:nvPr/>
        </p:nvSpPr>
        <p:spPr>
          <a:xfrm>
            <a:off x="152280" y="3429000"/>
            <a:ext cx="457200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C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mputational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ience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hin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s =  experimental l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s =  fi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: natural, comput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ing pt numbers ǂ ex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exerc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SilverBallsCrop.jpg"/>
          <p:cNvPicPr/>
          <p:nvPr/>
        </p:nvPicPr>
        <p:blipFill>
          <a:blip r:embed="rId2"/>
          <a:stretch/>
        </p:blipFill>
        <p:spPr>
          <a:xfrm>
            <a:off x="152280" y="228600"/>
            <a:ext cx="1533600" cy="77148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2"/>
          <p:cNvGrpSpPr/>
          <p:nvPr/>
        </p:nvGrpSpPr>
        <p:grpSpPr>
          <a:xfrm>
            <a:off x="7010280" y="4419720"/>
            <a:ext cx="1524240" cy="380880"/>
            <a:chOff x="7010280" y="4419720"/>
            <a:chExt cx="1524240" cy="380880"/>
          </a:xfrm>
        </p:grpSpPr>
        <p:sp>
          <p:nvSpPr>
            <p:cNvPr id="131" name="Bevel 11"/>
            <p:cNvSpPr/>
            <p:nvPr/>
          </p:nvSpPr>
          <p:spPr>
            <a:xfrm>
              <a:off x="7010280" y="4419720"/>
              <a:ext cx="1524240" cy="380880"/>
            </a:xfrm>
            <a:prstGeom prst="bevel">
              <a:avLst>
                <a:gd name="adj" fmla="val 12500"/>
              </a:avLst>
            </a:prstGeom>
            <a:solidFill>
              <a:srgbClr val="7f7f7f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9"/>
            <p:cNvSpPr/>
            <p:nvPr/>
          </p:nvSpPr>
          <p:spPr>
            <a:xfrm>
              <a:off x="7168680" y="4419720"/>
              <a:ext cx="118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imits.p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Rectangle 10"/>
          <p:cNvSpPr/>
          <p:nvPr/>
        </p:nvSpPr>
        <p:spPr>
          <a:xfrm>
            <a:off x="3962520" y="131292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Limits in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4343400" y="435276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Limits in Pyth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Screen Shot 2013-07-13 at 10.53.11 AM.png"/>
          <p:cNvPicPr/>
          <p:nvPr/>
        </p:nvPicPr>
        <p:blipFill>
          <a:blip r:embed="rId3"/>
          <a:stretch/>
        </p:blipFill>
        <p:spPr>
          <a:xfrm>
            <a:off x="4419720" y="1836720"/>
            <a:ext cx="4576680" cy="243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Screen Shot 2013-07-13 at 4.23.28 PM.png"/>
          <p:cNvPicPr/>
          <p:nvPr/>
        </p:nvPicPr>
        <p:blipFill>
          <a:blip r:embed="rId4"/>
          <a:stretch/>
        </p:blipFill>
        <p:spPr>
          <a:xfrm>
            <a:off x="4470480" y="5002200"/>
            <a:ext cx="375912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4" descr="Screen Shot 2013-07-13 at 11.14.47 AM.png"/>
          <p:cNvPicPr/>
          <p:nvPr/>
        </p:nvPicPr>
        <p:blipFill>
          <a:blip r:embed="rId1"/>
          <a:stretch/>
        </p:blipFill>
        <p:spPr>
          <a:xfrm>
            <a:off x="4495680" y="1768320"/>
            <a:ext cx="4502160" cy="18892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E.G.</a:t>
            </a:r>
            <a:r>
              <a:rPr b="1" lang="en-US" sz="4000" spc="-1" strike="noStrike" u="sng">
                <a:solidFill>
                  <a:srgbClr val="c00000"/>
                </a:solidFill>
                <a:uFillTx/>
                <a:latin typeface="Calibri"/>
              </a:rPr>
              <a:t>: Limits and Preci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Precision"/>
          <p:cNvPicPr/>
          <p:nvPr/>
        </p:nvPicPr>
        <p:blipFill>
          <a:blip r:embed="rId2"/>
          <a:stretch/>
        </p:blipFill>
        <p:spPr>
          <a:xfrm>
            <a:off x="4572000" y="3352680"/>
            <a:ext cx="4191120" cy="3429000"/>
          </a:xfrm>
          <a:prstGeom prst="rect">
            <a:avLst/>
          </a:prstGeom>
          <a:ln w="0">
            <a:noFill/>
          </a:ln>
        </p:spPr>
      </p:pic>
      <p:pic>
        <p:nvPicPr>
          <p:cNvPr id="140" name="Content Placeholder 4" descr="Figure17cDoubles"/>
          <p:cNvPicPr/>
          <p:nvPr/>
        </p:nvPicPr>
        <p:blipFill>
          <a:blip r:embed="rId3"/>
          <a:stretch/>
        </p:blipFill>
        <p:spPr>
          <a:xfrm>
            <a:off x="609480" y="1219320"/>
            <a:ext cx="3429000" cy="190476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0"/>
          <p:cNvSpPr/>
          <p:nvPr/>
        </p:nvSpPr>
        <p:spPr>
          <a:xfrm>
            <a:off x="298440" y="3532320"/>
            <a:ext cx="4425840" cy="28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s =  experimental l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s =  fin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: natural, comput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→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ing pt numbers ǂ ex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 exerc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NSTANCES, XSEDE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SilverBallsCrop.jpg"/>
          <p:cNvPicPr/>
          <p:nvPr/>
        </p:nvPicPr>
        <p:blipFill>
          <a:blip r:embed="rId4"/>
          <a:stretch/>
        </p:blipFill>
        <p:spPr>
          <a:xfrm>
            <a:off x="152280" y="228600"/>
            <a:ext cx="1533600" cy="7714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0"/>
          <p:cNvSpPr/>
          <p:nvPr/>
        </p:nvSpPr>
        <p:spPr>
          <a:xfrm>
            <a:off x="4419720" y="12193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Precision in 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5029200" y="452916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libri"/>
              </a:rPr>
              <a:t>VenS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22:21:13Z</dcterms:created>
  <dc:creator>rubin</dc:creator>
  <dc:description/>
  <dc:language>en-US</dc:language>
  <cp:lastModifiedBy>Rubin Landau</cp:lastModifiedBy>
  <dcterms:modified xsi:type="dcterms:W3CDTF">2013-07-24T18:15:27Z</dcterms:modified>
  <cp:revision>121</cp:revision>
  <dc:subject/>
  <dc:title>Slide 1</dc:title>
</cp:coreProperties>
</file>